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69C-2C83-4CB9-B11F-FD41DD3C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466-6B1C-496C-9B2B-D6955A9B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EAC-2202-4B0F-A9FC-C59B3F7A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948-43B6-4621-A6D2-1DB0E0C2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E70-0B9C-4563-A2AB-44783BD0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727-FB33-48D6-8440-A1C791B7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ED4-3939-4418-BB07-09C9FD9D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F43-8A92-491A-8FAA-38AC462A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24C-84A3-4507-B1AD-4CDD0AFF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B9E-7873-4960-B1FE-DDC21FD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E61-D78C-420E-AD76-00F334D0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928-DD27-42EC-95E5-DABF0E03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A002-A3E5-461B-8D6B-5DAE2882C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following numbers in order from greatest to l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36, 547, 548, 5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7040" y="4125960"/>
            <a:ext cx="1901880" cy="428400"/>
          </a:xfrm>
          <a:custGeom>
            <a:avLst/>
            <a:gdLst/>
            <a:ahLst/>
            <a:rect l="l" t="t" r="r" b="b"/>
            <a:pathLst>
              <a:path w="5284" h="1191">
                <a:moveTo>
                  <a:pt x="11286" y="12328"/>
                </a:moveTo>
                <a:cubicBezTo>
                  <a:pt x="11272" y="12422"/>
                  <a:pt x="11252" y="12590"/>
                  <a:pt x="11212" y="12650"/>
                </a:cubicBezTo>
              </a:path>
              <a:path w="5284" h="1191">
                <a:moveTo>
                  <a:pt x="12626" y="11460"/>
                </a:moveTo>
                <a:cubicBezTo>
                  <a:pt x="12613" y="11557"/>
                  <a:pt x="12520" y="11843"/>
                  <a:pt x="12750" y="11782"/>
                </a:cubicBezTo>
                <a:cubicBezTo>
                  <a:pt x="12791" y="11757"/>
                  <a:pt x="12833" y="11733"/>
                  <a:pt x="12874" y="11708"/>
                </a:cubicBezTo>
              </a:path>
              <a:path w="5284" h="1191">
                <a:moveTo>
                  <a:pt x="13816" y="12229"/>
                </a:moveTo>
                <a:cubicBezTo>
                  <a:pt x="13792" y="12372"/>
                  <a:pt x="13786" y="12416"/>
                  <a:pt x="13742" y="12502"/>
                </a:cubicBezTo>
              </a:path>
              <a:path w="5284" h="1191">
                <a:moveTo>
                  <a:pt x="16495" y="12105"/>
                </a:moveTo>
                <a:cubicBezTo>
                  <a:pt x="16473" y="12212"/>
                  <a:pt x="16465" y="12236"/>
                  <a:pt x="16470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0" y="4098960"/>
            <a:ext cx="642960" cy="349200"/>
          </a:xfrm>
          <a:custGeom>
            <a:avLst/>
            <a:gdLst/>
            <a:ahLst/>
            <a:rect l="l" t="t" r="r" b="b"/>
            <a:pathLst>
              <a:path w="1786" h="969">
                <a:moveTo>
                  <a:pt x="9451" y="11485"/>
                </a:moveTo>
                <a:cubicBezTo>
                  <a:pt x="9555" y="11483"/>
                  <a:pt x="9307" y="11619"/>
                  <a:pt x="9252" y="11633"/>
                </a:cubicBezTo>
                <a:cubicBezTo>
                  <a:pt x="9154" y="11658"/>
                  <a:pt x="9176" y="11781"/>
                  <a:pt x="9153" y="11881"/>
                </a:cubicBezTo>
                <a:cubicBezTo>
                  <a:pt x="9134" y="11955"/>
                  <a:pt x="9126" y="11962"/>
                  <a:pt x="9128" y="12005"/>
                </a:cubicBezTo>
                <a:cubicBezTo>
                  <a:pt x="9257" y="11950"/>
                  <a:pt x="9373" y="11813"/>
                  <a:pt x="9525" y="11931"/>
                </a:cubicBezTo>
                <a:cubicBezTo>
                  <a:pt x="9746" y="12101"/>
                  <a:pt x="9294" y="12360"/>
                  <a:pt x="9153" y="12353"/>
                </a:cubicBezTo>
                <a:cubicBezTo>
                  <a:pt x="9128" y="12336"/>
                  <a:pt x="9104" y="12320"/>
                  <a:pt x="9079" y="12303"/>
                </a:cubicBezTo>
              </a:path>
              <a:path w="1786" h="969">
                <a:moveTo>
                  <a:pt x="9798" y="11559"/>
                </a:moveTo>
                <a:cubicBezTo>
                  <a:pt x="9811" y="11701"/>
                  <a:pt x="9820" y="11792"/>
                  <a:pt x="9773" y="11931"/>
                </a:cubicBezTo>
                <a:cubicBezTo>
                  <a:pt x="9988" y="11953"/>
                  <a:pt x="10143" y="11916"/>
                  <a:pt x="10344" y="11832"/>
                </a:cubicBezTo>
              </a:path>
              <a:path w="1786" h="969">
                <a:moveTo>
                  <a:pt x="10220" y="11435"/>
                </a:moveTo>
                <a:cubicBezTo>
                  <a:pt x="10205" y="11603"/>
                  <a:pt x="10050" y="12185"/>
                  <a:pt x="10145" y="12328"/>
                </a:cubicBezTo>
                <a:cubicBezTo>
                  <a:pt x="10153" y="12303"/>
                  <a:pt x="10162" y="12279"/>
                  <a:pt x="10170" y="12254"/>
                </a:cubicBezTo>
              </a:path>
              <a:path w="1786" h="969">
                <a:moveTo>
                  <a:pt x="10815" y="11385"/>
                </a:moveTo>
                <a:cubicBezTo>
                  <a:pt x="10695" y="11472"/>
                  <a:pt x="10272" y="11680"/>
                  <a:pt x="10492" y="11857"/>
                </a:cubicBezTo>
                <a:cubicBezTo>
                  <a:pt x="10697" y="12022"/>
                  <a:pt x="10770" y="11930"/>
                  <a:pt x="10740" y="12179"/>
                </a:cubicBezTo>
                <a:cubicBezTo>
                  <a:pt x="10707" y="12196"/>
                  <a:pt x="10674" y="12212"/>
                  <a:pt x="10641" y="12229"/>
                </a:cubicBezTo>
                <a:cubicBezTo>
                  <a:pt x="10481" y="12019"/>
                  <a:pt x="10733" y="11777"/>
                  <a:pt x="10840" y="11509"/>
                </a:cubicBezTo>
                <a:cubicBezTo>
                  <a:pt x="10936" y="11269"/>
                  <a:pt x="10702" y="11505"/>
                  <a:pt x="10666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32160" y="4054320"/>
            <a:ext cx="635040" cy="320760"/>
          </a:xfrm>
          <a:custGeom>
            <a:avLst/>
            <a:gdLst/>
            <a:ahLst/>
            <a:rect l="l" t="t" r="r" b="b"/>
            <a:pathLst>
              <a:path w="1763" h="894">
                <a:moveTo>
                  <a:pt x="12378" y="11311"/>
                </a:moveTo>
                <a:cubicBezTo>
                  <a:pt x="12231" y="11384"/>
                  <a:pt x="12038" y="11394"/>
                  <a:pt x="11906" y="11460"/>
                </a:cubicBezTo>
                <a:cubicBezTo>
                  <a:pt x="11871" y="11477"/>
                  <a:pt x="11845" y="11710"/>
                  <a:pt x="11832" y="11757"/>
                </a:cubicBezTo>
                <a:cubicBezTo>
                  <a:pt x="11935" y="11737"/>
                  <a:pt x="12073" y="11658"/>
                  <a:pt x="12179" y="11733"/>
                </a:cubicBezTo>
                <a:cubicBezTo>
                  <a:pt x="12401" y="11890"/>
                  <a:pt x="12073" y="12160"/>
                  <a:pt x="11906" y="12154"/>
                </a:cubicBezTo>
                <a:cubicBezTo>
                  <a:pt x="11856" y="12138"/>
                  <a:pt x="11807" y="12121"/>
                  <a:pt x="11757" y="12105"/>
                </a:cubicBezTo>
              </a:path>
              <a:path w="1763" h="894">
                <a:moveTo>
                  <a:pt x="12849" y="11361"/>
                </a:moveTo>
                <a:cubicBezTo>
                  <a:pt x="12842" y="11610"/>
                  <a:pt x="12572" y="12208"/>
                  <a:pt x="12799" y="12105"/>
                </a:cubicBezTo>
                <a:cubicBezTo>
                  <a:pt x="12816" y="12072"/>
                  <a:pt x="12832" y="12038"/>
                  <a:pt x="12849" y="12005"/>
                </a:cubicBezTo>
              </a:path>
              <a:path w="1763" h="894">
                <a:moveTo>
                  <a:pt x="13072" y="11261"/>
                </a:moveTo>
                <a:cubicBezTo>
                  <a:pt x="13238" y="11330"/>
                  <a:pt x="13322" y="11335"/>
                  <a:pt x="13494" y="11311"/>
                </a:cubicBezTo>
                <a:cubicBezTo>
                  <a:pt x="13502" y="11311"/>
                  <a:pt x="13511" y="11311"/>
                  <a:pt x="13519" y="11311"/>
                </a:cubicBezTo>
                <a:cubicBezTo>
                  <a:pt x="13505" y="11530"/>
                  <a:pt x="13443" y="11738"/>
                  <a:pt x="13419" y="11956"/>
                </a:cubicBezTo>
                <a:cubicBezTo>
                  <a:pt x="13419" y="11981"/>
                  <a:pt x="13419" y="12005"/>
                  <a:pt x="13419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4960" y="4071960"/>
            <a:ext cx="652320" cy="312840"/>
          </a:xfrm>
          <a:custGeom>
            <a:avLst/>
            <a:gdLst/>
            <a:ahLst/>
            <a:rect l="l" t="t" r="r" b="b"/>
            <a:pathLst>
              <a:path w="1812" h="869">
                <a:moveTo>
                  <a:pt x="14883" y="11385"/>
                </a:moveTo>
                <a:cubicBezTo>
                  <a:pt x="14828" y="11397"/>
                  <a:pt x="14589" y="11412"/>
                  <a:pt x="14585" y="11485"/>
                </a:cubicBezTo>
                <a:cubicBezTo>
                  <a:pt x="14580" y="11577"/>
                  <a:pt x="14567" y="11665"/>
                  <a:pt x="14560" y="11757"/>
                </a:cubicBezTo>
                <a:cubicBezTo>
                  <a:pt x="14702" y="11730"/>
                  <a:pt x="14773" y="11621"/>
                  <a:pt x="14932" y="11733"/>
                </a:cubicBezTo>
                <a:cubicBezTo>
                  <a:pt x="15190" y="11916"/>
                  <a:pt x="14771" y="12206"/>
                  <a:pt x="14585" y="12179"/>
                </a:cubicBezTo>
                <a:cubicBezTo>
                  <a:pt x="14552" y="12154"/>
                  <a:pt x="14519" y="12130"/>
                  <a:pt x="14486" y="12105"/>
                </a:cubicBezTo>
              </a:path>
              <a:path w="1812" h="869">
                <a:moveTo>
                  <a:pt x="15304" y="11336"/>
                </a:moveTo>
                <a:cubicBezTo>
                  <a:pt x="15386" y="11318"/>
                  <a:pt x="15625" y="11324"/>
                  <a:pt x="15553" y="11485"/>
                </a:cubicBezTo>
                <a:cubicBezTo>
                  <a:pt x="15468" y="11569"/>
                  <a:pt x="15454" y="11596"/>
                  <a:pt x="15379" y="11609"/>
                </a:cubicBezTo>
                <a:cubicBezTo>
                  <a:pt x="15561" y="11645"/>
                  <a:pt x="15769" y="11740"/>
                  <a:pt x="15553" y="11931"/>
                </a:cubicBezTo>
                <a:cubicBezTo>
                  <a:pt x="15381" y="12084"/>
                  <a:pt x="15302" y="12074"/>
                  <a:pt x="15205" y="11956"/>
                </a:cubicBezTo>
              </a:path>
              <a:path w="1812" h="869">
                <a:moveTo>
                  <a:pt x="15900" y="11311"/>
                </a:moveTo>
                <a:cubicBezTo>
                  <a:pt x="15900" y="11510"/>
                  <a:pt x="15825" y="11684"/>
                  <a:pt x="15825" y="11881"/>
                </a:cubicBezTo>
                <a:cubicBezTo>
                  <a:pt x="15825" y="12158"/>
                  <a:pt x="16071" y="12103"/>
                  <a:pt x="16222" y="11956"/>
                </a:cubicBezTo>
                <a:cubicBezTo>
                  <a:pt x="16286" y="11851"/>
                  <a:pt x="16318" y="11830"/>
                  <a:pt x="16272" y="11757"/>
                </a:cubicBezTo>
                <a:cubicBezTo>
                  <a:pt x="16105" y="11734"/>
                  <a:pt x="15925" y="11782"/>
                  <a:pt x="15925" y="12005"/>
                </a:cubicBezTo>
                <a:cubicBezTo>
                  <a:pt x="15969" y="12095"/>
                  <a:pt x="15975" y="12125"/>
                  <a:pt x="16049" y="121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9120" y="4027320"/>
            <a:ext cx="608040" cy="277920"/>
          </a:xfrm>
          <a:custGeom>
            <a:avLst/>
            <a:gdLst/>
            <a:ahLst/>
            <a:rect l="l" t="t" r="r" b="b"/>
            <a:pathLst>
              <a:path w="1687" h="770">
                <a:moveTo>
                  <a:pt x="17438" y="11261"/>
                </a:moveTo>
                <a:cubicBezTo>
                  <a:pt x="17352" y="11279"/>
                  <a:pt x="17199" y="11274"/>
                  <a:pt x="17140" y="11286"/>
                </a:cubicBezTo>
                <a:cubicBezTo>
                  <a:pt x="17091" y="11296"/>
                  <a:pt x="17060" y="11511"/>
                  <a:pt x="17041" y="11559"/>
                </a:cubicBezTo>
                <a:cubicBezTo>
                  <a:pt x="17110" y="11571"/>
                  <a:pt x="17333" y="11426"/>
                  <a:pt x="17413" y="11559"/>
                </a:cubicBezTo>
                <a:cubicBezTo>
                  <a:pt x="17538" y="11768"/>
                  <a:pt x="17236" y="11978"/>
                  <a:pt x="17066" y="11956"/>
                </a:cubicBezTo>
                <a:cubicBezTo>
                  <a:pt x="17025" y="11939"/>
                  <a:pt x="16983" y="11923"/>
                  <a:pt x="16942" y="11906"/>
                </a:cubicBezTo>
              </a:path>
              <a:path w="1687" h="770">
                <a:moveTo>
                  <a:pt x="17835" y="11237"/>
                </a:moveTo>
                <a:cubicBezTo>
                  <a:pt x="17881" y="11191"/>
                  <a:pt x="18101" y="11139"/>
                  <a:pt x="18157" y="11261"/>
                </a:cubicBezTo>
                <a:cubicBezTo>
                  <a:pt x="18206" y="11368"/>
                  <a:pt x="18041" y="11451"/>
                  <a:pt x="17983" y="11485"/>
                </a:cubicBezTo>
                <a:cubicBezTo>
                  <a:pt x="18081" y="11499"/>
                  <a:pt x="18295" y="11548"/>
                  <a:pt x="18207" y="11708"/>
                </a:cubicBezTo>
                <a:cubicBezTo>
                  <a:pt x="18123" y="11861"/>
                  <a:pt x="17896" y="11914"/>
                  <a:pt x="17785" y="11832"/>
                </a:cubicBezTo>
              </a:path>
              <a:path w="1687" h="770">
                <a:moveTo>
                  <a:pt x="18604" y="11187"/>
                </a:moveTo>
                <a:cubicBezTo>
                  <a:pt x="18629" y="11427"/>
                  <a:pt x="18628" y="11664"/>
                  <a:pt x="18628" y="11906"/>
                </a:cubicBezTo>
                <a:cubicBezTo>
                  <a:pt x="18628" y="11931"/>
                  <a:pt x="18628" y="11939"/>
                  <a:pt x="18604" y="119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8120" y="2581200"/>
            <a:ext cx="3402000" cy="2367000"/>
          </a:xfrm>
          <a:custGeom>
            <a:avLst/>
            <a:gdLst/>
            <a:ahLst/>
            <a:rect l="l" t="t" r="r" b="b"/>
            <a:pathLst>
              <a:path w="9452" h="6574">
                <a:moveTo>
                  <a:pt x="3944" y="9823"/>
                </a:moveTo>
                <a:lnTo>
                  <a:pt x="3944" y="9823"/>
                </a:lnTo>
              </a:path>
              <a:path w="9452" h="6574">
                <a:moveTo>
                  <a:pt x="2629" y="7367"/>
                </a:moveTo>
                <a:cubicBezTo>
                  <a:pt x="2710" y="7367"/>
                  <a:pt x="2787" y="7370"/>
                  <a:pt x="2877" y="7367"/>
                </a:cubicBezTo>
                <a:cubicBezTo>
                  <a:pt x="3019" y="7363"/>
                  <a:pt x="3159" y="7378"/>
                  <a:pt x="3299" y="7392"/>
                </a:cubicBezTo>
                <a:cubicBezTo>
                  <a:pt x="3432" y="7405"/>
                  <a:pt x="3561" y="7415"/>
                  <a:pt x="3696" y="7417"/>
                </a:cubicBezTo>
                <a:cubicBezTo>
                  <a:pt x="3747" y="7418"/>
                  <a:pt x="3858" y="7440"/>
                  <a:pt x="3870" y="7441"/>
                </a:cubicBezTo>
                <a:cubicBezTo>
                  <a:pt x="4023" y="7449"/>
                  <a:pt x="4167" y="7424"/>
                  <a:pt x="4316" y="7417"/>
                </a:cubicBezTo>
                <a:cubicBezTo>
                  <a:pt x="4500" y="7409"/>
                  <a:pt x="4680" y="7409"/>
                  <a:pt x="4862" y="7392"/>
                </a:cubicBezTo>
                <a:cubicBezTo>
                  <a:pt x="5069" y="7373"/>
                  <a:pt x="5277" y="7346"/>
                  <a:pt x="5482" y="7317"/>
                </a:cubicBezTo>
                <a:cubicBezTo>
                  <a:pt x="5599" y="7300"/>
                  <a:pt x="5709" y="7301"/>
                  <a:pt x="5829" y="7293"/>
                </a:cubicBezTo>
                <a:cubicBezTo>
                  <a:pt x="6036" y="7279"/>
                  <a:pt x="6240" y="7268"/>
                  <a:pt x="6449" y="7268"/>
                </a:cubicBezTo>
                <a:cubicBezTo>
                  <a:pt x="6633" y="7268"/>
                  <a:pt x="6817" y="7284"/>
                  <a:pt x="6995" y="7293"/>
                </a:cubicBezTo>
                <a:cubicBezTo>
                  <a:pt x="7106" y="7298"/>
                  <a:pt x="7207" y="7312"/>
                  <a:pt x="7317" y="7317"/>
                </a:cubicBezTo>
                <a:cubicBezTo>
                  <a:pt x="7846" y="7340"/>
                  <a:pt x="8405" y="7346"/>
                  <a:pt x="8930" y="7293"/>
                </a:cubicBezTo>
                <a:cubicBezTo>
                  <a:pt x="9135" y="7272"/>
                  <a:pt x="9343" y="7233"/>
                  <a:pt x="9550" y="7218"/>
                </a:cubicBezTo>
                <a:cubicBezTo>
                  <a:pt x="9682" y="7209"/>
                  <a:pt x="9795" y="7211"/>
                  <a:pt x="9922" y="7193"/>
                </a:cubicBezTo>
                <a:cubicBezTo>
                  <a:pt x="9997" y="7183"/>
                  <a:pt x="10069" y="7172"/>
                  <a:pt x="10145" y="7169"/>
                </a:cubicBezTo>
                <a:cubicBezTo>
                  <a:pt x="10322" y="7161"/>
                  <a:pt x="10497" y="7173"/>
                  <a:pt x="10666" y="7193"/>
                </a:cubicBezTo>
              </a:path>
              <a:path w="9452" h="6574">
                <a:moveTo>
                  <a:pt x="2307" y="7888"/>
                </a:moveTo>
                <a:cubicBezTo>
                  <a:pt x="2407" y="7873"/>
                  <a:pt x="2454" y="7846"/>
                  <a:pt x="2555" y="7838"/>
                </a:cubicBezTo>
                <a:cubicBezTo>
                  <a:pt x="2945" y="7807"/>
                  <a:pt x="3331" y="7836"/>
                  <a:pt x="3721" y="7813"/>
                </a:cubicBezTo>
                <a:cubicBezTo>
                  <a:pt x="4336" y="7777"/>
                  <a:pt x="4943" y="7651"/>
                  <a:pt x="5556" y="7590"/>
                </a:cubicBezTo>
                <a:cubicBezTo>
                  <a:pt x="5809" y="7565"/>
                  <a:pt x="6126" y="7491"/>
                  <a:pt x="6375" y="7516"/>
                </a:cubicBezTo>
                <a:cubicBezTo>
                  <a:pt x="6375" y="7524"/>
                  <a:pt x="6375" y="7533"/>
                  <a:pt x="6375" y="7541"/>
                </a:cubicBezTo>
              </a:path>
              <a:path w="9452" h="6574">
                <a:moveTo>
                  <a:pt x="2183" y="9674"/>
                </a:moveTo>
                <a:cubicBezTo>
                  <a:pt x="2157" y="9678"/>
                  <a:pt x="2003" y="9680"/>
                  <a:pt x="1984" y="9699"/>
                </a:cubicBezTo>
                <a:cubicBezTo>
                  <a:pt x="1940" y="9742"/>
                  <a:pt x="1904" y="9932"/>
                  <a:pt x="1885" y="9996"/>
                </a:cubicBezTo>
                <a:cubicBezTo>
                  <a:pt x="1885" y="10004"/>
                  <a:pt x="1885" y="10013"/>
                  <a:pt x="1885" y="10021"/>
                </a:cubicBezTo>
                <a:cubicBezTo>
                  <a:pt x="1975" y="9998"/>
                  <a:pt x="2049" y="9934"/>
                  <a:pt x="2158" y="9996"/>
                </a:cubicBezTo>
                <a:cubicBezTo>
                  <a:pt x="2321" y="10089"/>
                  <a:pt x="2314" y="10345"/>
                  <a:pt x="2133" y="10418"/>
                </a:cubicBezTo>
                <a:cubicBezTo>
                  <a:pt x="2000" y="10418"/>
                  <a:pt x="1950" y="10417"/>
                  <a:pt x="1860" y="10393"/>
                </a:cubicBezTo>
              </a:path>
              <a:path w="9452" h="6574">
                <a:moveTo>
                  <a:pt x="2505" y="9823"/>
                </a:moveTo>
                <a:cubicBezTo>
                  <a:pt x="2423" y="9796"/>
                  <a:pt x="2580" y="9730"/>
                  <a:pt x="2604" y="9723"/>
                </a:cubicBezTo>
                <a:cubicBezTo>
                  <a:pt x="2881" y="9646"/>
                  <a:pt x="2914" y="9829"/>
                  <a:pt x="2753" y="10021"/>
                </a:cubicBezTo>
                <a:cubicBezTo>
                  <a:pt x="2680" y="10076"/>
                  <a:pt x="2680" y="10101"/>
                  <a:pt x="2629" y="10096"/>
                </a:cubicBezTo>
                <a:cubicBezTo>
                  <a:pt x="2714" y="10039"/>
                  <a:pt x="2751" y="10025"/>
                  <a:pt x="2828" y="10071"/>
                </a:cubicBezTo>
                <a:cubicBezTo>
                  <a:pt x="2919" y="10277"/>
                  <a:pt x="2843" y="10510"/>
                  <a:pt x="2530" y="10443"/>
                </a:cubicBezTo>
                <a:cubicBezTo>
                  <a:pt x="2387" y="10348"/>
                  <a:pt x="2335" y="10322"/>
                  <a:pt x="2431" y="10195"/>
                </a:cubicBezTo>
              </a:path>
              <a:path w="9452" h="6574">
                <a:moveTo>
                  <a:pt x="3200" y="9699"/>
                </a:moveTo>
                <a:cubicBezTo>
                  <a:pt x="3163" y="9900"/>
                  <a:pt x="3072" y="10168"/>
                  <a:pt x="3150" y="10368"/>
                </a:cubicBezTo>
                <a:cubicBezTo>
                  <a:pt x="3175" y="10393"/>
                  <a:pt x="3200" y="10418"/>
                  <a:pt x="3225" y="10443"/>
                </a:cubicBezTo>
                <a:cubicBezTo>
                  <a:pt x="3484" y="10417"/>
                  <a:pt x="3522" y="10365"/>
                  <a:pt x="3597" y="10120"/>
                </a:cubicBezTo>
                <a:cubicBezTo>
                  <a:pt x="3418" y="10120"/>
                  <a:pt x="3383" y="10302"/>
                  <a:pt x="3299" y="10443"/>
                </a:cubicBezTo>
                <a:cubicBezTo>
                  <a:pt x="3274" y="10484"/>
                  <a:pt x="3250" y="10526"/>
                  <a:pt x="3225" y="10567"/>
                </a:cubicBezTo>
              </a:path>
              <a:path w="9452" h="6574">
                <a:moveTo>
                  <a:pt x="2332" y="10765"/>
                </a:moveTo>
                <a:cubicBezTo>
                  <a:pt x="2275" y="10770"/>
                  <a:pt x="2170" y="10761"/>
                  <a:pt x="2133" y="10815"/>
                </a:cubicBezTo>
                <a:cubicBezTo>
                  <a:pt x="2069" y="10910"/>
                  <a:pt x="2031" y="11009"/>
                  <a:pt x="1984" y="11112"/>
                </a:cubicBezTo>
                <a:cubicBezTo>
                  <a:pt x="2099" y="11112"/>
                  <a:pt x="2171" y="11057"/>
                  <a:pt x="2282" y="11137"/>
                </a:cubicBezTo>
                <a:cubicBezTo>
                  <a:pt x="2534" y="11318"/>
                  <a:pt x="2151" y="11522"/>
                  <a:pt x="2009" y="11559"/>
                </a:cubicBezTo>
                <a:cubicBezTo>
                  <a:pt x="1902" y="11559"/>
                  <a:pt x="1860" y="11576"/>
                  <a:pt x="1885" y="11485"/>
                </a:cubicBezTo>
              </a:path>
              <a:path w="9452" h="6574">
                <a:moveTo>
                  <a:pt x="2629" y="10864"/>
                </a:moveTo>
                <a:cubicBezTo>
                  <a:pt x="2612" y="10941"/>
                  <a:pt x="2490" y="11187"/>
                  <a:pt x="2654" y="11212"/>
                </a:cubicBezTo>
                <a:cubicBezTo>
                  <a:pt x="2801" y="11187"/>
                  <a:pt x="2849" y="11180"/>
                  <a:pt x="2927" y="11112"/>
                </a:cubicBezTo>
              </a:path>
              <a:path w="9452" h="6574">
                <a:moveTo>
                  <a:pt x="2877" y="10815"/>
                </a:moveTo>
                <a:cubicBezTo>
                  <a:pt x="2877" y="11033"/>
                  <a:pt x="2871" y="11245"/>
                  <a:pt x="2853" y="11460"/>
                </a:cubicBezTo>
                <a:cubicBezTo>
                  <a:pt x="2843" y="11573"/>
                  <a:pt x="2938" y="11356"/>
                  <a:pt x="3001" y="11261"/>
                </a:cubicBezTo>
              </a:path>
              <a:path w="9452" h="6574">
                <a:moveTo>
                  <a:pt x="3101" y="10864"/>
                </a:moveTo>
                <a:cubicBezTo>
                  <a:pt x="3195" y="10825"/>
                  <a:pt x="3338" y="10830"/>
                  <a:pt x="3448" y="10815"/>
                </a:cubicBezTo>
                <a:cubicBezTo>
                  <a:pt x="3456" y="10815"/>
                  <a:pt x="3465" y="10815"/>
                  <a:pt x="3473" y="10815"/>
                </a:cubicBezTo>
                <a:cubicBezTo>
                  <a:pt x="3473" y="11025"/>
                  <a:pt x="3443" y="11227"/>
                  <a:pt x="3423" y="11435"/>
                </a:cubicBezTo>
                <a:cubicBezTo>
                  <a:pt x="3423" y="11452"/>
                  <a:pt x="3423" y="11468"/>
                  <a:pt x="3423" y="11485"/>
                </a:cubicBezTo>
              </a:path>
              <a:path w="9452" h="6574">
                <a:moveTo>
                  <a:pt x="2133" y="11956"/>
                </a:moveTo>
                <a:cubicBezTo>
                  <a:pt x="2076" y="11964"/>
                  <a:pt x="2004" y="11975"/>
                  <a:pt x="1960" y="12005"/>
                </a:cubicBezTo>
                <a:cubicBezTo>
                  <a:pt x="1921" y="12031"/>
                  <a:pt x="1898" y="12135"/>
                  <a:pt x="1885" y="12179"/>
                </a:cubicBezTo>
                <a:cubicBezTo>
                  <a:pt x="1878" y="12203"/>
                  <a:pt x="1950" y="12280"/>
                  <a:pt x="1960" y="12328"/>
                </a:cubicBezTo>
                <a:cubicBezTo>
                  <a:pt x="1960" y="12345"/>
                  <a:pt x="1960" y="12361"/>
                  <a:pt x="1960" y="12378"/>
                </a:cubicBezTo>
                <a:cubicBezTo>
                  <a:pt x="2008" y="12354"/>
                  <a:pt x="2153" y="12322"/>
                  <a:pt x="2158" y="12427"/>
                </a:cubicBezTo>
                <a:cubicBezTo>
                  <a:pt x="2165" y="12589"/>
                  <a:pt x="1942" y="12595"/>
                  <a:pt x="1836" y="12601"/>
                </a:cubicBezTo>
                <a:cubicBezTo>
                  <a:pt x="1828" y="12601"/>
                  <a:pt x="1819" y="12601"/>
                  <a:pt x="1811" y="12601"/>
                </a:cubicBezTo>
              </a:path>
              <a:path w="9452" h="6574">
                <a:moveTo>
                  <a:pt x="2704" y="11956"/>
                </a:moveTo>
                <a:cubicBezTo>
                  <a:pt x="2686" y="12074"/>
                  <a:pt x="2673" y="12141"/>
                  <a:pt x="2704" y="12254"/>
                </a:cubicBezTo>
                <a:cubicBezTo>
                  <a:pt x="2825" y="12240"/>
                  <a:pt x="2932" y="12212"/>
                  <a:pt x="3051" y="12179"/>
                </a:cubicBezTo>
              </a:path>
              <a:path w="9452" h="6574">
                <a:moveTo>
                  <a:pt x="3051" y="11832"/>
                </a:moveTo>
                <a:cubicBezTo>
                  <a:pt x="3051" y="12025"/>
                  <a:pt x="3041" y="12213"/>
                  <a:pt x="3001" y="12402"/>
                </a:cubicBezTo>
                <a:cubicBezTo>
                  <a:pt x="2979" y="12470"/>
                  <a:pt x="2968" y="12502"/>
                  <a:pt x="3001" y="12427"/>
                </a:cubicBezTo>
              </a:path>
              <a:path w="9452" h="6574">
                <a:moveTo>
                  <a:pt x="3671" y="11683"/>
                </a:moveTo>
                <a:cubicBezTo>
                  <a:pt x="3569" y="11741"/>
                  <a:pt x="3406" y="11883"/>
                  <a:pt x="3448" y="12030"/>
                </a:cubicBezTo>
                <a:cubicBezTo>
                  <a:pt x="3493" y="12186"/>
                  <a:pt x="3703" y="12227"/>
                  <a:pt x="3597" y="12378"/>
                </a:cubicBezTo>
                <a:cubicBezTo>
                  <a:pt x="3425" y="12224"/>
                  <a:pt x="3539" y="12087"/>
                  <a:pt x="3621" y="11881"/>
                </a:cubicBezTo>
                <a:cubicBezTo>
                  <a:pt x="3640" y="11824"/>
                  <a:pt x="3649" y="11781"/>
                  <a:pt x="3646" y="11832"/>
                </a:cubicBezTo>
              </a:path>
              <a:path w="9452" h="6574">
                <a:moveTo>
                  <a:pt x="2555" y="12799"/>
                </a:moveTo>
                <a:cubicBezTo>
                  <a:pt x="2468" y="12821"/>
                  <a:pt x="2382" y="12844"/>
                  <a:pt x="2282" y="12849"/>
                </a:cubicBezTo>
                <a:cubicBezTo>
                  <a:pt x="2241" y="12851"/>
                  <a:pt x="2198" y="13057"/>
                  <a:pt x="2183" y="13097"/>
                </a:cubicBezTo>
                <a:cubicBezTo>
                  <a:pt x="2183" y="13105"/>
                  <a:pt x="2183" y="13114"/>
                  <a:pt x="2183" y="13122"/>
                </a:cubicBezTo>
                <a:cubicBezTo>
                  <a:pt x="2303" y="13092"/>
                  <a:pt x="2393" y="13039"/>
                  <a:pt x="2530" y="13022"/>
                </a:cubicBezTo>
                <a:cubicBezTo>
                  <a:pt x="2588" y="13267"/>
                  <a:pt x="2466" y="13460"/>
                  <a:pt x="2183" y="13519"/>
                </a:cubicBezTo>
                <a:cubicBezTo>
                  <a:pt x="2081" y="13493"/>
                  <a:pt x="2047" y="13482"/>
                  <a:pt x="2034" y="13395"/>
                </a:cubicBezTo>
              </a:path>
              <a:path w="9452" h="6574">
                <a:moveTo>
                  <a:pt x="2902" y="12874"/>
                </a:moveTo>
                <a:cubicBezTo>
                  <a:pt x="2955" y="12821"/>
                  <a:pt x="3108" y="12732"/>
                  <a:pt x="3150" y="12849"/>
                </a:cubicBezTo>
                <a:cubicBezTo>
                  <a:pt x="3120" y="12966"/>
                  <a:pt x="3097" y="13011"/>
                  <a:pt x="3001" y="13047"/>
                </a:cubicBezTo>
                <a:cubicBezTo>
                  <a:pt x="2976" y="13064"/>
                  <a:pt x="2952" y="13080"/>
                  <a:pt x="2927" y="13097"/>
                </a:cubicBezTo>
                <a:cubicBezTo>
                  <a:pt x="2988" y="12994"/>
                  <a:pt x="3195" y="12968"/>
                  <a:pt x="3274" y="13097"/>
                </a:cubicBezTo>
                <a:cubicBezTo>
                  <a:pt x="3395" y="13293"/>
                  <a:pt x="2944" y="13431"/>
                  <a:pt x="2828" y="13370"/>
                </a:cubicBezTo>
                <a:cubicBezTo>
                  <a:pt x="2828" y="13262"/>
                  <a:pt x="2852" y="13213"/>
                  <a:pt x="2952" y="13171"/>
                </a:cubicBezTo>
              </a:path>
              <a:path w="9452" h="6574">
                <a:moveTo>
                  <a:pt x="3795" y="12650"/>
                </a:moveTo>
                <a:cubicBezTo>
                  <a:pt x="3806" y="12894"/>
                  <a:pt x="3804" y="13126"/>
                  <a:pt x="3795" y="13370"/>
                </a:cubicBezTo>
              </a:path>
              <a:path w="9452" h="6574">
                <a:moveTo>
                  <a:pt x="2009" y="8558"/>
                </a:moveTo>
                <a:cubicBezTo>
                  <a:pt x="2009" y="8674"/>
                  <a:pt x="2051" y="8769"/>
                  <a:pt x="2084" y="8880"/>
                </a:cubicBezTo>
                <a:cubicBezTo>
                  <a:pt x="2110" y="9017"/>
                  <a:pt x="2064" y="8800"/>
                  <a:pt x="2059" y="8781"/>
                </a:cubicBezTo>
                <a:cubicBezTo>
                  <a:pt x="2033" y="8672"/>
                  <a:pt x="2029" y="8567"/>
                  <a:pt x="2009" y="8458"/>
                </a:cubicBezTo>
                <a:cubicBezTo>
                  <a:pt x="1987" y="8374"/>
                  <a:pt x="2001" y="8427"/>
                  <a:pt x="2009" y="8483"/>
                </a:cubicBezTo>
                <a:cubicBezTo>
                  <a:pt x="2011" y="8498"/>
                  <a:pt x="2056" y="8956"/>
                  <a:pt x="2034" y="8855"/>
                </a:cubicBezTo>
                <a:cubicBezTo>
                  <a:pt x="2005" y="8724"/>
                  <a:pt x="1988" y="8590"/>
                  <a:pt x="1960" y="8458"/>
                </a:cubicBezTo>
                <a:cubicBezTo>
                  <a:pt x="1957" y="8450"/>
                  <a:pt x="1923" y="8320"/>
                  <a:pt x="1935" y="8384"/>
                </a:cubicBezTo>
                <a:cubicBezTo>
                  <a:pt x="1978" y="8617"/>
                  <a:pt x="2019" y="8842"/>
                  <a:pt x="2034" y="9079"/>
                </a:cubicBezTo>
                <a:cubicBezTo>
                  <a:pt x="2034" y="8864"/>
                  <a:pt x="2034" y="8649"/>
                  <a:pt x="2034" y="8434"/>
                </a:cubicBezTo>
                <a:cubicBezTo>
                  <a:pt x="2034" y="8608"/>
                  <a:pt x="2079" y="8784"/>
                  <a:pt x="2108" y="8954"/>
                </a:cubicBezTo>
                <a:cubicBezTo>
                  <a:pt x="2122" y="9037"/>
                  <a:pt x="2118" y="9211"/>
                  <a:pt x="2108" y="9128"/>
                </a:cubicBezTo>
                <a:cubicBezTo>
                  <a:pt x="2108" y="9095"/>
                  <a:pt x="2108" y="9079"/>
                  <a:pt x="2108" y="9054"/>
                </a:cubicBezTo>
              </a:path>
              <a:path w="9452" h="6574">
                <a:moveTo>
                  <a:pt x="2108" y="9004"/>
                </a:moveTo>
                <a:cubicBezTo>
                  <a:pt x="2086" y="8981"/>
                  <a:pt x="2078" y="8976"/>
                  <a:pt x="2084" y="8954"/>
                </a:cubicBezTo>
                <a:cubicBezTo>
                  <a:pt x="2101" y="9129"/>
                  <a:pt x="2125" y="9300"/>
                  <a:pt x="2133" y="9475"/>
                </a:cubicBezTo>
              </a:path>
              <a:path w="9452" h="6574">
                <a:moveTo>
                  <a:pt x="1960" y="9203"/>
                </a:moveTo>
                <a:cubicBezTo>
                  <a:pt x="2051" y="9258"/>
                  <a:pt x="2098" y="9398"/>
                  <a:pt x="2183" y="9475"/>
                </a:cubicBezTo>
                <a:cubicBezTo>
                  <a:pt x="2278" y="9561"/>
                  <a:pt x="2299" y="9252"/>
                  <a:pt x="2381" y="9153"/>
                </a:cubicBezTo>
                <a:cubicBezTo>
                  <a:pt x="2359" y="9286"/>
                  <a:pt x="2299" y="9353"/>
                  <a:pt x="2208" y="9451"/>
                </a:cubicBezTo>
                <a:cubicBezTo>
                  <a:pt x="2173" y="9488"/>
                  <a:pt x="2130" y="9545"/>
                  <a:pt x="2108" y="9500"/>
                </a:cubicBezTo>
                <a:cubicBezTo>
                  <a:pt x="2073" y="9430"/>
                  <a:pt x="2027" y="9347"/>
                  <a:pt x="1984" y="9277"/>
                </a:cubicBezTo>
                <a:cubicBezTo>
                  <a:pt x="1865" y="9155"/>
                  <a:pt x="2095" y="9449"/>
                  <a:pt x="2133" y="9500"/>
                </a:cubicBezTo>
              </a:path>
              <a:path w="9452" h="6574">
                <a:moveTo>
                  <a:pt x="2480" y="9351"/>
                </a:moveTo>
                <a:cubicBezTo>
                  <a:pt x="2480" y="9359"/>
                  <a:pt x="2480" y="9368"/>
                  <a:pt x="2480" y="9376"/>
                </a:cubicBezTo>
              </a:path>
              <a:path w="9452" h="6574">
                <a:moveTo>
                  <a:pt x="2108" y="9500"/>
                </a:moveTo>
                <a:cubicBezTo>
                  <a:pt x="2113" y="9563"/>
                  <a:pt x="2127" y="9612"/>
                  <a:pt x="2133" y="9674"/>
                </a:cubicBezTo>
                <a:cubicBezTo>
                  <a:pt x="2151" y="9853"/>
                  <a:pt x="2144" y="10047"/>
                  <a:pt x="2158" y="10220"/>
                </a:cubicBezTo>
                <a:cubicBezTo>
                  <a:pt x="2176" y="10450"/>
                  <a:pt x="2153" y="10693"/>
                  <a:pt x="2133" y="10914"/>
                </a:cubicBezTo>
                <a:cubicBezTo>
                  <a:pt x="2108" y="11196"/>
                  <a:pt x="2127" y="11505"/>
                  <a:pt x="2158" y="11782"/>
                </a:cubicBezTo>
                <a:cubicBezTo>
                  <a:pt x="2170" y="11888"/>
                  <a:pt x="2166" y="12001"/>
                  <a:pt x="2183" y="12105"/>
                </a:cubicBezTo>
                <a:cubicBezTo>
                  <a:pt x="2195" y="12178"/>
                  <a:pt x="2205" y="12168"/>
                  <a:pt x="2208" y="12229"/>
                </a:cubicBezTo>
                <a:cubicBezTo>
                  <a:pt x="2215" y="12405"/>
                  <a:pt x="2216" y="12578"/>
                  <a:pt x="2232" y="12750"/>
                </a:cubicBezTo>
                <a:cubicBezTo>
                  <a:pt x="2244" y="12879"/>
                  <a:pt x="2280" y="12999"/>
                  <a:pt x="2307" y="13122"/>
                </a:cubicBezTo>
                <a:cubicBezTo>
                  <a:pt x="2325" y="13204"/>
                  <a:pt x="2318" y="13288"/>
                  <a:pt x="2332" y="13370"/>
                </a:cubicBezTo>
                <a:cubicBezTo>
                  <a:pt x="2352" y="13489"/>
                  <a:pt x="2356" y="13596"/>
                  <a:pt x="2356" y="13717"/>
                </a:cubicBezTo>
                <a:cubicBezTo>
                  <a:pt x="2356" y="13774"/>
                  <a:pt x="2356" y="13732"/>
                  <a:pt x="2356" y="13692"/>
                </a:cubicBezTo>
              </a:path>
              <a:path w="9452" h="6574">
                <a:moveTo>
                  <a:pt x="3894" y="10691"/>
                </a:moveTo>
                <a:cubicBezTo>
                  <a:pt x="3859" y="10693"/>
                  <a:pt x="3823" y="10707"/>
                  <a:pt x="3746" y="10691"/>
                </a:cubicBezTo>
                <a:cubicBezTo>
                  <a:pt x="3627" y="10666"/>
                  <a:pt x="3519" y="10666"/>
                  <a:pt x="3398" y="10666"/>
                </a:cubicBezTo>
                <a:cubicBezTo>
                  <a:pt x="3358" y="10666"/>
                  <a:pt x="3261" y="10657"/>
                  <a:pt x="3200" y="10666"/>
                </a:cubicBezTo>
                <a:cubicBezTo>
                  <a:pt x="3123" y="10678"/>
                  <a:pt x="3115" y="10671"/>
                  <a:pt x="3026" y="10666"/>
                </a:cubicBezTo>
                <a:cubicBezTo>
                  <a:pt x="2891" y="10658"/>
                  <a:pt x="2762" y="10684"/>
                  <a:pt x="2629" y="10691"/>
                </a:cubicBezTo>
                <a:cubicBezTo>
                  <a:pt x="2460" y="10700"/>
                  <a:pt x="2299" y="10682"/>
                  <a:pt x="2133" y="10716"/>
                </a:cubicBezTo>
                <a:cubicBezTo>
                  <a:pt x="2050" y="10733"/>
                  <a:pt x="1967" y="10738"/>
                  <a:pt x="1885" y="10765"/>
                </a:cubicBezTo>
                <a:cubicBezTo>
                  <a:pt x="1736" y="10815"/>
                  <a:pt x="1581" y="10936"/>
                  <a:pt x="1463" y="11038"/>
                </a:cubicBezTo>
                <a:cubicBezTo>
                  <a:pt x="1344" y="11141"/>
                  <a:pt x="1288" y="11314"/>
                  <a:pt x="1240" y="11460"/>
                </a:cubicBezTo>
                <a:cubicBezTo>
                  <a:pt x="1202" y="11577"/>
                  <a:pt x="1200" y="11735"/>
                  <a:pt x="1215" y="11857"/>
                </a:cubicBezTo>
                <a:cubicBezTo>
                  <a:pt x="1228" y="11967"/>
                  <a:pt x="1265" y="12068"/>
                  <a:pt x="1290" y="12179"/>
                </a:cubicBezTo>
                <a:cubicBezTo>
                  <a:pt x="1315" y="12292"/>
                  <a:pt x="1314" y="12358"/>
                  <a:pt x="1364" y="12452"/>
                </a:cubicBezTo>
                <a:cubicBezTo>
                  <a:pt x="1414" y="12545"/>
                  <a:pt x="1433" y="12563"/>
                  <a:pt x="1488" y="12601"/>
                </a:cubicBezTo>
                <a:cubicBezTo>
                  <a:pt x="1562" y="12653"/>
                  <a:pt x="1601" y="12651"/>
                  <a:pt x="1687" y="12675"/>
                </a:cubicBezTo>
                <a:cubicBezTo>
                  <a:pt x="1767" y="12697"/>
                  <a:pt x="1823" y="12698"/>
                  <a:pt x="1910" y="12700"/>
                </a:cubicBezTo>
                <a:cubicBezTo>
                  <a:pt x="2039" y="12703"/>
                  <a:pt x="2137" y="12646"/>
                  <a:pt x="2257" y="12626"/>
                </a:cubicBezTo>
                <a:cubicBezTo>
                  <a:pt x="2323" y="12615"/>
                  <a:pt x="2367" y="12618"/>
                  <a:pt x="2431" y="12601"/>
                </a:cubicBezTo>
                <a:cubicBezTo>
                  <a:pt x="2559" y="12566"/>
                  <a:pt x="2673" y="12543"/>
                  <a:pt x="2803" y="12526"/>
                </a:cubicBezTo>
                <a:cubicBezTo>
                  <a:pt x="2910" y="12512"/>
                  <a:pt x="3016" y="12512"/>
                  <a:pt x="3125" y="12502"/>
                </a:cubicBezTo>
                <a:cubicBezTo>
                  <a:pt x="3249" y="12490"/>
                  <a:pt x="3369" y="12456"/>
                  <a:pt x="3497" y="12452"/>
                </a:cubicBezTo>
                <a:cubicBezTo>
                  <a:pt x="3598" y="12449"/>
                  <a:pt x="3702" y="12434"/>
                  <a:pt x="3795" y="12427"/>
                </a:cubicBezTo>
                <a:cubicBezTo>
                  <a:pt x="3916" y="12418"/>
                  <a:pt x="4056" y="12399"/>
                  <a:pt x="4167" y="12353"/>
                </a:cubicBezTo>
                <a:cubicBezTo>
                  <a:pt x="4220" y="12331"/>
                  <a:pt x="4278" y="12273"/>
                  <a:pt x="4316" y="12229"/>
                </a:cubicBezTo>
                <a:cubicBezTo>
                  <a:pt x="4411" y="12119"/>
                  <a:pt x="4452" y="11951"/>
                  <a:pt x="4465" y="11807"/>
                </a:cubicBezTo>
                <a:cubicBezTo>
                  <a:pt x="4476" y="11687"/>
                  <a:pt x="4475" y="11499"/>
                  <a:pt x="4440" y="11385"/>
                </a:cubicBezTo>
                <a:cubicBezTo>
                  <a:pt x="4413" y="11298"/>
                  <a:pt x="4341" y="11233"/>
                  <a:pt x="4291" y="11162"/>
                </a:cubicBezTo>
                <a:cubicBezTo>
                  <a:pt x="4252" y="11107"/>
                  <a:pt x="4231" y="11067"/>
                  <a:pt x="4192" y="11013"/>
                </a:cubicBezTo>
                <a:cubicBezTo>
                  <a:pt x="4124" y="10918"/>
                  <a:pt x="4089" y="10921"/>
                  <a:pt x="3994" y="10864"/>
                </a:cubicBezTo>
                <a:cubicBezTo>
                  <a:pt x="3923" y="10821"/>
                  <a:pt x="3891" y="10798"/>
                  <a:pt x="3820" y="107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24040" y="4626000"/>
            <a:ext cx="71280" cy="133200"/>
          </a:xfrm>
          <a:custGeom>
            <a:avLst/>
            <a:gdLst/>
            <a:ahLst/>
            <a:rect l="l" t="t" r="r" b="b"/>
            <a:pathLst>
              <a:path w="200" h="373">
                <a:moveTo>
                  <a:pt x="4787" y="12849"/>
                </a:moveTo>
                <a:cubicBezTo>
                  <a:pt x="4860" y="12973"/>
                  <a:pt x="4941" y="13086"/>
                  <a:pt x="4986" y="132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66920" y="3394080"/>
            <a:ext cx="544320" cy="1535040"/>
          </a:xfrm>
          <a:custGeom>
            <a:avLst/>
            <a:gdLst/>
            <a:ahLst/>
            <a:rect l="l" t="t" r="r" b="b"/>
            <a:pathLst>
              <a:path w="1514" h="4267">
                <a:moveTo>
                  <a:pt x="4862" y="11807"/>
                </a:moveTo>
                <a:cubicBezTo>
                  <a:pt x="4885" y="11902"/>
                  <a:pt x="4919" y="12021"/>
                  <a:pt x="4961" y="12105"/>
                </a:cubicBezTo>
              </a:path>
              <a:path w="1514" h="4267">
                <a:moveTo>
                  <a:pt x="4787" y="12229"/>
                </a:moveTo>
                <a:cubicBezTo>
                  <a:pt x="5013" y="12341"/>
                  <a:pt x="5110" y="12319"/>
                  <a:pt x="5234" y="12080"/>
                </a:cubicBezTo>
                <a:cubicBezTo>
                  <a:pt x="5326" y="11904"/>
                  <a:pt x="5241" y="11683"/>
                  <a:pt x="5011" y="11683"/>
                </a:cubicBezTo>
                <a:cubicBezTo>
                  <a:pt x="4754" y="11683"/>
                  <a:pt x="4577" y="11924"/>
                  <a:pt x="4713" y="12154"/>
                </a:cubicBezTo>
                <a:cubicBezTo>
                  <a:pt x="4905" y="12479"/>
                  <a:pt x="5050" y="12290"/>
                  <a:pt x="5085" y="12055"/>
                </a:cubicBezTo>
              </a:path>
              <a:path w="1514" h="4267">
                <a:moveTo>
                  <a:pt x="4614" y="11112"/>
                </a:moveTo>
                <a:cubicBezTo>
                  <a:pt x="4614" y="11033"/>
                  <a:pt x="4620" y="11043"/>
                  <a:pt x="4663" y="10964"/>
                </a:cubicBezTo>
                <a:cubicBezTo>
                  <a:pt x="4788" y="10964"/>
                  <a:pt x="4752" y="11071"/>
                  <a:pt x="4738" y="11162"/>
                </a:cubicBezTo>
                <a:cubicBezTo>
                  <a:pt x="4724" y="11250"/>
                  <a:pt x="4689" y="11290"/>
                  <a:pt x="4713" y="11361"/>
                </a:cubicBezTo>
                <a:cubicBezTo>
                  <a:pt x="4794" y="11292"/>
                  <a:pt x="4874" y="11220"/>
                  <a:pt x="4961" y="11162"/>
                </a:cubicBezTo>
              </a:path>
              <a:path w="1514" h="4267">
                <a:moveTo>
                  <a:pt x="4713" y="11410"/>
                </a:moveTo>
                <a:cubicBezTo>
                  <a:pt x="4861" y="11515"/>
                  <a:pt x="4961" y="11457"/>
                  <a:pt x="5085" y="11311"/>
                </a:cubicBezTo>
                <a:cubicBezTo>
                  <a:pt x="5196" y="11180"/>
                  <a:pt x="5278" y="10943"/>
                  <a:pt x="5159" y="10790"/>
                </a:cubicBezTo>
                <a:cubicBezTo>
                  <a:pt x="4987" y="10570"/>
                  <a:pt x="4745" y="10638"/>
                  <a:pt x="4539" y="10765"/>
                </a:cubicBezTo>
                <a:cubicBezTo>
                  <a:pt x="4309" y="10907"/>
                  <a:pt x="4344" y="11139"/>
                  <a:pt x="4465" y="11361"/>
                </a:cubicBezTo>
                <a:cubicBezTo>
                  <a:pt x="4613" y="11631"/>
                  <a:pt x="4714" y="11513"/>
                  <a:pt x="4911" y="11410"/>
                </a:cubicBezTo>
              </a:path>
              <a:path w="1514" h="4267">
                <a:moveTo>
                  <a:pt x="4217" y="9798"/>
                </a:moveTo>
                <a:cubicBezTo>
                  <a:pt x="4217" y="9720"/>
                  <a:pt x="4248" y="9716"/>
                  <a:pt x="4316" y="9699"/>
                </a:cubicBezTo>
                <a:cubicBezTo>
                  <a:pt x="4327" y="9756"/>
                  <a:pt x="4331" y="9937"/>
                  <a:pt x="4291" y="9897"/>
                </a:cubicBezTo>
                <a:cubicBezTo>
                  <a:pt x="4405" y="9831"/>
                  <a:pt x="4524" y="9852"/>
                  <a:pt x="4490" y="10021"/>
                </a:cubicBezTo>
                <a:cubicBezTo>
                  <a:pt x="4460" y="10168"/>
                  <a:pt x="4332" y="10164"/>
                  <a:pt x="4217" y="10195"/>
                </a:cubicBezTo>
              </a:path>
              <a:path w="1514" h="4267">
                <a:moveTo>
                  <a:pt x="4266" y="10418"/>
                </a:moveTo>
                <a:cubicBezTo>
                  <a:pt x="4540" y="10396"/>
                  <a:pt x="4749" y="10348"/>
                  <a:pt x="4837" y="10046"/>
                </a:cubicBezTo>
                <a:cubicBezTo>
                  <a:pt x="4912" y="9789"/>
                  <a:pt x="4840" y="9447"/>
                  <a:pt x="4514" y="9426"/>
                </a:cubicBezTo>
                <a:cubicBezTo>
                  <a:pt x="4238" y="9408"/>
                  <a:pt x="3809" y="9671"/>
                  <a:pt x="3795" y="9971"/>
                </a:cubicBezTo>
                <a:cubicBezTo>
                  <a:pt x="3779" y="10306"/>
                  <a:pt x="4179" y="10388"/>
                  <a:pt x="4415" y="10443"/>
                </a:cubicBezTo>
              </a:path>
              <a:path w="1514" h="4267">
                <a:moveTo>
                  <a:pt x="4663" y="12998"/>
                </a:moveTo>
                <a:cubicBezTo>
                  <a:pt x="4655" y="13056"/>
                  <a:pt x="4644" y="13113"/>
                  <a:pt x="4638" y="13171"/>
                </a:cubicBezTo>
                <a:cubicBezTo>
                  <a:pt x="4727" y="13133"/>
                  <a:pt x="4806" y="13094"/>
                  <a:pt x="4837" y="13022"/>
                </a:cubicBezTo>
              </a:path>
              <a:path w="1514" h="4267">
                <a:moveTo>
                  <a:pt x="4564" y="13469"/>
                </a:moveTo>
                <a:cubicBezTo>
                  <a:pt x="4799" y="13599"/>
                  <a:pt x="4968" y="13598"/>
                  <a:pt x="5159" y="13370"/>
                </a:cubicBezTo>
                <a:cubicBezTo>
                  <a:pt x="5346" y="13146"/>
                  <a:pt x="5348" y="12890"/>
                  <a:pt x="5110" y="12700"/>
                </a:cubicBezTo>
                <a:cubicBezTo>
                  <a:pt x="4884" y="12520"/>
                  <a:pt x="4482" y="12542"/>
                  <a:pt x="4291" y="12774"/>
                </a:cubicBezTo>
                <a:cubicBezTo>
                  <a:pt x="3944" y="13195"/>
                  <a:pt x="4408" y="13528"/>
                  <a:pt x="4713" y="1369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12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77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49800" y="5742000"/>
            <a:ext cx="1787400" cy="115920"/>
          </a:xfrm>
          <a:custGeom>
            <a:avLst/>
            <a:gdLst/>
            <a:ahLst/>
            <a:rect l="l" t="t" r="r" b="b"/>
            <a:pathLst>
              <a:path w="4962" h="324">
                <a:moveTo>
                  <a:pt x="11832" y="15949"/>
                </a:moveTo>
                <a:cubicBezTo>
                  <a:pt x="11865" y="16041"/>
                  <a:pt x="11774" y="15962"/>
                  <a:pt x="11931" y="16073"/>
                </a:cubicBezTo>
                <a:cubicBezTo>
                  <a:pt x="12057" y="16162"/>
                  <a:pt x="12131" y="16216"/>
                  <a:pt x="12278" y="16123"/>
                </a:cubicBezTo>
                <a:cubicBezTo>
                  <a:pt x="12396" y="16048"/>
                  <a:pt x="12450" y="15980"/>
                  <a:pt x="12551" y="16024"/>
                </a:cubicBezTo>
                <a:cubicBezTo>
                  <a:pt x="12736" y="16105"/>
                  <a:pt x="12706" y="16249"/>
                  <a:pt x="12948" y="16197"/>
                </a:cubicBezTo>
                <a:cubicBezTo>
                  <a:pt x="13020" y="16181"/>
                  <a:pt x="13108" y="16128"/>
                  <a:pt x="13171" y="16098"/>
                </a:cubicBezTo>
                <a:cubicBezTo>
                  <a:pt x="13259" y="16222"/>
                  <a:pt x="13268" y="16283"/>
                  <a:pt x="13444" y="16272"/>
                </a:cubicBezTo>
                <a:cubicBezTo>
                  <a:pt x="13602" y="16262"/>
                  <a:pt x="13646" y="16195"/>
                  <a:pt x="13767" y="16123"/>
                </a:cubicBezTo>
                <a:cubicBezTo>
                  <a:pt x="13891" y="16200"/>
                  <a:pt x="13952" y="16233"/>
                  <a:pt x="14114" y="16222"/>
                </a:cubicBezTo>
                <a:cubicBezTo>
                  <a:pt x="14289" y="16210"/>
                  <a:pt x="14465" y="16089"/>
                  <a:pt x="14635" y="16098"/>
                </a:cubicBezTo>
                <a:cubicBezTo>
                  <a:pt x="14671" y="16100"/>
                  <a:pt x="14672" y="16171"/>
                  <a:pt x="14734" y="16197"/>
                </a:cubicBezTo>
                <a:cubicBezTo>
                  <a:pt x="14897" y="16267"/>
                  <a:pt x="14978" y="16233"/>
                  <a:pt x="15131" y="16148"/>
                </a:cubicBezTo>
                <a:cubicBezTo>
                  <a:pt x="15224" y="16092"/>
                  <a:pt x="15238" y="16092"/>
                  <a:pt x="15280" y="16049"/>
                </a:cubicBezTo>
                <a:cubicBezTo>
                  <a:pt x="15307" y="16120"/>
                  <a:pt x="15308" y="16165"/>
                  <a:pt x="15354" y="16222"/>
                </a:cubicBezTo>
                <a:cubicBezTo>
                  <a:pt x="15485" y="16382"/>
                  <a:pt x="15602" y="16124"/>
                  <a:pt x="15726" y="16148"/>
                </a:cubicBezTo>
                <a:cubicBezTo>
                  <a:pt x="15774" y="16157"/>
                  <a:pt x="15819" y="16242"/>
                  <a:pt x="15900" y="16247"/>
                </a:cubicBezTo>
                <a:cubicBezTo>
                  <a:pt x="16066" y="16257"/>
                  <a:pt x="16235" y="16158"/>
                  <a:pt x="16396" y="16173"/>
                </a:cubicBezTo>
                <a:cubicBezTo>
                  <a:pt x="16445" y="16177"/>
                  <a:pt x="16417" y="16224"/>
                  <a:pt x="16495" y="16222"/>
                </a:cubicBezTo>
                <a:cubicBezTo>
                  <a:pt x="16575" y="16219"/>
                  <a:pt x="16726" y="16161"/>
                  <a:pt x="16768" y="161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bjective: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6002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76240" y="2241720"/>
            <a:ext cx="482760" cy="258480"/>
          </a:xfrm>
          <a:custGeom>
            <a:avLst/>
            <a:gdLst/>
            <a:ahLst/>
            <a:rect l="l" t="t" r="r" b="b"/>
            <a:pathLst>
              <a:path w="1341" h="720">
                <a:moveTo>
                  <a:pt x="4961" y="6226"/>
                </a:moveTo>
                <a:cubicBezTo>
                  <a:pt x="4961" y="6418"/>
                  <a:pt x="4929" y="6610"/>
                  <a:pt x="4961" y="6796"/>
                </a:cubicBezTo>
                <a:cubicBezTo>
                  <a:pt x="4990" y="6965"/>
                  <a:pt x="5120" y="6970"/>
                  <a:pt x="5259" y="6896"/>
                </a:cubicBezTo>
                <a:cubicBezTo>
                  <a:pt x="5374" y="6835"/>
                  <a:pt x="5466" y="6721"/>
                  <a:pt x="5507" y="6598"/>
                </a:cubicBezTo>
                <a:cubicBezTo>
                  <a:pt x="5518" y="6565"/>
                  <a:pt x="5477" y="6543"/>
                  <a:pt x="5457" y="6524"/>
                </a:cubicBezTo>
                <a:cubicBezTo>
                  <a:pt x="5347" y="6482"/>
                  <a:pt x="5305" y="6540"/>
                  <a:pt x="5308" y="6672"/>
                </a:cubicBezTo>
                <a:cubicBezTo>
                  <a:pt x="5312" y="6811"/>
                  <a:pt x="5382" y="6880"/>
                  <a:pt x="5507" y="6896"/>
                </a:cubicBezTo>
              </a:path>
              <a:path w="1341" h="720">
                <a:moveTo>
                  <a:pt x="5804" y="6499"/>
                </a:moveTo>
                <a:cubicBezTo>
                  <a:pt x="5751" y="6529"/>
                  <a:pt x="5708" y="6552"/>
                  <a:pt x="5680" y="6598"/>
                </a:cubicBezTo>
                <a:cubicBezTo>
                  <a:pt x="5757" y="6598"/>
                  <a:pt x="5859" y="6598"/>
                  <a:pt x="5879" y="6697"/>
                </a:cubicBezTo>
                <a:cubicBezTo>
                  <a:pt x="5904" y="6821"/>
                  <a:pt x="5648" y="6877"/>
                  <a:pt x="5631" y="6772"/>
                </a:cubicBezTo>
                <a:cubicBezTo>
                  <a:pt x="5639" y="6747"/>
                  <a:pt x="5647" y="6722"/>
                  <a:pt x="5655" y="6697"/>
                </a:cubicBezTo>
              </a:path>
              <a:path w="1341" h="720">
                <a:moveTo>
                  <a:pt x="6176" y="6474"/>
                </a:moveTo>
                <a:cubicBezTo>
                  <a:pt x="6123" y="6474"/>
                  <a:pt x="6089" y="6487"/>
                  <a:pt x="6052" y="6524"/>
                </a:cubicBezTo>
                <a:cubicBezTo>
                  <a:pt x="6121" y="6574"/>
                  <a:pt x="6255" y="6561"/>
                  <a:pt x="6276" y="6672"/>
                </a:cubicBezTo>
                <a:cubicBezTo>
                  <a:pt x="6321" y="6905"/>
                  <a:pt x="6047" y="6791"/>
                  <a:pt x="5978" y="67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2920" y="2197080"/>
            <a:ext cx="795240" cy="249120"/>
          </a:xfrm>
          <a:custGeom>
            <a:avLst/>
            <a:gdLst/>
            <a:ahLst/>
            <a:rect l="l" t="t" r="r" b="b"/>
            <a:pathLst>
              <a:path w="2208" h="695">
                <a:moveTo>
                  <a:pt x="7268" y="6102"/>
                </a:moveTo>
                <a:cubicBezTo>
                  <a:pt x="7283" y="6310"/>
                  <a:pt x="7293" y="6513"/>
                  <a:pt x="7293" y="6722"/>
                </a:cubicBezTo>
                <a:cubicBezTo>
                  <a:pt x="7293" y="6730"/>
                  <a:pt x="7293" y="6739"/>
                  <a:pt x="7293" y="6747"/>
                </a:cubicBezTo>
              </a:path>
              <a:path w="2208" h="695">
                <a:moveTo>
                  <a:pt x="6896" y="6499"/>
                </a:moveTo>
                <a:cubicBezTo>
                  <a:pt x="7075" y="6542"/>
                  <a:pt x="7328" y="6629"/>
                  <a:pt x="7516" y="6573"/>
                </a:cubicBezTo>
                <a:cubicBezTo>
                  <a:pt x="7655" y="6531"/>
                  <a:pt x="7643" y="6358"/>
                  <a:pt x="7665" y="6251"/>
                </a:cubicBezTo>
              </a:path>
              <a:path w="2208" h="695">
                <a:moveTo>
                  <a:pt x="7615" y="6102"/>
                </a:moveTo>
                <a:cubicBezTo>
                  <a:pt x="7641" y="6286"/>
                  <a:pt x="7661" y="6461"/>
                  <a:pt x="7665" y="6648"/>
                </a:cubicBezTo>
                <a:cubicBezTo>
                  <a:pt x="7665" y="6673"/>
                  <a:pt x="7665" y="6697"/>
                  <a:pt x="7665" y="6722"/>
                </a:cubicBezTo>
                <a:cubicBezTo>
                  <a:pt x="7681" y="6522"/>
                  <a:pt x="7698" y="6463"/>
                  <a:pt x="7863" y="6375"/>
                </a:cubicBezTo>
                <a:cubicBezTo>
                  <a:pt x="7969" y="6491"/>
                  <a:pt x="7985" y="6585"/>
                  <a:pt x="7962" y="6747"/>
                </a:cubicBezTo>
              </a:path>
              <a:path w="2208" h="695">
                <a:moveTo>
                  <a:pt x="8434" y="6598"/>
                </a:moveTo>
                <a:cubicBezTo>
                  <a:pt x="8464" y="6490"/>
                  <a:pt x="8402" y="6378"/>
                  <a:pt x="8285" y="6325"/>
                </a:cubicBezTo>
                <a:cubicBezTo>
                  <a:pt x="8136" y="6257"/>
                  <a:pt x="8099" y="6641"/>
                  <a:pt x="8086" y="6697"/>
                </a:cubicBezTo>
                <a:cubicBezTo>
                  <a:pt x="8094" y="6714"/>
                  <a:pt x="8103" y="6730"/>
                  <a:pt x="8111" y="6747"/>
                </a:cubicBezTo>
                <a:cubicBezTo>
                  <a:pt x="8244" y="6707"/>
                  <a:pt x="8250" y="6664"/>
                  <a:pt x="8334" y="6548"/>
                </a:cubicBezTo>
                <a:cubicBezTo>
                  <a:pt x="8365" y="6528"/>
                  <a:pt x="8415" y="6647"/>
                  <a:pt x="8483" y="6697"/>
                </a:cubicBezTo>
                <a:cubicBezTo>
                  <a:pt x="8620" y="6798"/>
                  <a:pt x="8640" y="6547"/>
                  <a:pt x="8657" y="6474"/>
                </a:cubicBezTo>
                <a:cubicBezTo>
                  <a:pt x="8674" y="6400"/>
                  <a:pt x="8671" y="6622"/>
                  <a:pt x="8682" y="6697"/>
                </a:cubicBezTo>
                <a:cubicBezTo>
                  <a:pt x="8661" y="6570"/>
                  <a:pt x="8656" y="6519"/>
                  <a:pt x="8706" y="6400"/>
                </a:cubicBezTo>
                <a:cubicBezTo>
                  <a:pt x="8842" y="6400"/>
                  <a:pt x="8904" y="6421"/>
                  <a:pt x="8930" y="6573"/>
                </a:cubicBezTo>
                <a:cubicBezTo>
                  <a:pt x="8944" y="6652"/>
                  <a:pt x="8904" y="6862"/>
                  <a:pt x="9054" y="6772"/>
                </a:cubicBezTo>
                <a:cubicBezTo>
                  <a:pt x="9070" y="6755"/>
                  <a:pt x="9087" y="6739"/>
                  <a:pt x="9103" y="67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0880" y="2759040"/>
            <a:ext cx="1162080" cy="447840"/>
          </a:xfrm>
          <a:custGeom>
            <a:avLst/>
            <a:gdLst/>
            <a:ahLst/>
            <a:rect l="l" t="t" r="r" b="b"/>
            <a:pathLst>
              <a:path w="3226" h="1241">
                <a:moveTo>
                  <a:pt x="5507" y="8012"/>
                </a:moveTo>
                <a:cubicBezTo>
                  <a:pt x="5446" y="7891"/>
                  <a:pt x="5324" y="7835"/>
                  <a:pt x="5209" y="7962"/>
                </a:cubicBezTo>
                <a:cubicBezTo>
                  <a:pt x="5072" y="8114"/>
                  <a:pt x="5078" y="8190"/>
                  <a:pt x="5184" y="8285"/>
                </a:cubicBezTo>
                <a:cubicBezTo>
                  <a:pt x="5243" y="8234"/>
                  <a:pt x="5367" y="8031"/>
                  <a:pt x="5407" y="8136"/>
                </a:cubicBezTo>
                <a:cubicBezTo>
                  <a:pt x="5507" y="8399"/>
                  <a:pt x="5572" y="8806"/>
                  <a:pt x="5209" y="8905"/>
                </a:cubicBezTo>
                <a:cubicBezTo>
                  <a:pt x="5159" y="8897"/>
                  <a:pt x="5110" y="8888"/>
                  <a:pt x="5060" y="8880"/>
                </a:cubicBezTo>
                <a:cubicBezTo>
                  <a:pt x="5123" y="8609"/>
                  <a:pt x="5251" y="8437"/>
                  <a:pt x="5507" y="8285"/>
                </a:cubicBezTo>
                <a:cubicBezTo>
                  <a:pt x="5515" y="8285"/>
                  <a:pt x="5523" y="8285"/>
                  <a:pt x="5531" y="8285"/>
                </a:cubicBezTo>
              </a:path>
              <a:path w="3226" h="1241">
                <a:moveTo>
                  <a:pt x="5755" y="8086"/>
                </a:moveTo>
                <a:cubicBezTo>
                  <a:pt x="5799" y="8176"/>
                  <a:pt x="5812" y="8199"/>
                  <a:pt x="5829" y="8260"/>
                </a:cubicBezTo>
                <a:cubicBezTo>
                  <a:pt x="5816" y="8160"/>
                  <a:pt x="5773" y="8027"/>
                  <a:pt x="5854" y="7938"/>
                </a:cubicBezTo>
                <a:cubicBezTo>
                  <a:pt x="5919" y="7866"/>
                  <a:pt x="5992" y="7888"/>
                  <a:pt x="6077" y="7888"/>
                </a:cubicBezTo>
              </a:path>
              <a:path w="3226" h="1241">
                <a:moveTo>
                  <a:pt x="6102" y="8012"/>
                </a:moveTo>
                <a:cubicBezTo>
                  <a:pt x="6158" y="8029"/>
                  <a:pt x="6321" y="8076"/>
                  <a:pt x="6375" y="8037"/>
                </a:cubicBezTo>
                <a:cubicBezTo>
                  <a:pt x="6375" y="8029"/>
                  <a:pt x="6375" y="8020"/>
                  <a:pt x="6375" y="8012"/>
                </a:cubicBezTo>
                <a:cubicBezTo>
                  <a:pt x="6267" y="7918"/>
                  <a:pt x="6217" y="7919"/>
                  <a:pt x="6152" y="8086"/>
                </a:cubicBezTo>
                <a:cubicBezTo>
                  <a:pt x="6070" y="8297"/>
                  <a:pt x="6190" y="8305"/>
                  <a:pt x="6350" y="8285"/>
                </a:cubicBezTo>
              </a:path>
              <a:path w="3226" h="1241">
                <a:moveTo>
                  <a:pt x="6896" y="8186"/>
                </a:moveTo>
                <a:cubicBezTo>
                  <a:pt x="6972" y="8110"/>
                  <a:pt x="6888" y="8028"/>
                  <a:pt x="6821" y="7962"/>
                </a:cubicBezTo>
                <a:cubicBezTo>
                  <a:pt x="6791" y="7986"/>
                  <a:pt x="6495" y="8373"/>
                  <a:pt x="6697" y="8334"/>
                </a:cubicBezTo>
                <a:cubicBezTo>
                  <a:pt x="6815" y="8263"/>
                  <a:pt x="6852" y="8244"/>
                  <a:pt x="6896" y="8161"/>
                </a:cubicBezTo>
                <a:cubicBezTo>
                  <a:pt x="6825" y="7970"/>
                  <a:pt x="6892" y="8257"/>
                  <a:pt x="6921" y="8285"/>
                </a:cubicBezTo>
                <a:cubicBezTo>
                  <a:pt x="7014" y="8331"/>
                  <a:pt x="7040" y="8351"/>
                  <a:pt x="7094" y="8285"/>
                </a:cubicBezTo>
              </a:path>
              <a:path w="3226" h="1241">
                <a:moveTo>
                  <a:pt x="7193" y="7665"/>
                </a:moveTo>
                <a:cubicBezTo>
                  <a:pt x="7261" y="7868"/>
                  <a:pt x="7278" y="8069"/>
                  <a:pt x="7293" y="8285"/>
                </a:cubicBezTo>
                <a:cubicBezTo>
                  <a:pt x="7293" y="8277"/>
                  <a:pt x="7293" y="8268"/>
                  <a:pt x="7293" y="8260"/>
                </a:cubicBezTo>
              </a:path>
              <a:path w="3226" h="1241">
                <a:moveTo>
                  <a:pt x="6995" y="7987"/>
                </a:moveTo>
                <a:cubicBezTo>
                  <a:pt x="7121" y="7972"/>
                  <a:pt x="7369" y="7906"/>
                  <a:pt x="7491" y="7962"/>
                </a:cubicBezTo>
                <a:cubicBezTo>
                  <a:pt x="7491" y="7970"/>
                  <a:pt x="7491" y="7979"/>
                  <a:pt x="7491" y="7987"/>
                </a:cubicBezTo>
              </a:path>
              <a:path w="3226" h="1241">
                <a:moveTo>
                  <a:pt x="7541" y="8062"/>
                </a:moveTo>
                <a:cubicBezTo>
                  <a:pt x="7596" y="8062"/>
                  <a:pt x="7710" y="8076"/>
                  <a:pt x="7714" y="7987"/>
                </a:cubicBezTo>
                <a:cubicBezTo>
                  <a:pt x="7694" y="7927"/>
                  <a:pt x="7695" y="7913"/>
                  <a:pt x="7665" y="7888"/>
                </a:cubicBezTo>
                <a:cubicBezTo>
                  <a:pt x="7575" y="7945"/>
                  <a:pt x="7416" y="8124"/>
                  <a:pt x="7565" y="8235"/>
                </a:cubicBezTo>
                <a:cubicBezTo>
                  <a:pt x="7663" y="8308"/>
                  <a:pt x="7844" y="8076"/>
                  <a:pt x="7888" y="8037"/>
                </a:cubicBezTo>
                <a:cubicBezTo>
                  <a:pt x="7944" y="7962"/>
                  <a:pt x="7920" y="8057"/>
                  <a:pt x="7938" y="8161"/>
                </a:cubicBezTo>
                <a:cubicBezTo>
                  <a:pt x="7938" y="8280"/>
                  <a:pt x="7966" y="8020"/>
                  <a:pt x="7987" y="7987"/>
                </a:cubicBezTo>
                <a:cubicBezTo>
                  <a:pt x="8071" y="7858"/>
                  <a:pt x="8154" y="7871"/>
                  <a:pt x="8285" y="78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86080" y="2751120"/>
            <a:ext cx="768240" cy="258840"/>
          </a:xfrm>
          <a:custGeom>
            <a:avLst/>
            <a:gdLst/>
            <a:ahLst/>
            <a:rect l="l" t="t" r="r" b="b"/>
            <a:pathLst>
              <a:path w="2134" h="720">
                <a:moveTo>
                  <a:pt x="9227" y="7640"/>
                </a:moveTo>
                <a:cubicBezTo>
                  <a:pt x="9246" y="7813"/>
                  <a:pt x="9252" y="7983"/>
                  <a:pt x="9252" y="8161"/>
                </a:cubicBezTo>
                <a:cubicBezTo>
                  <a:pt x="9252" y="8255"/>
                  <a:pt x="9231" y="8276"/>
                  <a:pt x="9277" y="8310"/>
                </a:cubicBezTo>
                <a:cubicBezTo>
                  <a:pt x="9451" y="8297"/>
                  <a:pt x="9532" y="8307"/>
                  <a:pt x="9475" y="8136"/>
                </a:cubicBezTo>
              </a:path>
              <a:path w="2134" h="720">
                <a:moveTo>
                  <a:pt x="9128" y="8037"/>
                </a:moveTo>
                <a:cubicBezTo>
                  <a:pt x="9318" y="8044"/>
                  <a:pt x="9543" y="8076"/>
                  <a:pt x="9599" y="7838"/>
                </a:cubicBezTo>
                <a:cubicBezTo>
                  <a:pt x="9599" y="7747"/>
                  <a:pt x="9599" y="7739"/>
                  <a:pt x="9599" y="7689"/>
                </a:cubicBezTo>
                <a:cubicBezTo>
                  <a:pt x="9617" y="7865"/>
                  <a:pt x="9624" y="8033"/>
                  <a:pt x="9624" y="8210"/>
                </a:cubicBezTo>
                <a:cubicBezTo>
                  <a:pt x="9624" y="8218"/>
                  <a:pt x="9624" y="8227"/>
                  <a:pt x="9624" y="8235"/>
                </a:cubicBezTo>
                <a:cubicBezTo>
                  <a:pt x="9671" y="8048"/>
                  <a:pt x="9678" y="7958"/>
                  <a:pt x="9872" y="7913"/>
                </a:cubicBezTo>
                <a:cubicBezTo>
                  <a:pt x="9915" y="8070"/>
                  <a:pt x="9922" y="8194"/>
                  <a:pt x="9922" y="8359"/>
                </a:cubicBezTo>
              </a:path>
              <a:path w="2134" h="720">
                <a:moveTo>
                  <a:pt x="10418" y="8161"/>
                </a:moveTo>
                <a:cubicBezTo>
                  <a:pt x="10418" y="8077"/>
                  <a:pt x="10380" y="7951"/>
                  <a:pt x="10269" y="7962"/>
                </a:cubicBezTo>
                <a:cubicBezTo>
                  <a:pt x="10088" y="7979"/>
                  <a:pt x="10114" y="8196"/>
                  <a:pt x="10145" y="8310"/>
                </a:cubicBezTo>
                <a:cubicBezTo>
                  <a:pt x="10283" y="8258"/>
                  <a:pt x="10320" y="8224"/>
                  <a:pt x="10418" y="8111"/>
                </a:cubicBezTo>
                <a:cubicBezTo>
                  <a:pt x="10392" y="8034"/>
                  <a:pt x="10379" y="8236"/>
                  <a:pt x="10468" y="8285"/>
                </a:cubicBezTo>
                <a:cubicBezTo>
                  <a:pt x="10600" y="8358"/>
                  <a:pt x="10790" y="7888"/>
                  <a:pt x="10815" y="8037"/>
                </a:cubicBezTo>
                <a:cubicBezTo>
                  <a:pt x="10821" y="8075"/>
                  <a:pt x="10790" y="8185"/>
                  <a:pt x="10790" y="8235"/>
                </a:cubicBezTo>
                <a:cubicBezTo>
                  <a:pt x="10800" y="8129"/>
                  <a:pt x="10824" y="8060"/>
                  <a:pt x="10864" y="7962"/>
                </a:cubicBezTo>
                <a:cubicBezTo>
                  <a:pt x="10928" y="8034"/>
                  <a:pt x="11038" y="8242"/>
                  <a:pt x="11162" y="8210"/>
                </a:cubicBezTo>
                <a:cubicBezTo>
                  <a:pt x="11195" y="8185"/>
                  <a:pt x="11228" y="8161"/>
                  <a:pt x="11261" y="81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5320" y="3303720"/>
            <a:ext cx="768600" cy="428400"/>
          </a:xfrm>
          <a:custGeom>
            <a:avLst/>
            <a:gdLst/>
            <a:ahLst/>
            <a:rect l="l" t="t" r="r" b="b"/>
            <a:pathLst>
              <a:path w="2134" h="1191">
                <a:moveTo>
                  <a:pt x="5035" y="9599"/>
                </a:moveTo>
                <a:cubicBezTo>
                  <a:pt x="5134" y="9599"/>
                  <a:pt x="5234" y="9599"/>
                  <a:pt x="5333" y="9599"/>
                </a:cubicBezTo>
                <a:cubicBezTo>
                  <a:pt x="5275" y="9527"/>
                  <a:pt x="5224" y="9466"/>
                  <a:pt x="5159" y="9401"/>
                </a:cubicBezTo>
                <a:cubicBezTo>
                  <a:pt x="5063" y="9457"/>
                  <a:pt x="4975" y="9549"/>
                  <a:pt x="4986" y="9674"/>
                </a:cubicBezTo>
                <a:cubicBezTo>
                  <a:pt x="5002" y="9857"/>
                  <a:pt x="5150" y="9868"/>
                  <a:pt x="5283" y="9847"/>
                </a:cubicBezTo>
              </a:path>
              <a:path w="2134" h="1191">
                <a:moveTo>
                  <a:pt x="5556" y="9624"/>
                </a:moveTo>
                <a:cubicBezTo>
                  <a:pt x="5573" y="9616"/>
                  <a:pt x="5589" y="9607"/>
                  <a:pt x="5606" y="9599"/>
                </a:cubicBezTo>
                <a:cubicBezTo>
                  <a:pt x="5589" y="9533"/>
                  <a:pt x="5544" y="9435"/>
                  <a:pt x="5457" y="9500"/>
                </a:cubicBezTo>
                <a:cubicBezTo>
                  <a:pt x="5348" y="9581"/>
                  <a:pt x="5336" y="9714"/>
                  <a:pt x="5383" y="9823"/>
                </a:cubicBezTo>
                <a:cubicBezTo>
                  <a:pt x="5470" y="9788"/>
                  <a:pt x="5556" y="9555"/>
                  <a:pt x="5556" y="9649"/>
                </a:cubicBezTo>
                <a:cubicBezTo>
                  <a:pt x="5556" y="9657"/>
                  <a:pt x="5556" y="9666"/>
                  <a:pt x="5556" y="9674"/>
                </a:cubicBezTo>
                <a:cubicBezTo>
                  <a:pt x="5595" y="9892"/>
                  <a:pt x="5572" y="10125"/>
                  <a:pt x="5631" y="10344"/>
                </a:cubicBezTo>
                <a:cubicBezTo>
                  <a:pt x="5639" y="10352"/>
                  <a:pt x="5647" y="10360"/>
                  <a:pt x="5655" y="10368"/>
                </a:cubicBezTo>
                <a:cubicBezTo>
                  <a:pt x="5773" y="10333"/>
                  <a:pt x="5814" y="10215"/>
                  <a:pt x="5755" y="10071"/>
                </a:cubicBezTo>
                <a:cubicBezTo>
                  <a:pt x="5734" y="10019"/>
                  <a:pt x="5676" y="10012"/>
                  <a:pt x="5655" y="9971"/>
                </a:cubicBezTo>
              </a:path>
              <a:path w="2134" h="1191">
                <a:moveTo>
                  <a:pt x="5755" y="9550"/>
                </a:moveTo>
                <a:cubicBezTo>
                  <a:pt x="5762" y="9657"/>
                  <a:pt x="5765" y="9782"/>
                  <a:pt x="5804" y="9872"/>
                </a:cubicBezTo>
                <a:cubicBezTo>
                  <a:pt x="5982" y="9843"/>
                  <a:pt x="5993" y="9750"/>
                  <a:pt x="6028" y="9575"/>
                </a:cubicBezTo>
                <a:cubicBezTo>
                  <a:pt x="6028" y="9567"/>
                  <a:pt x="6028" y="9558"/>
                  <a:pt x="6028" y="9550"/>
                </a:cubicBezTo>
                <a:cubicBezTo>
                  <a:pt x="6044" y="9615"/>
                  <a:pt x="6071" y="9775"/>
                  <a:pt x="6127" y="9823"/>
                </a:cubicBezTo>
                <a:cubicBezTo>
                  <a:pt x="6170" y="9844"/>
                  <a:pt x="6182" y="9857"/>
                  <a:pt x="6201" y="9823"/>
                </a:cubicBezTo>
              </a:path>
              <a:path w="2134" h="1191">
                <a:moveTo>
                  <a:pt x="6548" y="9624"/>
                </a:moveTo>
                <a:cubicBezTo>
                  <a:pt x="6634" y="9681"/>
                  <a:pt x="6492" y="9508"/>
                  <a:pt x="6449" y="9500"/>
                </a:cubicBezTo>
                <a:cubicBezTo>
                  <a:pt x="6320" y="9475"/>
                  <a:pt x="6227" y="9737"/>
                  <a:pt x="6300" y="9823"/>
                </a:cubicBezTo>
                <a:cubicBezTo>
                  <a:pt x="6416" y="9960"/>
                  <a:pt x="6536" y="9763"/>
                  <a:pt x="6548" y="9674"/>
                </a:cubicBezTo>
                <a:cubicBezTo>
                  <a:pt x="6548" y="9649"/>
                  <a:pt x="6548" y="9641"/>
                  <a:pt x="6548" y="9674"/>
                </a:cubicBezTo>
                <a:cubicBezTo>
                  <a:pt x="6621" y="9746"/>
                  <a:pt x="6625" y="9755"/>
                  <a:pt x="6722" y="9773"/>
                </a:cubicBezTo>
              </a:path>
              <a:path w="2134" h="1191">
                <a:moveTo>
                  <a:pt x="6772" y="9178"/>
                </a:moveTo>
                <a:cubicBezTo>
                  <a:pt x="6856" y="9368"/>
                  <a:pt x="6839" y="9532"/>
                  <a:pt x="6896" y="9723"/>
                </a:cubicBezTo>
                <a:cubicBezTo>
                  <a:pt x="6919" y="9799"/>
                  <a:pt x="7073" y="9731"/>
                  <a:pt x="7119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1760" y="3259080"/>
            <a:ext cx="312480" cy="206280"/>
          </a:xfrm>
          <a:custGeom>
            <a:avLst/>
            <a:gdLst/>
            <a:ahLst/>
            <a:rect l="l" t="t" r="r" b="b"/>
            <a:pathLst>
              <a:path w="869" h="571">
                <a:moveTo>
                  <a:pt x="7838" y="9103"/>
                </a:moveTo>
                <a:cubicBezTo>
                  <a:pt x="7838" y="8958"/>
                  <a:pt x="7903" y="9285"/>
                  <a:pt x="7938" y="9426"/>
                </a:cubicBezTo>
                <a:cubicBezTo>
                  <a:pt x="7956" y="9499"/>
                  <a:pt x="7962" y="9674"/>
                  <a:pt x="7962" y="9599"/>
                </a:cubicBezTo>
              </a:path>
              <a:path w="869" h="571">
                <a:moveTo>
                  <a:pt x="7615" y="9376"/>
                </a:moveTo>
                <a:cubicBezTo>
                  <a:pt x="7770" y="9376"/>
                  <a:pt x="7933" y="9371"/>
                  <a:pt x="8086" y="9351"/>
                </a:cubicBezTo>
                <a:cubicBezTo>
                  <a:pt x="8160" y="9333"/>
                  <a:pt x="8167" y="9325"/>
                  <a:pt x="8210" y="9327"/>
                </a:cubicBezTo>
                <a:cubicBezTo>
                  <a:pt x="8194" y="9410"/>
                  <a:pt x="8186" y="9486"/>
                  <a:pt x="8186" y="9575"/>
                </a:cubicBezTo>
                <a:cubicBezTo>
                  <a:pt x="8301" y="9595"/>
                  <a:pt x="8544" y="9567"/>
                  <a:pt x="8483" y="9376"/>
                </a:cubicBezTo>
                <a:cubicBezTo>
                  <a:pt x="8439" y="9239"/>
                  <a:pt x="8275" y="9311"/>
                  <a:pt x="8186" y="93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9880" y="2384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332" y="6623"/>
                </a:moveTo>
                <a:lnTo>
                  <a:pt x="2332" y="6623"/>
                </a:lnTo>
                <a:lnTo>
                  <a:pt x="2332" y="6623"/>
                </a:lnTo>
                <a:lnTo>
                  <a:pt x="2332" y="6623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Objective: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we order numbers, our eyes move from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left to r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we go from the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largest place values to the small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same thing happens when we order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 up the numbers aligning the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zeros in empty spaces to make comparing eas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cc66"/>
                </a:solidFill>
                <a:uFillTx/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rder from least to greatest: 0.416, 0.92, 0.4,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16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92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0.4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5</a:t>
            </a:r>
            <a:r>
              <a:rPr b="1" lang="en-US" sz="2600" spc="-1" strike="noStrike">
                <a:solidFill>
                  <a:srgbClr val="00cc66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46960" y="1204920"/>
            <a:ext cx="474840" cy="36360"/>
          </a:xfrm>
          <a:custGeom>
            <a:avLst/>
            <a:gdLst/>
            <a:ahLst/>
            <a:rect l="l" t="t" r="r" b="b"/>
            <a:pathLst>
              <a:path w="1316" h="100">
                <a:moveTo>
                  <a:pt x="20712" y="3398"/>
                </a:moveTo>
                <a:cubicBezTo>
                  <a:pt x="20704" y="3406"/>
                  <a:pt x="20695" y="3415"/>
                  <a:pt x="20687" y="3423"/>
                </a:cubicBezTo>
                <a:cubicBezTo>
                  <a:pt x="20759" y="3423"/>
                  <a:pt x="20774" y="3430"/>
                  <a:pt x="20836" y="3423"/>
                </a:cubicBezTo>
                <a:cubicBezTo>
                  <a:pt x="20901" y="3415"/>
                  <a:pt x="20930" y="3416"/>
                  <a:pt x="20985" y="3398"/>
                </a:cubicBezTo>
                <a:cubicBezTo>
                  <a:pt x="21032" y="3382"/>
                  <a:pt x="21115" y="3382"/>
                  <a:pt x="21158" y="3373"/>
                </a:cubicBezTo>
                <a:cubicBezTo>
                  <a:pt x="21233" y="3357"/>
                  <a:pt x="21314" y="3367"/>
                  <a:pt x="21382" y="3349"/>
                </a:cubicBezTo>
                <a:cubicBezTo>
                  <a:pt x="21439" y="3334"/>
                  <a:pt x="21487" y="3365"/>
                  <a:pt x="21530" y="3373"/>
                </a:cubicBezTo>
                <a:cubicBezTo>
                  <a:pt x="21674" y="3401"/>
                  <a:pt x="21871" y="3345"/>
                  <a:pt x="21977" y="3398"/>
                </a:cubicBezTo>
                <a:cubicBezTo>
                  <a:pt x="21985" y="3398"/>
                  <a:pt x="21994" y="3398"/>
                  <a:pt x="22002" y="339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1080" y="1241280"/>
            <a:ext cx="1758960" cy="393840"/>
          </a:xfrm>
          <a:custGeom>
            <a:avLst/>
            <a:gdLst/>
            <a:ahLst/>
            <a:rect l="l" t="t" r="r" b="b"/>
            <a:pathLst>
              <a:path w="4888" h="1092">
                <a:moveTo>
                  <a:pt x="6003" y="3473"/>
                </a:moveTo>
                <a:cubicBezTo>
                  <a:pt x="6373" y="3473"/>
                  <a:pt x="6755" y="3496"/>
                  <a:pt x="7119" y="3448"/>
                </a:cubicBezTo>
                <a:cubicBezTo>
                  <a:pt x="7366" y="3416"/>
                  <a:pt x="7639" y="3448"/>
                  <a:pt x="7888" y="3448"/>
                </a:cubicBezTo>
              </a:path>
              <a:path w="4888" h="1092">
                <a:moveTo>
                  <a:pt x="3001" y="4490"/>
                </a:moveTo>
                <a:cubicBezTo>
                  <a:pt x="3177" y="4490"/>
                  <a:pt x="3347" y="4510"/>
                  <a:pt x="3522" y="4514"/>
                </a:cubicBezTo>
                <a:cubicBezTo>
                  <a:pt x="3621" y="4516"/>
                  <a:pt x="3702" y="4531"/>
                  <a:pt x="3795" y="4539"/>
                </a:cubicBezTo>
                <a:cubicBezTo>
                  <a:pt x="4097" y="4565"/>
                  <a:pt x="4417" y="4542"/>
                  <a:pt x="4713" y="4514"/>
                </a:cubicBezTo>
                <a:cubicBezTo>
                  <a:pt x="4844" y="4502"/>
                  <a:pt x="4980" y="4500"/>
                  <a:pt x="5110" y="4490"/>
                </a:cubicBezTo>
                <a:cubicBezTo>
                  <a:pt x="5291" y="4475"/>
                  <a:pt x="5478" y="4480"/>
                  <a:pt x="5655" y="4465"/>
                </a:cubicBezTo>
                <a:cubicBezTo>
                  <a:pt x="5819" y="4452"/>
                  <a:pt x="5988" y="4444"/>
                  <a:pt x="6152" y="4440"/>
                </a:cubicBezTo>
                <a:cubicBezTo>
                  <a:pt x="6201" y="4439"/>
                  <a:pt x="6251" y="4440"/>
                  <a:pt x="6300" y="44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3152880"/>
            <a:ext cx="3591000" cy="3187440"/>
          </a:xfrm>
          <a:custGeom>
            <a:avLst/>
            <a:gdLst/>
            <a:ahLst/>
            <a:rect l="l" t="t" r="r" b="b"/>
            <a:pathLst>
              <a:path w="9972" h="8856">
                <a:moveTo>
                  <a:pt x="3101" y="8756"/>
                </a:moveTo>
                <a:cubicBezTo>
                  <a:pt x="3311" y="8756"/>
                  <a:pt x="3516" y="8758"/>
                  <a:pt x="3721" y="8781"/>
                </a:cubicBezTo>
                <a:cubicBezTo>
                  <a:pt x="4078" y="8821"/>
                  <a:pt x="4455" y="8776"/>
                  <a:pt x="4812" y="8806"/>
                </a:cubicBezTo>
                <a:cubicBezTo>
                  <a:pt x="5314" y="8848"/>
                  <a:pt x="5827" y="8780"/>
                  <a:pt x="6325" y="8830"/>
                </a:cubicBezTo>
                <a:cubicBezTo>
                  <a:pt x="6438" y="8841"/>
                  <a:pt x="6558" y="8830"/>
                  <a:pt x="6672" y="8830"/>
                </a:cubicBezTo>
              </a:path>
              <a:path w="9972" h="8856">
                <a:moveTo>
                  <a:pt x="5184" y="9847"/>
                </a:moveTo>
                <a:cubicBezTo>
                  <a:pt x="5228" y="9842"/>
                  <a:pt x="5268" y="9828"/>
                  <a:pt x="5308" y="9823"/>
                </a:cubicBezTo>
                <a:cubicBezTo>
                  <a:pt x="5423" y="9808"/>
                  <a:pt x="5541" y="9785"/>
                  <a:pt x="5655" y="9773"/>
                </a:cubicBezTo>
                <a:cubicBezTo>
                  <a:pt x="5739" y="9764"/>
                  <a:pt x="5821" y="9764"/>
                  <a:pt x="5904" y="9748"/>
                </a:cubicBezTo>
                <a:cubicBezTo>
                  <a:pt x="6029" y="9724"/>
                  <a:pt x="6149" y="9703"/>
                  <a:pt x="6276" y="9699"/>
                </a:cubicBezTo>
                <a:cubicBezTo>
                  <a:pt x="6507" y="9692"/>
                  <a:pt x="6739" y="9699"/>
                  <a:pt x="6970" y="9699"/>
                </a:cubicBezTo>
              </a:path>
              <a:path w="9972" h="8856">
                <a:moveTo>
                  <a:pt x="6871" y="9723"/>
                </a:moveTo>
                <a:cubicBezTo>
                  <a:pt x="6942" y="9723"/>
                  <a:pt x="6999" y="9742"/>
                  <a:pt x="7069" y="9748"/>
                </a:cubicBezTo>
                <a:cubicBezTo>
                  <a:pt x="7210" y="9760"/>
                  <a:pt x="7400" y="9740"/>
                  <a:pt x="7541" y="9723"/>
                </a:cubicBezTo>
                <a:cubicBezTo>
                  <a:pt x="7643" y="9711"/>
                  <a:pt x="7734" y="9699"/>
                  <a:pt x="7838" y="9699"/>
                </a:cubicBezTo>
                <a:cubicBezTo>
                  <a:pt x="7846" y="9699"/>
                  <a:pt x="7855" y="9699"/>
                  <a:pt x="7863" y="9699"/>
                </a:cubicBezTo>
              </a:path>
              <a:path w="9972" h="8856">
                <a:moveTo>
                  <a:pt x="8260" y="12725"/>
                </a:moveTo>
                <a:cubicBezTo>
                  <a:pt x="8183" y="12725"/>
                  <a:pt x="8101" y="12744"/>
                  <a:pt x="8062" y="12824"/>
                </a:cubicBezTo>
                <a:cubicBezTo>
                  <a:pt x="8062" y="12849"/>
                  <a:pt x="8062" y="12873"/>
                  <a:pt x="8062" y="12898"/>
                </a:cubicBezTo>
                <a:cubicBezTo>
                  <a:pt x="8152" y="12937"/>
                  <a:pt x="8365" y="12888"/>
                  <a:pt x="8409" y="13022"/>
                </a:cubicBezTo>
                <a:cubicBezTo>
                  <a:pt x="8459" y="13172"/>
                  <a:pt x="8123" y="13289"/>
                  <a:pt x="8111" y="13171"/>
                </a:cubicBezTo>
                <a:cubicBezTo>
                  <a:pt x="8128" y="13130"/>
                  <a:pt x="8144" y="13088"/>
                  <a:pt x="8161" y="13047"/>
                </a:cubicBezTo>
              </a:path>
              <a:path w="9972" h="8856">
                <a:moveTo>
                  <a:pt x="8483" y="12675"/>
                </a:moveTo>
                <a:cubicBezTo>
                  <a:pt x="8535" y="12729"/>
                  <a:pt x="8648" y="12859"/>
                  <a:pt x="8706" y="12898"/>
                </a:cubicBezTo>
              </a:path>
              <a:path w="9972" h="8856">
                <a:moveTo>
                  <a:pt x="8483" y="12874"/>
                </a:moveTo>
                <a:cubicBezTo>
                  <a:pt x="8564" y="12848"/>
                  <a:pt x="8776" y="12792"/>
                  <a:pt x="8806" y="12725"/>
                </a:cubicBezTo>
                <a:cubicBezTo>
                  <a:pt x="8806" y="12717"/>
                  <a:pt x="8806" y="12708"/>
                  <a:pt x="8806" y="12700"/>
                </a:cubicBezTo>
                <a:cubicBezTo>
                  <a:pt x="8765" y="12700"/>
                  <a:pt x="8663" y="12709"/>
                  <a:pt x="8731" y="12799"/>
                </a:cubicBezTo>
                <a:cubicBezTo>
                  <a:pt x="8841" y="12945"/>
                  <a:pt x="8922" y="12766"/>
                  <a:pt x="8930" y="12675"/>
                </a:cubicBezTo>
                <a:cubicBezTo>
                  <a:pt x="8930" y="12659"/>
                  <a:pt x="8930" y="12642"/>
                  <a:pt x="8930" y="12626"/>
                </a:cubicBezTo>
                <a:cubicBezTo>
                  <a:pt x="8963" y="12709"/>
                  <a:pt x="9072" y="12790"/>
                  <a:pt x="9103" y="12874"/>
                </a:cubicBezTo>
                <a:cubicBezTo>
                  <a:pt x="9095" y="12874"/>
                  <a:pt x="9087" y="12874"/>
                  <a:pt x="9079" y="12874"/>
                </a:cubicBezTo>
                <a:cubicBezTo>
                  <a:pt x="9002" y="12720"/>
                  <a:pt x="8955" y="12681"/>
                  <a:pt x="8979" y="12502"/>
                </a:cubicBezTo>
                <a:cubicBezTo>
                  <a:pt x="9115" y="12536"/>
                  <a:pt x="9216" y="12625"/>
                  <a:pt x="9029" y="12725"/>
                </a:cubicBezTo>
                <a:cubicBezTo>
                  <a:pt x="8996" y="12733"/>
                  <a:pt x="8963" y="12742"/>
                  <a:pt x="8930" y="12750"/>
                </a:cubicBezTo>
              </a:path>
              <a:path w="9972" h="8856">
                <a:moveTo>
                  <a:pt x="9277" y="12353"/>
                </a:moveTo>
                <a:cubicBezTo>
                  <a:pt x="9320" y="12353"/>
                  <a:pt x="9345" y="12347"/>
                  <a:pt x="9376" y="12328"/>
                </a:cubicBezTo>
                <a:cubicBezTo>
                  <a:pt x="9443" y="12462"/>
                  <a:pt x="9412" y="12594"/>
                  <a:pt x="9327" y="12725"/>
                </a:cubicBezTo>
                <a:cubicBezTo>
                  <a:pt x="9319" y="12725"/>
                  <a:pt x="9310" y="12725"/>
                  <a:pt x="9302" y="12725"/>
                </a:cubicBezTo>
                <a:cubicBezTo>
                  <a:pt x="9407" y="12725"/>
                  <a:pt x="9448" y="12633"/>
                  <a:pt x="9525" y="12576"/>
                </a:cubicBezTo>
                <a:cubicBezTo>
                  <a:pt x="9575" y="12539"/>
                  <a:pt x="9601" y="12541"/>
                  <a:pt x="9624" y="12576"/>
                </a:cubicBezTo>
              </a:path>
              <a:path w="9972" h="8856">
                <a:moveTo>
                  <a:pt x="12502" y="16867"/>
                </a:moveTo>
                <a:cubicBezTo>
                  <a:pt x="12515" y="16893"/>
                  <a:pt x="12502" y="17022"/>
                  <a:pt x="12502" y="17090"/>
                </a:cubicBezTo>
                <a:cubicBezTo>
                  <a:pt x="12543" y="17074"/>
                  <a:pt x="12584" y="17042"/>
                  <a:pt x="12626" y="17016"/>
                </a:cubicBezTo>
              </a:path>
              <a:path w="9972" h="8856">
                <a:moveTo>
                  <a:pt x="12626" y="16768"/>
                </a:moveTo>
                <a:cubicBezTo>
                  <a:pt x="12626" y="16921"/>
                  <a:pt x="12664" y="17065"/>
                  <a:pt x="12700" y="17214"/>
                </a:cubicBezTo>
                <a:cubicBezTo>
                  <a:pt x="12719" y="17272"/>
                  <a:pt x="12728" y="17279"/>
                  <a:pt x="12725" y="17314"/>
                </a:cubicBezTo>
              </a:path>
              <a:path w="9972" h="8856">
                <a:moveTo>
                  <a:pt x="12353" y="17413"/>
                </a:moveTo>
                <a:cubicBezTo>
                  <a:pt x="12403" y="17530"/>
                  <a:pt x="12473" y="17615"/>
                  <a:pt x="12626" y="17611"/>
                </a:cubicBezTo>
                <a:cubicBezTo>
                  <a:pt x="12799" y="17607"/>
                  <a:pt x="12949" y="17456"/>
                  <a:pt x="13022" y="17314"/>
                </a:cubicBezTo>
                <a:cubicBezTo>
                  <a:pt x="13097" y="17167"/>
                  <a:pt x="13094" y="16982"/>
                  <a:pt x="12998" y="16842"/>
                </a:cubicBezTo>
                <a:cubicBezTo>
                  <a:pt x="12919" y="16727"/>
                  <a:pt x="12784" y="16680"/>
                  <a:pt x="12650" y="16694"/>
                </a:cubicBezTo>
                <a:cubicBezTo>
                  <a:pt x="12542" y="16706"/>
                  <a:pt x="12429" y="16726"/>
                  <a:pt x="12328" y="16768"/>
                </a:cubicBezTo>
                <a:cubicBezTo>
                  <a:pt x="12242" y="16803"/>
                  <a:pt x="12167" y="16897"/>
                  <a:pt x="12154" y="16991"/>
                </a:cubicBezTo>
                <a:cubicBezTo>
                  <a:pt x="12134" y="17141"/>
                  <a:pt x="12177" y="17359"/>
                  <a:pt x="12254" y="17487"/>
                </a:cubicBezTo>
                <a:cubicBezTo>
                  <a:pt x="12290" y="17547"/>
                  <a:pt x="12343" y="17541"/>
                  <a:pt x="12378" y="17562"/>
                </a:cubicBezTo>
              </a:path>
              <a:path w="9972" h="8856">
                <a:moveTo>
                  <a:pt x="9277" y="17165"/>
                </a:moveTo>
                <a:cubicBezTo>
                  <a:pt x="9310" y="17156"/>
                  <a:pt x="9318" y="17162"/>
                  <a:pt x="9401" y="17165"/>
                </a:cubicBezTo>
                <a:cubicBezTo>
                  <a:pt x="9510" y="17169"/>
                  <a:pt x="9608" y="17190"/>
                  <a:pt x="9723" y="17190"/>
                </a:cubicBezTo>
                <a:cubicBezTo>
                  <a:pt x="9840" y="17190"/>
                  <a:pt x="9980" y="17198"/>
                  <a:pt x="10096" y="17214"/>
                </a:cubicBezTo>
                <a:cubicBezTo>
                  <a:pt x="10229" y="17233"/>
                  <a:pt x="10357" y="17261"/>
                  <a:pt x="10492" y="17264"/>
                </a:cubicBezTo>
                <a:cubicBezTo>
                  <a:pt x="10622" y="17267"/>
                  <a:pt x="10740" y="17244"/>
                  <a:pt x="10864" y="17239"/>
                </a:cubicBezTo>
                <a:cubicBezTo>
                  <a:pt x="10986" y="17234"/>
                  <a:pt x="11110" y="17264"/>
                  <a:pt x="11237" y="17264"/>
                </a:cubicBezTo>
                <a:cubicBezTo>
                  <a:pt x="11333" y="17264"/>
                  <a:pt x="11414" y="17242"/>
                  <a:pt x="11509" y="17239"/>
                </a:cubicBezTo>
                <a:cubicBezTo>
                  <a:pt x="11640" y="17234"/>
                  <a:pt x="11889" y="17218"/>
                  <a:pt x="11981" y="17264"/>
                </a:cubicBezTo>
              </a:path>
              <a:path w="9972" h="8856">
                <a:moveTo>
                  <a:pt x="10021" y="12526"/>
                </a:moveTo>
                <a:cubicBezTo>
                  <a:pt x="10005" y="12575"/>
                  <a:pt x="10008" y="12619"/>
                  <a:pt x="9996" y="12675"/>
                </a:cubicBezTo>
                <a:cubicBezTo>
                  <a:pt x="9985" y="12730"/>
                  <a:pt x="9973" y="12764"/>
                  <a:pt x="9971" y="12824"/>
                </a:cubicBezTo>
                <a:cubicBezTo>
                  <a:pt x="9966" y="12968"/>
                  <a:pt x="9982" y="13118"/>
                  <a:pt x="9996" y="13246"/>
                </a:cubicBezTo>
                <a:cubicBezTo>
                  <a:pt x="10004" y="13317"/>
                  <a:pt x="9977" y="13381"/>
                  <a:pt x="9971" y="13444"/>
                </a:cubicBezTo>
                <a:cubicBezTo>
                  <a:pt x="9949" y="13689"/>
                  <a:pt x="9972" y="13955"/>
                  <a:pt x="9947" y="14188"/>
                </a:cubicBezTo>
                <a:cubicBezTo>
                  <a:pt x="9925" y="14392"/>
                  <a:pt x="9943" y="14609"/>
                  <a:pt x="9922" y="14808"/>
                </a:cubicBezTo>
                <a:cubicBezTo>
                  <a:pt x="9914" y="14882"/>
                  <a:pt x="9905" y="14971"/>
                  <a:pt x="9897" y="15032"/>
                </a:cubicBezTo>
                <a:cubicBezTo>
                  <a:pt x="9883" y="15144"/>
                  <a:pt x="9866" y="15336"/>
                  <a:pt x="9872" y="15429"/>
                </a:cubicBezTo>
                <a:cubicBezTo>
                  <a:pt x="9876" y="15496"/>
                  <a:pt x="9887" y="15492"/>
                  <a:pt x="9872" y="15553"/>
                </a:cubicBezTo>
                <a:cubicBezTo>
                  <a:pt x="9889" y="15604"/>
                  <a:pt x="9894" y="15612"/>
                  <a:pt x="9897" y="15677"/>
                </a:cubicBezTo>
                <a:cubicBezTo>
                  <a:pt x="9901" y="15771"/>
                  <a:pt x="9912" y="15870"/>
                  <a:pt x="9922" y="15949"/>
                </a:cubicBezTo>
                <a:cubicBezTo>
                  <a:pt x="9929" y="16002"/>
                  <a:pt x="9941" y="16047"/>
                  <a:pt x="9947" y="16098"/>
                </a:cubicBezTo>
                <a:cubicBezTo>
                  <a:pt x="9952" y="16144"/>
                  <a:pt x="9947" y="16312"/>
                  <a:pt x="9947" y="16098"/>
                </a:cubicBezTo>
              </a:path>
              <a:path w="9972" h="8856">
                <a:moveTo>
                  <a:pt x="5953" y="12229"/>
                </a:moveTo>
                <a:cubicBezTo>
                  <a:pt x="5997" y="12255"/>
                  <a:pt x="6004" y="12242"/>
                  <a:pt x="6052" y="12254"/>
                </a:cubicBezTo>
                <a:cubicBezTo>
                  <a:pt x="6198" y="12291"/>
                  <a:pt x="6347" y="12278"/>
                  <a:pt x="6499" y="12278"/>
                </a:cubicBezTo>
                <a:cubicBezTo>
                  <a:pt x="6676" y="12278"/>
                  <a:pt x="6848" y="12269"/>
                  <a:pt x="7020" y="12254"/>
                </a:cubicBezTo>
                <a:cubicBezTo>
                  <a:pt x="7156" y="12242"/>
                  <a:pt x="7289" y="12262"/>
                  <a:pt x="7417" y="12278"/>
                </a:cubicBezTo>
                <a:cubicBezTo>
                  <a:pt x="7524" y="12292"/>
                  <a:pt x="7662" y="12299"/>
                  <a:pt x="7764" y="12328"/>
                </a:cubicBezTo>
                <a:cubicBezTo>
                  <a:pt x="7798" y="12362"/>
                  <a:pt x="7819" y="12370"/>
                  <a:pt x="7863" y="12353"/>
                </a:cubicBezTo>
              </a:path>
              <a:path w="9972" h="8856">
                <a:moveTo>
                  <a:pt x="6102" y="12303"/>
                </a:moveTo>
                <a:cubicBezTo>
                  <a:pt x="6090" y="12340"/>
                  <a:pt x="6104" y="12332"/>
                  <a:pt x="6176" y="12353"/>
                </a:cubicBezTo>
                <a:cubicBezTo>
                  <a:pt x="6315" y="12393"/>
                  <a:pt x="6481" y="12392"/>
                  <a:pt x="6623" y="12402"/>
                </a:cubicBezTo>
                <a:cubicBezTo>
                  <a:pt x="6767" y="12412"/>
                  <a:pt x="6906" y="12390"/>
                  <a:pt x="7045" y="12378"/>
                </a:cubicBezTo>
                <a:cubicBezTo>
                  <a:pt x="7151" y="12369"/>
                  <a:pt x="7312" y="12385"/>
                  <a:pt x="7417" y="12402"/>
                </a:cubicBezTo>
                <a:cubicBezTo>
                  <a:pt x="7504" y="12416"/>
                  <a:pt x="7574" y="12427"/>
                  <a:pt x="7665" y="12427"/>
                </a:cubicBezTo>
                <a:cubicBezTo>
                  <a:pt x="7731" y="12427"/>
                  <a:pt x="7797" y="12427"/>
                  <a:pt x="7863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7840" y="3483000"/>
            <a:ext cx="4125960" cy="1204920"/>
          </a:xfrm>
          <a:custGeom>
            <a:avLst/>
            <a:gdLst/>
            <a:ahLst/>
            <a:rect l="l" t="t" r="r" b="b"/>
            <a:pathLst>
              <a:path w="11461" h="3349">
                <a:moveTo>
                  <a:pt x="12898" y="11311"/>
                </a:moveTo>
                <a:cubicBezTo>
                  <a:pt x="12781" y="11258"/>
                  <a:pt x="12728" y="11233"/>
                  <a:pt x="12601" y="11212"/>
                </a:cubicBezTo>
                <a:cubicBezTo>
                  <a:pt x="12433" y="11184"/>
                  <a:pt x="12295" y="11186"/>
                  <a:pt x="12129" y="11212"/>
                </a:cubicBezTo>
                <a:cubicBezTo>
                  <a:pt x="11998" y="11232"/>
                  <a:pt x="12012" y="11236"/>
                  <a:pt x="11906" y="11311"/>
                </a:cubicBezTo>
                <a:cubicBezTo>
                  <a:pt x="11827" y="11367"/>
                  <a:pt x="11768" y="11419"/>
                  <a:pt x="11708" y="11485"/>
                </a:cubicBezTo>
                <a:cubicBezTo>
                  <a:pt x="11677" y="11519"/>
                  <a:pt x="11631" y="11569"/>
                  <a:pt x="11609" y="11609"/>
                </a:cubicBezTo>
                <a:cubicBezTo>
                  <a:pt x="11578" y="11666"/>
                  <a:pt x="11540" y="11744"/>
                  <a:pt x="11534" y="11807"/>
                </a:cubicBezTo>
                <a:cubicBezTo>
                  <a:pt x="11530" y="11855"/>
                  <a:pt x="11565" y="12009"/>
                  <a:pt x="11584" y="12055"/>
                </a:cubicBezTo>
                <a:cubicBezTo>
                  <a:pt x="11605" y="12107"/>
                  <a:pt x="11676" y="12147"/>
                  <a:pt x="11708" y="12179"/>
                </a:cubicBezTo>
                <a:cubicBezTo>
                  <a:pt x="11726" y="12198"/>
                  <a:pt x="11767" y="12231"/>
                  <a:pt x="11807" y="12254"/>
                </a:cubicBezTo>
                <a:cubicBezTo>
                  <a:pt x="11856" y="12282"/>
                  <a:pt x="11948" y="12311"/>
                  <a:pt x="12005" y="12328"/>
                </a:cubicBezTo>
                <a:cubicBezTo>
                  <a:pt x="12098" y="12357"/>
                  <a:pt x="12253" y="12382"/>
                  <a:pt x="12353" y="12378"/>
                </a:cubicBezTo>
                <a:cubicBezTo>
                  <a:pt x="12461" y="12374"/>
                  <a:pt x="12570" y="12374"/>
                  <a:pt x="12675" y="12378"/>
                </a:cubicBezTo>
                <a:cubicBezTo>
                  <a:pt x="12804" y="12382"/>
                  <a:pt x="12958" y="12397"/>
                  <a:pt x="13072" y="12402"/>
                </a:cubicBezTo>
                <a:cubicBezTo>
                  <a:pt x="13137" y="12405"/>
                  <a:pt x="13221" y="12423"/>
                  <a:pt x="13271" y="12427"/>
                </a:cubicBezTo>
                <a:cubicBezTo>
                  <a:pt x="13418" y="12438"/>
                  <a:pt x="13574" y="12445"/>
                  <a:pt x="13717" y="12452"/>
                </a:cubicBezTo>
                <a:cubicBezTo>
                  <a:pt x="13867" y="12460"/>
                  <a:pt x="14015" y="12471"/>
                  <a:pt x="14163" y="12477"/>
                </a:cubicBezTo>
                <a:cubicBezTo>
                  <a:pt x="14288" y="12482"/>
                  <a:pt x="14439" y="12506"/>
                  <a:pt x="14560" y="12502"/>
                </a:cubicBezTo>
                <a:cubicBezTo>
                  <a:pt x="14665" y="12499"/>
                  <a:pt x="14777" y="12508"/>
                  <a:pt x="14883" y="12502"/>
                </a:cubicBezTo>
                <a:cubicBezTo>
                  <a:pt x="14985" y="12496"/>
                  <a:pt x="15076" y="12479"/>
                  <a:pt x="15180" y="12477"/>
                </a:cubicBezTo>
                <a:cubicBezTo>
                  <a:pt x="15519" y="12471"/>
                  <a:pt x="15867" y="12470"/>
                  <a:pt x="16197" y="12452"/>
                </a:cubicBezTo>
                <a:cubicBezTo>
                  <a:pt x="16403" y="12441"/>
                  <a:pt x="16617" y="12436"/>
                  <a:pt x="16818" y="12427"/>
                </a:cubicBezTo>
                <a:cubicBezTo>
                  <a:pt x="17236" y="12409"/>
                  <a:pt x="17648" y="12454"/>
                  <a:pt x="18058" y="12378"/>
                </a:cubicBezTo>
                <a:cubicBezTo>
                  <a:pt x="18181" y="12355"/>
                  <a:pt x="18349" y="12327"/>
                  <a:pt x="18455" y="12254"/>
                </a:cubicBezTo>
                <a:cubicBezTo>
                  <a:pt x="18532" y="12202"/>
                  <a:pt x="18560" y="12158"/>
                  <a:pt x="18604" y="12080"/>
                </a:cubicBezTo>
                <a:cubicBezTo>
                  <a:pt x="18657" y="11987"/>
                  <a:pt x="18680" y="11779"/>
                  <a:pt x="18628" y="11683"/>
                </a:cubicBezTo>
                <a:cubicBezTo>
                  <a:pt x="18601" y="11634"/>
                  <a:pt x="18549" y="11586"/>
                  <a:pt x="18504" y="11559"/>
                </a:cubicBezTo>
                <a:cubicBezTo>
                  <a:pt x="18387" y="11490"/>
                  <a:pt x="18211" y="11461"/>
                  <a:pt x="18083" y="11410"/>
                </a:cubicBezTo>
                <a:cubicBezTo>
                  <a:pt x="17904" y="11339"/>
                  <a:pt x="17721" y="11288"/>
                  <a:pt x="17537" y="11237"/>
                </a:cubicBezTo>
                <a:cubicBezTo>
                  <a:pt x="17242" y="11155"/>
                  <a:pt x="16924" y="11071"/>
                  <a:pt x="16619" y="11063"/>
                </a:cubicBezTo>
                <a:cubicBezTo>
                  <a:pt x="16443" y="11058"/>
                  <a:pt x="16273" y="11045"/>
                  <a:pt x="16098" y="11038"/>
                </a:cubicBezTo>
                <a:cubicBezTo>
                  <a:pt x="15864" y="11029"/>
                  <a:pt x="15633" y="11053"/>
                  <a:pt x="15404" y="11063"/>
                </a:cubicBezTo>
                <a:cubicBezTo>
                  <a:pt x="15229" y="11071"/>
                  <a:pt x="15057" y="11080"/>
                  <a:pt x="14883" y="11088"/>
                </a:cubicBezTo>
                <a:cubicBezTo>
                  <a:pt x="14716" y="11096"/>
                  <a:pt x="14553" y="11106"/>
                  <a:pt x="14387" y="11112"/>
                </a:cubicBezTo>
                <a:cubicBezTo>
                  <a:pt x="14138" y="11120"/>
                  <a:pt x="13890" y="11126"/>
                  <a:pt x="13643" y="11137"/>
                </a:cubicBezTo>
                <a:cubicBezTo>
                  <a:pt x="13470" y="11145"/>
                  <a:pt x="13295" y="11137"/>
                  <a:pt x="13122" y="11137"/>
                </a:cubicBezTo>
              </a:path>
              <a:path w="11461" h="3349">
                <a:moveTo>
                  <a:pt x="12626" y="11187"/>
                </a:moveTo>
                <a:cubicBezTo>
                  <a:pt x="12642" y="11136"/>
                  <a:pt x="12742" y="11162"/>
                  <a:pt x="12799" y="11162"/>
                </a:cubicBezTo>
                <a:cubicBezTo>
                  <a:pt x="12931" y="11162"/>
                  <a:pt x="13045" y="11162"/>
                  <a:pt x="13171" y="11187"/>
                </a:cubicBezTo>
                <a:cubicBezTo>
                  <a:pt x="13217" y="11196"/>
                  <a:pt x="13231" y="11168"/>
                  <a:pt x="13246" y="11212"/>
                </a:cubicBezTo>
              </a:path>
              <a:path w="11461" h="3349">
                <a:moveTo>
                  <a:pt x="21530" y="11311"/>
                </a:moveTo>
                <a:cubicBezTo>
                  <a:pt x="21405" y="11401"/>
                  <a:pt x="21285" y="11404"/>
                  <a:pt x="21134" y="11410"/>
                </a:cubicBezTo>
                <a:cubicBezTo>
                  <a:pt x="21026" y="11415"/>
                  <a:pt x="21062" y="11679"/>
                  <a:pt x="21059" y="11757"/>
                </a:cubicBezTo>
                <a:cubicBezTo>
                  <a:pt x="21059" y="11765"/>
                  <a:pt x="21059" y="11774"/>
                  <a:pt x="21059" y="11782"/>
                </a:cubicBezTo>
                <a:cubicBezTo>
                  <a:pt x="21177" y="11753"/>
                  <a:pt x="21190" y="11666"/>
                  <a:pt x="21357" y="11683"/>
                </a:cubicBezTo>
                <a:cubicBezTo>
                  <a:pt x="21474" y="11730"/>
                  <a:pt x="21512" y="11740"/>
                  <a:pt x="21530" y="11832"/>
                </a:cubicBezTo>
                <a:cubicBezTo>
                  <a:pt x="21359" y="12037"/>
                  <a:pt x="21272" y="12128"/>
                  <a:pt x="21010" y="12055"/>
                </a:cubicBezTo>
                <a:cubicBezTo>
                  <a:pt x="21002" y="12055"/>
                  <a:pt x="20993" y="12055"/>
                  <a:pt x="20985" y="12055"/>
                </a:cubicBezTo>
              </a:path>
              <a:path w="11461" h="3349">
                <a:moveTo>
                  <a:pt x="20241" y="12849"/>
                </a:moveTo>
                <a:cubicBezTo>
                  <a:pt x="20219" y="12805"/>
                  <a:pt x="20164" y="12902"/>
                  <a:pt x="20141" y="12948"/>
                </a:cubicBezTo>
                <a:cubicBezTo>
                  <a:pt x="20257" y="12937"/>
                  <a:pt x="20274" y="12949"/>
                  <a:pt x="20216" y="12849"/>
                </a:cubicBezTo>
              </a:path>
              <a:path w="11461" h="3349">
                <a:moveTo>
                  <a:pt x="20613" y="12328"/>
                </a:moveTo>
                <a:cubicBezTo>
                  <a:pt x="20667" y="12292"/>
                  <a:pt x="20798" y="12425"/>
                  <a:pt x="20836" y="12502"/>
                </a:cubicBezTo>
                <a:cubicBezTo>
                  <a:pt x="20943" y="12716"/>
                  <a:pt x="20653" y="12818"/>
                  <a:pt x="20489" y="12824"/>
                </a:cubicBezTo>
                <a:cubicBezTo>
                  <a:pt x="20481" y="12816"/>
                  <a:pt x="20472" y="12807"/>
                  <a:pt x="20464" y="12799"/>
                </a:cubicBezTo>
                <a:cubicBezTo>
                  <a:pt x="20624" y="12661"/>
                  <a:pt x="20632" y="12654"/>
                  <a:pt x="20786" y="12799"/>
                </a:cubicBezTo>
                <a:cubicBezTo>
                  <a:pt x="20829" y="12842"/>
                  <a:pt x="20848" y="12828"/>
                  <a:pt x="20861" y="12725"/>
                </a:cubicBezTo>
              </a:path>
              <a:path w="11461" h="3349">
                <a:moveTo>
                  <a:pt x="20985" y="12353"/>
                </a:moveTo>
                <a:cubicBezTo>
                  <a:pt x="20991" y="12455"/>
                  <a:pt x="20964" y="12605"/>
                  <a:pt x="21084" y="12626"/>
                </a:cubicBezTo>
                <a:cubicBezTo>
                  <a:pt x="21183" y="12643"/>
                  <a:pt x="21287" y="12600"/>
                  <a:pt x="21382" y="12576"/>
                </a:cubicBezTo>
              </a:path>
              <a:path w="11461" h="3349">
                <a:moveTo>
                  <a:pt x="21431" y="12278"/>
                </a:moveTo>
                <a:cubicBezTo>
                  <a:pt x="21367" y="12468"/>
                  <a:pt x="21420" y="12656"/>
                  <a:pt x="21456" y="12849"/>
                </a:cubicBezTo>
                <a:cubicBezTo>
                  <a:pt x="21474" y="12940"/>
                  <a:pt x="21483" y="12947"/>
                  <a:pt x="21481" y="12998"/>
                </a:cubicBezTo>
              </a:path>
              <a:path w="11461" h="3349">
                <a:moveTo>
                  <a:pt x="21630" y="11485"/>
                </a:moveTo>
                <a:cubicBezTo>
                  <a:pt x="21354" y="11869"/>
                  <a:pt x="21071" y="12243"/>
                  <a:pt x="20762" y="12601"/>
                </a:cubicBezTo>
                <a:cubicBezTo>
                  <a:pt x="20716" y="12654"/>
                  <a:pt x="20412" y="12988"/>
                  <a:pt x="20389" y="13022"/>
                </a:cubicBezTo>
              </a:path>
              <a:path w="11461" h="3349">
                <a:moveTo>
                  <a:pt x="20241" y="11410"/>
                </a:moveTo>
                <a:cubicBezTo>
                  <a:pt x="20407" y="11626"/>
                  <a:pt x="20608" y="11808"/>
                  <a:pt x="20811" y="12005"/>
                </a:cubicBezTo>
                <a:cubicBezTo>
                  <a:pt x="21076" y="12262"/>
                  <a:pt x="21324" y="12534"/>
                  <a:pt x="21580" y="12799"/>
                </a:cubicBezTo>
                <a:cubicBezTo>
                  <a:pt x="21648" y="12869"/>
                  <a:pt x="21664" y="12864"/>
                  <a:pt x="21704" y="12898"/>
                </a:cubicBezTo>
              </a:path>
              <a:path w="11461" h="3349">
                <a:moveTo>
                  <a:pt x="10244" y="9798"/>
                </a:moveTo>
                <a:cubicBezTo>
                  <a:pt x="10292" y="9770"/>
                  <a:pt x="10379" y="9750"/>
                  <a:pt x="10468" y="9748"/>
                </a:cubicBezTo>
                <a:cubicBezTo>
                  <a:pt x="10612" y="9744"/>
                  <a:pt x="10721" y="9736"/>
                  <a:pt x="10864" y="9748"/>
                </a:cubicBezTo>
                <a:cubicBezTo>
                  <a:pt x="11001" y="9759"/>
                  <a:pt x="11128" y="9736"/>
                  <a:pt x="11261" y="9723"/>
                </a:cubicBezTo>
                <a:cubicBezTo>
                  <a:pt x="11474" y="9702"/>
                  <a:pt x="11694" y="9717"/>
                  <a:pt x="11906" y="9699"/>
                </a:cubicBezTo>
                <a:cubicBezTo>
                  <a:pt x="12136" y="9680"/>
                  <a:pt x="12372" y="9691"/>
                  <a:pt x="12601" y="9674"/>
                </a:cubicBezTo>
                <a:cubicBezTo>
                  <a:pt x="12690" y="9667"/>
                  <a:pt x="12784" y="9674"/>
                  <a:pt x="12874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5375160"/>
            <a:ext cx="1982520" cy="179640"/>
          </a:xfrm>
          <a:custGeom>
            <a:avLst/>
            <a:gdLst/>
            <a:ahLst/>
            <a:rect l="l" t="t" r="r" b="b"/>
            <a:pathLst>
              <a:path w="5507" h="498">
                <a:moveTo>
                  <a:pt x="15925" y="15081"/>
                </a:moveTo>
                <a:cubicBezTo>
                  <a:pt x="15905" y="15306"/>
                  <a:pt x="15909" y="15423"/>
                  <a:pt x="15677" y="15379"/>
                </a:cubicBezTo>
              </a:path>
              <a:path w="5507" h="498">
                <a:moveTo>
                  <a:pt x="18802" y="14932"/>
                </a:moveTo>
                <a:cubicBezTo>
                  <a:pt x="18886" y="15182"/>
                  <a:pt x="18864" y="15239"/>
                  <a:pt x="18628" y="15329"/>
                </a:cubicBezTo>
              </a:path>
              <a:path w="5507" h="498">
                <a:moveTo>
                  <a:pt x="21183" y="15032"/>
                </a:moveTo>
                <a:cubicBezTo>
                  <a:pt x="21172" y="15182"/>
                  <a:pt x="21147" y="15283"/>
                  <a:pt x="21059" y="154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6640" y="4464000"/>
            <a:ext cx="1179360" cy="1411200"/>
          </a:xfrm>
          <a:custGeom>
            <a:avLst/>
            <a:gdLst/>
            <a:ahLst/>
            <a:rect l="l" t="t" r="r" b="b"/>
            <a:pathLst>
              <a:path w="3275" h="3920">
                <a:moveTo>
                  <a:pt x="12328" y="14263"/>
                </a:moveTo>
                <a:cubicBezTo>
                  <a:pt x="12341" y="14223"/>
                  <a:pt x="12375" y="14217"/>
                  <a:pt x="12427" y="14213"/>
                </a:cubicBezTo>
                <a:cubicBezTo>
                  <a:pt x="12435" y="14213"/>
                  <a:pt x="12444" y="14213"/>
                  <a:pt x="12452" y="14213"/>
                </a:cubicBezTo>
                <a:cubicBezTo>
                  <a:pt x="12452" y="14330"/>
                  <a:pt x="12459" y="14345"/>
                  <a:pt x="12378" y="14412"/>
                </a:cubicBezTo>
                <a:cubicBezTo>
                  <a:pt x="12355" y="14434"/>
                  <a:pt x="12350" y="14442"/>
                  <a:pt x="12328" y="14436"/>
                </a:cubicBezTo>
                <a:cubicBezTo>
                  <a:pt x="12387" y="14436"/>
                  <a:pt x="12424" y="14414"/>
                  <a:pt x="12477" y="14387"/>
                </a:cubicBezTo>
                <a:cubicBezTo>
                  <a:pt x="12515" y="14462"/>
                  <a:pt x="12557" y="14529"/>
                  <a:pt x="12502" y="14610"/>
                </a:cubicBezTo>
                <a:cubicBezTo>
                  <a:pt x="12465" y="14664"/>
                  <a:pt x="12413" y="14697"/>
                  <a:pt x="12353" y="14709"/>
                </a:cubicBezTo>
              </a:path>
              <a:path w="3275" h="3920">
                <a:moveTo>
                  <a:pt x="12154" y="14734"/>
                </a:moveTo>
                <a:cubicBezTo>
                  <a:pt x="12156" y="14747"/>
                  <a:pt x="12159" y="14819"/>
                  <a:pt x="12229" y="14858"/>
                </a:cubicBezTo>
                <a:cubicBezTo>
                  <a:pt x="12342" y="14920"/>
                  <a:pt x="12435" y="14900"/>
                  <a:pt x="12551" y="14858"/>
                </a:cubicBezTo>
                <a:cubicBezTo>
                  <a:pt x="12636" y="14827"/>
                  <a:pt x="12731" y="14729"/>
                  <a:pt x="12774" y="14660"/>
                </a:cubicBezTo>
                <a:cubicBezTo>
                  <a:pt x="12830" y="14571"/>
                  <a:pt x="12860" y="14413"/>
                  <a:pt x="12849" y="14312"/>
                </a:cubicBezTo>
                <a:cubicBezTo>
                  <a:pt x="12840" y="14226"/>
                  <a:pt x="12771" y="14068"/>
                  <a:pt x="12700" y="14015"/>
                </a:cubicBezTo>
                <a:cubicBezTo>
                  <a:pt x="12631" y="13964"/>
                  <a:pt x="12508" y="13943"/>
                  <a:pt x="12427" y="13940"/>
                </a:cubicBezTo>
                <a:cubicBezTo>
                  <a:pt x="12336" y="13937"/>
                  <a:pt x="12223" y="13953"/>
                  <a:pt x="12154" y="14015"/>
                </a:cubicBezTo>
                <a:cubicBezTo>
                  <a:pt x="12018" y="14138"/>
                  <a:pt x="11949" y="14272"/>
                  <a:pt x="11981" y="14461"/>
                </a:cubicBezTo>
                <a:cubicBezTo>
                  <a:pt x="12008" y="14623"/>
                  <a:pt x="12084" y="14799"/>
                  <a:pt x="12229" y="14734"/>
                </a:cubicBezTo>
              </a:path>
              <a:path w="3275" h="3920">
                <a:moveTo>
                  <a:pt x="9575" y="14486"/>
                </a:moveTo>
                <a:cubicBezTo>
                  <a:pt x="9606" y="14478"/>
                  <a:pt x="9755" y="14420"/>
                  <a:pt x="9823" y="14412"/>
                </a:cubicBezTo>
                <a:cubicBezTo>
                  <a:pt x="9925" y="14400"/>
                  <a:pt x="10022" y="14399"/>
                  <a:pt x="10120" y="14362"/>
                </a:cubicBezTo>
                <a:cubicBezTo>
                  <a:pt x="10184" y="14337"/>
                  <a:pt x="10226" y="14337"/>
                  <a:pt x="10294" y="14337"/>
                </a:cubicBezTo>
                <a:cubicBezTo>
                  <a:pt x="10366" y="14337"/>
                  <a:pt x="10426" y="14323"/>
                  <a:pt x="10492" y="14312"/>
                </a:cubicBezTo>
                <a:cubicBezTo>
                  <a:pt x="10552" y="14302"/>
                  <a:pt x="10641" y="14294"/>
                  <a:pt x="10691" y="14288"/>
                </a:cubicBezTo>
                <a:cubicBezTo>
                  <a:pt x="10773" y="14279"/>
                  <a:pt x="10858" y="14267"/>
                  <a:pt x="10939" y="14263"/>
                </a:cubicBezTo>
                <a:cubicBezTo>
                  <a:pt x="10999" y="14260"/>
                  <a:pt x="11052" y="14241"/>
                  <a:pt x="11112" y="14238"/>
                </a:cubicBezTo>
                <a:cubicBezTo>
                  <a:pt x="11216" y="14232"/>
                  <a:pt x="11309" y="14227"/>
                  <a:pt x="11410" y="14213"/>
                </a:cubicBezTo>
                <a:cubicBezTo>
                  <a:pt x="11482" y="14203"/>
                  <a:pt x="11521" y="14228"/>
                  <a:pt x="11584" y="14238"/>
                </a:cubicBezTo>
                <a:cubicBezTo>
                  <a:pt x="11633" y="14246"/>
                  <a:pt x="11640" y="14244"/>
                  <a:pt x="11683" y="14263"/>
                </a:cubicBezTo>
                <a:cubicBezTo>
                  <a:pt x="11716" y="14278"/>
                  <a:pt x="11747" y="14277"/>
                  <a:pt x="11782" y="14288"/>
                </a:cubicBezTo>
                <a:cubicBezTo>
                  <a:pt x="11817" y="14299"/>
                  <a:pt x="11799" y="14296"/>
                  <a:pt x="11832" y="14312"/>
                </a:cubicBezTo>
              </a:path>
              <a:path w="3275" h="3920">
                <a:moveTo>
                  <a:pt x="10864" y="12427"/>
                </a:moveTo>
                <a:cubicBezTo>
                  <a:pt x="10864" y="12419"/>
                  <a:pt x="10864" y="12410"/>
                  <a:pt x="10864" y="12402"/>
                </a:cubicBezTo>
                <a:cubicBezTo>
                  <a:pt x="10853" y="12426"/>
                  <a:pt x="10822" y="12469"/>
                  <a:pt x="10815" y="12526"/>
                </a:cubicBezTo>
                <a:cubicBezTo>
                  <a:pt x="10807" y="12594"/>
                  <a:pt x="10833" y="12638"/>
                  <a:pt x="10840" y="12700"/>
                </a:cubicBezTo>
                <a:cubicBezTo>
                  <a:pt x="10850" y="12789"/>
                  <a:pt x="10843" y="12869"/>
                  <a:pt x="10864" y="12948"/>
                </a:cubicBezTo>
                <a:cubicBezTo>
                  <a:pt x="10873" y="12983"/>
                  <a:pt x="10884" y="13014"/>
                  <a:pt x="10889" y="13047"/>
                </a:cubicBezTo>
                <a:cubicBezTo>
                  <a:pt x="10902" y="13135"/>
                  <a:pt x="10872" y="13215"/>
                  <a:pt x="10864" y="13295"/>
                </a:cubicBezTo>
                <a:cubicBezTo>
                  <a:pt x="10854" y="13393"/>
                  <a:pt x="10849" y="13508"/>
                  <a:pt x="10840" y="13593"/>
                </a:cubicBezTo>
                <a:cubicBezTo>
                  <a:pt x="10838" y="13617"/>
                  <a:pt x="10814" y="13728"/>
                  <a:pt x="10815" y="13742"/>
                </a:cubicBezTo>
                <a:cubicBezTo>
                  <a:pt x="10820" y="13805"/>
                  <a:pt x="10838" y="13845"/>
                  <a:pt x="10840" y="13915"/>
                </a:cubicBezTo>
                <a:cubicBezTo>
                  <a:pt x="10843" y="14012"/>
                  <a:pt x="10823" y="14095"/>
                  <a:pt x="10815" y="14188"/>
                </a:cubicBezTo>
                <a:cubicBezTo>
                  <a:pt x="10808" y="14270"/>
                  <a:pt x="10796" y="14360"/>
                  <a:pt x="10790" y="14436"/>
                </a:cubicBezTo>
                <a:cubicBezTo>
                  <a:pt x="10785" y="14499"/>
                  <a:pt x="10771" y="14551"/>
                  <a:pt x="10765" y="14610"/>
                </a:cubicBezTo>
                <a:cubicBezTo>
                  <a:pt x="10758" y="14672"/>
                  <a:pt x="10753" y="14724"/>
                  <a:pt x="10740" y="14784"/>
                </a:cubicBezTo>
                <a:cubicBezTo>
                  <a:pt x="10729" y="14833"/>
                  <a:pt x="10721" y="14882"/>
                  <a:pt x="10716" y="14932"/>
                </a:cubicBezTo>
                <a:cubicBezTo>
                  <a:pt x="10707" y="15024"/>
                  <a:pt x="10701" y="15115"/>
                  <a:pt x="10691" y="15205"/>
                </a:cubicBezTo>
                <a:cubicBezTo>
                  <a:pt x="10673" y="15373"/>
                  <a:pt x="10698" y="15539"/>
                  <a:pt x="10716" y="15701"/>
                </a:cubicBezTo>
                <a:cubicBezTo>
                  <a:pt x="10725" y="15780"/>
                  <a:pt x="10756" y="15847"/>
                  <a:pt x="10765" y="15925"/>
                </a:cubicBezTo>
                <a:cubicBezTo>
                  <a:pt x="10772" y="15983"/>
                  <a:pt x="10778" y="16018"/>
                  <a:pt x="10790" y="16073"/>
                </a:cubicBezTo>
                <a:cubicBezTo>
                  <a:pt x="10803" y="16134"/>
                  <a:pt x="10825" y="16192"/>
                  <a:pt x="10840" y="16247"/>
                </a:cubicBezTo>
                <a:cubicBezTo>
                  <a:pt x="10849" y="16282"/>
                  <a:pt x="10853" y="16263"/>
                  <a:pt x="10864" y="16297"/>
                </a:cubicBezTo>
              </a:path>
              <a:path w="3275" h="3920">
                <a:moveTo>
                  <a:pt x="12204" y="12973"/>
                </a:moveTo>
                <a:cubicBezTo>
                  <a:pt x="12158" y="12958"/>
                  <a:pt x="12183" y="12899"/>
                  <a:pt x="12229" y="12874"/>
                </a:cubicBezTo>
                <a:cubicBezTo>
                  <a:pt x="12309" y="12831"/>
                  <a:pt x="12325" y="12919"/>
                  <a:pt x="12328" y="12973"/>
                </a:cubicBezTo>
                <a:cubicBezTo>
                  <a:pt x="12333" y="13055"/>
                  <a:pt x="12282" y="13117"/>
                  <a:pt x="12278" y="13196"/>
                </a:cubicBezTo>
                <a:cubicBezTo>
                  <a:pt x="12276" y="13229"/>
                  <a:pt x="12278" y="13262"/>
                  <a:pt x="12278" y="13295"/>
                </a:cubicBezTo>
                <a:cubicBezTo>
                  <a:pt x="12278" y="13255"/>
                  <a:pt x="12284" y="13215"/>
                  <a:pt x="12328" y="13196"/>
                </a:cubicBezTo>
                <a:cubicBezTo>
                  <a:pt x="12390" y="13168"/>
                  <a:pt x="12441" y="13240"/>
                  <a:pt x="12502" y="13221"/>
                </a:cubicBezTo>
                <a:cubicBezTo>
                  <a:pt x="12533" y="13211"/>
                  <a:pt x="12544" y="13191"/>
                  <a:pt x="12551" y="13171"/>
                </a:cubicBezTo>
              </a:path>
              <a:path w="3275" h="3920">
                <a:moveTo>
                  <a:pt x="12179" y="13395"/>
                </a:moveTo>
                <a:cubicBezTo>
                  <a:pt x="12179" y="13499"/>
                  <a:pt x="12237" y="13486"/>
                  <a:pt x="12328" y="13494"/>
                </a:cubicBezTo>
                <a:cubicBezTo>
                  <a:pt x="12437" y="13503"/>
                  <a:pt x="12485" y="13472"/>
                  <a:pt x="12576" y="13419"/>
                </a:cubicBezTo>
                <a:cubicBezTo>
                  <a:pt x="12665" y="13368"/>
                  <a:pt x="12706" y="13273"/>
                  <a:pt x="12725" y="13171"/>
                </a:cubicBezTo>
                <a:cubicBezTo>
                  <a:pt x="12745" y="13060"/>
                  <a:pt x="12703" y="13007"/>
                  <a:pt x="12650" y="12923"/>
                </a:cubicBezTo>
                <a:cubicBezTo>
                  <a:pt x="12610" y="12860"/>
                  <a:pt x="12545" y="12835"/>
                  <a:pt x="12477" y="12799"/>
                </a:cubicBezTo>
                <a:cubicBezTo>
                  <a:pt x="12435" y="12776"/>
                  <a:pt x="12387" y="12792"/>
                  <a:pt x="12353" y="12774"/>
                </a:cubicBezTo>
                <a:cubicBezTo>
                  <a:pt x="12308" y="12750"/>
                  <a:pt x="12257" y="12750"/>
                  <a:pt x="12204" y="12774"/>
                </a:cubicBezTo>
                <a:cubicBezTo>
                  <a:pt x="12122" y="12812"/>
                  <a:pt x="12130" y="12827"/>
                  <a:pt x="12080" y="12923"/>
                </a:cubicBezTo>
                <a:cubicBezTo>
                  <a:pt x="12022" y="13034"/>
                  <a:pt x="12091" y="13110"/>
                  <a:pt x="12105" y="13221"/>
                </a:cubicBezTo>
                <a:cubicBezTo>
                  <a:pt x="12119" y="13339"/>
                  <a:pt x="12136" y="13344"/>
                  <a:pt x="12179" y="13419"/>
                </a:cubicBezTo>
                <a:cubicBezTo>
                  <a:pt x="12179" y="13444"/>
                  <a:pt x="12179" y="13452"/>
                  <a:pt x="12204" y="13444"/>
                </a:cubicBezTo>
              </a:path>
              <a:path w="3275" h="3920">
                <a:moveTo>
                  <a:pt x="12378" y="15553"/>
                </a:moveTo>
                <a:cubicBezTo>
                  <a:pt x="12432" y="15635"/>
                  <a:pt x="12427" y="15703"/>
                  <a:pt x="12427" y="15801"/>
                </a:cubicBezTo>
                <a:cubicBezTo>
                  <a:pt x="12427" y="15825"/>
                  <a:pt x="12427" y="15833"/>
                  <a:pt x="12452" y="15825"/>
                </a:cubicBezTo>
              </a:path>
              <a:path w="3275" h="3920">
                <a:moveTo>
                  <a:pt x="12303" y="15949"/>
                </a:moveTo>
                <a:cubicBezTo>
                  <a:pt x="12361" y="15995"/>
                  <a:pt x="12423" y="16018"/>
                  <a:pt x="12502" y="15999"/>
                </a:cubicBezTo>
                <a:cubicBezTo>
                  <a:pt x="12570" y="15983"/>
                  <a:pt x="12660" y="15864"/>
                  <a:pt x="12675" y="15801"/>
                </a:cubicBezTo>
                <a:cubicBezTo>
                  <a:pt x="12692" y="15726"/>
                  <a:pt x="12678" y="15624"/>
                  <a:pt x="12650" y="15553"/>
                </a:cubicBezTo>
                <a:cubicBezTo>
                  <a:pt x="12625" y="15488"/>
                  <a:pt x="12583" y="15438"/>
                  <a:pt x="12526" y="15404"/>
                </a:cubicBezTo>
                <a:cubicBezTo>
                  <a:pt x="12479" y="15376"/>
                  <a:pt x="12407" y="15362"/>
                  <a:pt x="12353" y="15379"/>
                </a:cubicBezTo>
                <a:cubicBezTo>
                  <a:pt x="12294" y="15397"/>
                  <a:pt x="12255" y="15421"/>
                  <a:pt x="12229" y="15478"/>
                </a:cubicBezTo>
                <a:cubicBezTo>
                  <a:pt x="12183" y="15581"/>
                  <a:pt x="12199" y="15697"/>
                  <a:pt x="12229" y="15801"/>
                </a:cubicBezTo>
                <a:cubicBezTo>
                  <a:pt x="12254" y="15887"/>
                  <a:pt x="12297" y="15955"/>
                  <a:pt x="12378" y="15999"/>
                </a:cubicBezTo>
                <a:cubicBezTo>
                  <a:pt x="12402" y="15999"/>
                  <a:pt x="12410" y="15999"/>
                  <a:pt x="12402" y="159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7960" y="5099040"/>
            <a:ext cx="403200" cy="349200"/>
          </a:xfrm>
          <a:custGeom>
            <a:avLst/>
            <a:gdLst/>
            <a:ahLst/>
            <a:rect l="l" t="t" r="r" b="b"/>
            <a:pathLst>
              <a:path w="1117" h="969">
                <a:moveTo>
                  <a:pt x="14709" y="14263"/>
                </a:moveTo>
                <a:cubicBezTo>
                  <a:pt x="14672" y="14151"/>
                  <a:pt x="14502" y="14352"/>
                  <a:pt x="14486" y="14387"/>
                </a:cubicBezTo>
                <a:cubicBezTo>
                  <a:pt x="14398" y="14576"/>
                  <a:pt x="14423" y="14747"/>
                  <a:pt x="14461" y="14932"/>
                </a:cubicBezTo>
                <a:cubicBezTo>
                  <a:pt x="14661" y="14944"/>
                  <a:pt x="14810" y="14888"/>
                  <a:pt x="14858" y="14660"/>
                </a:cubicBezTo>
                <a:cubicBezTo>
                  <a:pt x="14905" y="14441"/>
                  <a:pt x="14784" y="14325"/>
                  <a:pt x="14635" y="14213"/>
                </a:cubicBezTo>
                <a:cubicBezTo>
                  <a:pt x="14584" y="14175"/>
                  <a:pt x="14596" y="14174"/>
                  <a:pt x="14585" y="14238"/>
                </a:cubicBezTo>
              </a:path>
              <a:path w="1117" h="969">
                <a:moveTo>
                  <a:pt x="15007" y="14932"/>
                </a:moveTo>
                <a:cubicBezTo>
                  <a:pt x="15007" y="14958"/>
                  <a:pt x="15007" y="15091"/>
                  <a:pt x="15007" y="15032"/>
                </a:cubicBezTo>
                <a:cubicBezTo>
                  <a:pt x="15007" y="15007"/>
                  <a:pt x="15007" y="14982"/>
                  <a:pt x="15007" y="14957"/>
                </a:cubicBezTo>
              </a:path>
              <a:path w="1117" h="969">
                <a:moveTo>
                  <a:pt x="15230" y="14461"/>
                </a:moveTo>
                <a:cubicBezTo>
                  <a:pt x="15230" y="14570"/>
                  <a:pt x="15235" y="14597"/>
                  <a:pt x="15205" y="14660"/>
                </a:cubicBezTo>
                <a:cubicBezTo>
                  <a:pt x="15302" y="14660"/>
                  <a:pt x="15385" y="14694"/>
                  <a:pt x="15478" y="14709"/>
                </a:cubicBezTo>
                <a:cubicBezTo>
                  <a:pt x="15520" y="14709"/>
                  <a:pt x="15536" y="14717"/>
                  <a:pt x="15528" y="14684"/>
                </a:cubicBezTo>
              </a:path>
              <a:path w="1117" h="969">
                <a:moveTo>
                  <a:pt x="15453" y="14163"/>
                </a:moveTo>
                <a:cubicBezTo>
                  <a:pt x="15477" y="14397"/>
                  <a:pt x="15500" y="14622"/>
                  <a:pt x="15503" y="14858"/>
                </a:cubicBezTo>
                <a:cubicBezTo>
                  <a:pt x="15503" y="15007"/>
                  <a:pt x="15503" y="15040"/>
                  <a:pt x="15503" y="1513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75200" y="5106960"/>
            <a:ext cx="804960" cy="314280"/>
          </a:xfrm>
          <a:custGeom>
            <a:avLst/>
            <a:gdLst/>
            <a:ahLst/>
            <a:rect l="l" t="t" r="r" b="b"/>
            <a:pathLst>
              <a:path w="2234" h="869">
                <a:moveTo>
                  <a:pt x="16495" y="14312"/>
                </a:moveTo>
                <a:cubicBezTo>
                  <a:pt x="16356" y="14452"/>
                  <a:pt x="16274" y="14699"/>
                  <a:pt x="16321" y="14908"/>
                </a:cubicBezTo>
                <a:cubicBezTo>
                  <a:pt x="16393" y="15027"/>
                  <a:pt x="16412" y="15067"/>
                  <a:pt x="16520" y="15056"/>
                </a:cubicBezTo>
                <a:cubicBezTo>
                  <a:pt x="16675" y="14867"/>
                  <a:pt x="16855" y="14592"/>
                  <a:pt x="16619" y="14362"/>
                </a:cubicBezTo>
                <a:cubicBezTo>
                  <a:pt x="16521" y="14323"/>
                  <a:pt x="16508" y="14306"/>
                  <a:pt x="16446" y="14312"/>
                </a:cubicBezTo>
              </a:path>
              <a:path w="2234" h="869">
                <a:moveTo>
                  <a:pt x="17066" y="14833"/>
                </a:moveTo>
                <a:cubicBezTo>
                  <a:pt x="17074" y="14890"/>
                  <a:pt x="17087" y="15077"/>
                  <a:pt x="17066" y="14908"/>
                </a:cubicBezTo>
              </a:path>
              <a:path w="2234" h="869">
                <a:moveTo>
                  <a:pt x="17314" y="14387"/>
                </a:moveTo>
                <a:cubicBezTo>
                  <a:pt x="17314" y="14447"/>
                  <a:pt x="17256" y="14617"/>
                  <a:pt x="17289" y="14660"/>
                </a:cubicBezTo>
                <a:cubicBezTo>
                  <a:pt x="17348" y="14735"/>
                  <a:pt x="17539" y="14670"/>
                  <a:pt x="17611" y="14660"/>
                </a:cubicBezTo>
              </a:path>
              <a:path w="2234" h="869">
                <a:moveTo>
                  <a:pt x="17562" y="14188"/>
                </a:moveTo>
                <a:cubicBezTo>
                  <a:pt x="17562" y="14396"/>
                  <a:pt x="17600" y="14600"/>
                  <a:pt x="17587" y="14808"/>
                </a:cubicBezTo>
                <a:cubicBezTo>
                  <a:pt x="17569" y="14916"/>
                  <a:pt x="17561" y="14923"/>
                  <a:pt x="17562" y="14982"/>
                </a:cubicBezTo>
              </a:path>
              <a:path w="2234" h="869">
                <a:moveTo>
                  <a:pt x="17859" y="14263"/>
                </a:moveTo>
                <a:cubicBezTo>
                  <a:pt x="17884" y="14487"/>
                  <a:pt x="17884" y="14706"/>
                  <a:pt x="17884" y="14932"/>
                </a:cubicBezTo>
                <a:cubicBezTo>
                  <a:pt x="17884" y="14973"/>
                  <a:pt x="17884" y="14965"/>
                  <a:pt x="17884" y="14883"/>
                </a:cubicBezTo>
              </a:path>
              <a:path w="2234" h="869">
                <a:moveTo>
                  <a:pt x="18157" y="14288"/>
                </a:moveTo>
                <a:cubicBezTo>
                  <a:pt x="18157" y="14416"/>
                  <a:pt x="18122" y="14528"/>
                  <a:pt x="18132" y="14660"/>
                </a:cubicBezTo>
                <a:cubicBezTo>
                  <a:pt x="18138" y="14738"/>
                  <a:pt x="18169" y="15032"/>
                  <a:pt x="18331" y="14982"/>
                </a:cubicBezTo>
                <a:cubicBezTo>
                  <a:pt x="18413" y="14956"/>
                  <a:pt x="18641" y="14740"/>
                  <a:pt x="18554" y="14635"/>
                </a:cubicBezTo>
                <a:cubicBezTo>
                  <a:pt x="18537" y="14635"/>
                  <a:pt x="18521" y="14635"/>
                  <a:pt x="18504" y="14635"/>
                </a:cubicBezTo>
                <a:cubicBezTo>
                  <a:pt x="18321" y="14684"/>
                  <a:pt x="18273" y="14782"/>
                  <a:pt x="18256" y="14982"/>
                </a:cubicBezTo>
                <a:cubicBezTo>
                  <a:pt x="18256" y="15048"/>
                  <a:pt x="18248" y="15073"/>
                  <a:pt x="18306" y="150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92920" y="5099040"/>
            <a:ext cx="59040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19323" y="14238"/>
                </a:moveTo>
                <a:cubicBezTo>
                  <a:pt x="19247" y="14200"/>
                  <a:pt x="19189" y="14605"/>
                  <a:pt x="19174" y="14684"/>
                </a:cubicBezTo>
                <a:cubicBezTo>
                  <a:pt x="19151" y="14841"/>
                  <a:pt x="19133" y="14885"/>
                  <a:pt x="19224" y="14957"/>
                </a:cubicBezTo>
                <a:cubicBezTo>
                  <a:pt x="19481" y="14854"/>
                  <a:pt x="19579" y="14687"/>
                  <a:pt x="19496" y="14387"/>
                </a:cubicBezTo>
                <a:cubicBezTo>
                  <a:pt x="19455" y="14237"/>
                  <a:pt x="19396" y="14227"/>
                  <a:pt x="19323" y="14288"/>
                </a:cubicBezTo>
              </a:path>
              <a:path w="1638" h="795">
                <a:moveTo>
                  <a:pt x="19720" y="14833"/>
                </a:moveTo>
                <a:cubicBezTo>
                  <a:pt x="19723" y="14845"/>
                  <a:pt x="19745" y="15036"/>
                  <a:pt x="19745" y="14908"/>
                </a:cubicBezTo>
              </a:path>
              <a:path w="1638" h="795">
                <a:moveTo>
                  <a:pt x="20340" y="14387"/>
                </a:moveTo>
                <a:cubicBezTo>
                  <a:pt x="20284" y="14239"/>
                  <a:pt x="20280" y="14228"/>
                  <a:pt x="20141" y="14163"/>
                </a:cubicBezTo>
                <a:cubicBezTo>
                  <a:pt x="20109" y="14210"/>
                  <a:pt x="19892" y="14651"/>
                  <a:pt x="20141" y="14560"/>
                </a:cubicBezTo>
                <a:cubicBezTo>
                  <a:pt x="20263" y="14516"/>
                  <a:pt x="20304" y="14341"/>
                  <a:pt x="20340" y="14238"/>
                </a:cubicBezTo>
                <a:cubicBezTo>
                  <a:pt x="20320" y="14417"/>
                  <a:pt x="20281" y="14601"/>
                  <a:pt x="20265" y="14784"/>
                </a:cubicBezTo>
                <a:cubicBezTo>
                  <a:pt x="20256" y="14885"/>
                  <a:pt x="20291" y="14733"/>
                  <a:pt x="20315" y="14635"/>
                </a:cubicBezTo>
              </a:path>
              <a:path w="1638" h="795">
                <a:moveTo>
                  <a:pt x="20538" y="14213"/>
                </a:moveTo>
                <a:cubicBezTo>
                  <a:pt x="20713" y="14096"/>
                  <a:pt x="20794" y="14271"/>
                  <a:pt x="20786" y="14461"/>
                </a:cubicBezTo>
                <a:cubicBezTo>
                  <a:pt x="20778" y="14638"/>
                  <a:pt x="20651" y="14876"/>
                  <a:pt x="20489" y="14734"/>
                </a:cubicBezTo>
                <a:cubicBezTo>
                  <a:pt x="20600" y="14635"/>
                  <a:pt x="20585" y="14680"/>
                  <a:pt x="20712" y="14759"/>
                </a:cubicBezTo>
                <a:cubicBezTo>
                  <a:pt x="20729" y="14767"/>
                  <a:pt x="20745" y="14776"/>
                  <a:pt x="20762" y="147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9160" y="5062680"/>
            <a:ext cx="463680" cy="28728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21828" y="14288"/>
                </a:moveTo>
                <a:cubicBezTo>
                  <a:pt x="21756" y="14477"/>
                  <a:pt x="21883" y="14193"/>
                  <a:pt x="21903" y="14163"/>
                </a:cubicBezTo>
                <a:cubicBezTo>
                  <a:pt x="22103" y="14327"/>
                  <a:pt x="22025" y="14557"/>
                  <a:pt x="21828" y="14734"/>
                </a:cubicBezTo>
                <a:cubicBezTo>
                  <a:pt x="21699" y="14798"/>
                  <a:pt x="21672" y="14823"/>
                  <a:pt x="21580" y="14808"/>
                </a:cubicBezTo>
                <a:cubicBezTo>
                  <a:pt x="21674" y="14648"/>
                  <a:pt x="21783" y="14600"/>
                  <a:pt x="21952" y="14734"/>
                </a:cubicBezTo>
                <a:cubicBezTo>
                  <a:pt x="21995" y="14797"/>
                  <a:pt x="22011" y="14809"/>
                  <a:pt x="22002" y="14858"/>
                </a:cubicBezTo>
              </a:path>
              <a:path w="1291" h="795">
                <a:moveTo>
                  <a:pt x="22225" y="14585"/>
                </a:moveTo>
                <a:cubicBezTo>
                  <a:pt x="22223" y="14590"/>
                  <a:pt x="22138" y="14843"/>
                  <a:pt x="22175" y="14734"/>
                </a:cubicBezTo>
                <a:cubicBezTo>
                  <a:pt x="22197" y="14669"/>
                  <a:pt x="22205" y="14654"/>
                  <a:pt x="22200" y="14610"/>
                </a:cubicBezTo>
              </a:path>
              <a:path w="1291" h="795">
                <a:moveTo>
                  <a:pt x="22820" y="14064"/>
                </a:moveTo>
                <a:cubicBezTo>
                  <a:pt x="22790" y="14066"/>
                  <a:pt x="22606" y="14069"/>
                  <a:pt x="22597" y="14089"/>
                </a:cubicBezTo>
                <a:cubicBezTo>
                  <a:pt x="22573" y="14142"/>
                  <a:pt x="22557" y="14230"/>
                  <a:pt x="22547" y="14288"/>
                </a:cubicBezTo>
                <a:cubicBezTo>
                  <a:pt x="22618" y="14259"/>
                  <a:pt x="22730" y="14184"/>
                  <a:pt x="22820" y="14263"/>
                </a:cubicBezTo>
                <a:cubicBezTo>
                  <a:pt x="22959" y="14386"/>
                  <a:pt x="22757" y="14619"/>
                  <a:pt x="22622" y="14635"/>
                </a:cubicBezTo>
                <a:cubicBezTo>
                  <a:pt x="22581" y="14627"/>
                  <a:pt x="22539" y="14618"/>
                  <a:pt x="22498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2320" y="4527720"/>
            <a:ext cx="303480" cy="322200"/>
          </a:xfrm>
          <a:custGeom>
            <a:avLst/>
            <a:gdLst/>
            <a:ahLst/>
            <a:rect l="l" t="t" r="r" b="b"/>
            <a:pathLst>
              <a:path w="844" h="894">
                <a:moveTo>
                  <a:pt x="1984" y="12874"/>
                </a:moveTo>
                <a:cubicBezTo>
                  <a:pt x="1882" y="12829"/>
                  <a:pt x="1860" y="12863"/>
                  <a:pt x="1811" y="12973"/>
                </a:cubicBezTo>
                <a:cubicBezTo>
                  <a:pt x="1811" y="12981"/>
                  <a:pt x="1811" y="12990"/>
                  <a:pt x="1811" y="12998"/>
                </a:cubicBezTo>
                <a:cubicBezTo>
                  <a:pt x="1952" y="13010"/>
                  <a:pt x="2089" y="13010"/>
                  <a:pt x="2009" y="13196"/>
                </a:cubicBezTo>
                <a:cubicBezTo>
                  <a:pt x="1928" y="13383"/>
                  <a:pt x="1885" y="13295"/>
                  <a:pt x="1860" y="13196"/>
                </a:cubicBezTo>
              </a:path>
              <a:path w="844" h="894">
                <a:moveTo>
                  <a:pt x="2084" y="12799"/>
                </a:moveTo>
                <a:cubicBezTo>
                  <a:pt x="2148" y="12877"/>
                  <a:pt x="2220" y="12931"/>
                  <a:pt x="2208" y="12998"/>
                </a:cubicBezTo>
              </a:path>
              <a:path w="844" h="894">
                <a:moveTo>
                  <a:pt x="2034" y="12998"/>
                </a:moveTo>
                <a:cubicBezTo>
                  <a:pt x="2128" y="12945"/>
                  <a:pt x="2233" y="12845"/>
                  <a:pt x="2307" y="12799"/>
                </a:cubicBezTo>
                <a:cubicBezTo>
                  <a:pt x="2344" y="12776"/>
                  <a:pt x="2347" y="12785"/>
                  <a:pt x="2282" y="12774"/>
                </a:cubicBezTo>
                <a:cubicBezTo>
                  <a:pt x="2188" y="12729"/>
                  <a:pt x="2233" y="12879"/>
                  <a:pt x="2307" y="12898"/>
                </a:cubicBezTo>
                <a:cubicBezTo>
                  <a:pt x="2414" y="12925"/>
                  <a:pt x="2347" y="12715"/>
                  <a:pt x="2456" y="12700"/>
                </a:cubicBezTo>
                <a:cubicBezTo>
                  <a:pt x="2472" y="12708"/>
                  <a:pt x="2489" y="12717"/>
                  <a:pt x="2505" y="12725"/>
                </a:cubicBezTo>
                <a:cubicBezTo>
                  <a:pt x="2555" y="12792"/>
                  <a:pt x="2601" y="12859"/>
                  <a:pt x="2654" y="12923"/>
                </a:cubicBezTo>
                <a:cubicBezTo>
                  <a:pt x="2515" y="12801"/>
                  <a:pt x="2468" y="12778"/>
                  <a:pt x="2480" y="12601"/>
                </a:cubicBezTo>
                <a:cubicBezTo>
                  <a:pt x="2623" y="12590"/>
                  <a:pt x="2662" y="12638"/>
                  <a:pt x="2555" y="12750"/>
                </a:cubicBezTo>
                <a:cubicBezTo>
                  <a:pt x="2530" y="12775"/>
                  <a:pt x="2505" y="12799"/>
                  <a:pt x="2480" y="12824"/>
                </a:cubicBezTo>
              </a:path>
              <a:path w="844" h="894">
                <a:moveTo>
                  <a:pt x="2381" y="13246"/>
                </a:moveTo>
                <a:cubicBezTo>
                  <a:pt x="2464" y="13318"/>
                  <a:pt x="2503" y="13521"/>
                  <a:pt x="2580" y="134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60960" y="3125880"/>
            <a:ext cx="1073160" cy="17280"/>
          </a:xfrm>
          <a:custGeom>
            <a:avLst/>
            <a:gdLst/>
            <a:ahLst/>
            <a:rect l="l" t="t" r="r" b="b"/>
            <a:pathLst>
              <a:path w="2978" h="50">
                <a:moveTo>
                  <a:pt x="14337" y="8731"/>
                </a:moveTo>
                <a:cubicBezTo>
                  <a:pt x="15134" y="8731"/>
                  <a:pt x="15984" y="8813"/>
                  <a:pt x="16768" y="8706"/>
                </a:cubicBezTo>
                <a:cubicBezTo>
                  <a:pt x="16836" y="8697"/>
                  <a:pt x="16901" y="8692"/>
                  <a:pt x="16966" y="8682"/>
                </a:cubicBezTo>
                <a:cubicBezTo>
                  <a:pt x="17074" y="8665"/>
                  <a:pt x="17204" y="8682"/>
                  <a:pt x="17314" y="86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Objective: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tudents will compare and order decim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Skill Practice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7, 0.057, 7 , 0.751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01,  6.1,  0.61,  0.9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374840"/>
            <a:ext cx="357120" cy="322200"/>
          </a:xfrm>
          <a:custGeom>
            <a:avLst/>
            <a:gdLst/>
            <a:ahLst/>
            <a:rect l="l" t="t" r="r" b="b"/>
            <a:pathLst>
              <a:path w="993" h="894">
                <a:moveTo>
                  <a:pt x="347" y="4142"/>
                </a:moveTo>
                <a:cubicBezTo>
                  <a:pt x="434" y="4079"/>
                  <a:pt x="434" y="4143"/>
                  <a:pt x="496" y="4242"/>
                </a:cubicBezTo>
                <a:cubicBezTo>
                  <a:pt x="565" y="4356"/>
                  <a:pt x="585" y="4387"/>
                  <a:pt x="620" y="4465"/>
                </a:cubicBezTo>
              </a:path>
              <a:path w="993" h="894">
                <a:moveTo>
                  <a:pt x="322" y="4589"/>
                </a:moveTo>
                <a:cubicBezTo>
                  <a:pt x="377" y="4644"/>
                  <a:pt x="459" y="4732"/>
                  <a:pt x="571" y="4713"/>
                </a:cubicBezTo>
                <a:cubicBezTo>
                  <a:pt x="690" y="4693"/>
                  <a:pt x="874" y="4561"/>
                  <a:pt x="943" y="4465"/>
                </a:cubicBezTo>
                <a:cubicBezTo>
                  <a:pt x="1029" y="4346"/>
                  <a:pt x="1013" y="4119"/>
                  <a:pt x="943" y="3994"/>
                </a:cubicBezTo>
                <a:cubicBezTo>
                  <a:pt x="890" y="3900"/>
                  <a:pt x="694" y="3836"/>
                  <a:pt x="595" y="3820"/>
                </a:cubicBezTo>
                <a:cubicBezTo>
                  <a:pt x="477" y="3801"/>
                  <a:pt x="325" y="3837"/>
                  <a:pt x="223" y="3894"/>
                </a:cubicBezTo>
                <a:cubicBezTo>
                  <a:pt x="72" y="3978"/>
                  <a:pt x="-27" y="4143"/>
                  <a:pt x="0" y="4316"/>
                </a:cubicBezTo>
                <a:cubicBezTo>
                  <a:pt x="21" y="4452"/>
                  <a:pt x="110" y="4606"/>
                  <a:pt x="223" y="4688"/>
                </a:cubicBezTo>
                <a:cubicBezTo>
                  <a:pt x="280" y="4729"/>
                  <a:pt x="294" y="4694"/>
                  <a:pt x="347" y="46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760" y="2152800"/>
            <a:ext cx="5813280" cy="1731960"/>
          </a:xfrm>
          <a:custGeom>
            <a:avLst/>
            <a:gdLst/>
            <a:ahLst/>
            <a:rect l="l" t="t" r="r" b="b"/>
            <a:pathLst>
              <a:path w="16149" h="4813">
                <a:moveTo>
                  <a:pt x="2704" y="6548"/>
                </a:moveTo>
                <a:cubicBezTo>
                  <a:pt x="2656" y="6533"/>
                  <a:pt x="2688" y="6515"/>
                  <a:pt x="2629" y="6548"/>
                </a:cubicBezTo>
                <a:cubicBezTo>
                  <a:pt x="2546" y="6595"/>
                  <a:pt x="2523" y="6609"/>
                  <a:pt x="2480" y="6697"/>
                </a:cubicBezTo>
                <a:cubicBezTo>
                  <a:pt x="2457" y="6743"/>
                  <a:pt x="2400" y="6819"/>
                  <a:pt x="2406" y="6871"/>
                </a:cubicBezTo>
                <a:cubicBezTo>
                  <a:pt x="2412" y="6924"/>
                  <a:pt x="2456" y="6997"/>
                  <a:pt x="2480" y="7045"/>
                </a:cubicBezTo>
                <a:cubicBezTo>
                  <a:pt x="2511" y="7106"/>
                  <a:pt x="2579" y="7177"/>
                  <a:pt x="2654" y="7169"/>
                </a:cubicBezTo>
                <a:cubicBezTo>
                  <a:pt x="2725" y="7161"/>
                  <a:pt x="2824" y="7090"/>
                  <a:pt x="2877" y="7045"/>
                </a:cubicBezTo>
                <a:cubicBezTo>
                  <a:pt x="2942" y="6990"/>
                  <a:pt x="2955" y="6938"/>
                  <a:pt x="3001" y="6871"/>
                </a:cubicBezTo>
                <a:cubicBezTo>
                  <a:pt x="3023" y="6839"/>
                  <a:pt x="3044" y="6766"/>
                  <a:pt x="3026" y="6722"/>
                </a:cubicBezTo>
                <a:cubicBezTo>
                  <a:pt x="3004" y="6670"/>
                  <a:pt x="2952" y="6678"/>
                  <a:pt x="2927" y="6648"/>
                </a:cubicBezTo>
                <a:cubicBezTo>
                  <a:pt x="2919" y="6638"/>
                  <a:pt x="2859" y="6608"/>
                  <a:pt x="2853" y="6598"/>
                </a:cubicBezTo>
                <a:cubicBezTo>
                  <a:pt x="2821" y="6548"/>
                  <a:pt x="2805" y="6566"/>
                  <a:pt x="2753" y="6548"/>
                </a:cubicBezTo>
                <a:cubicBezTo>
                  <a:pt x="2733" y="6541"/>
                  <a:pt x="2629" y="6468"/>
                  <a:pt x="2604" y="6499"/>
                </a:cubicBezTo>
                <a:cubicBezTo>
                  <a:pt x="2604" y="6507"/>
                  <a:pt x="2604" y="6516"/>
                  <a:pt x="2604" y="6524"/>
                </a:cubicBezTo>
              </a:path>
              <a:path w="16149" h="4813">
                <a:moveTo>
                  <a:pt x="3274" y="7020"/>
                </a:moveTo>
                <a:cubicBezTo>
                  <a:pt x="3242" y="7020"/>
                  <a:pt x="3161" y="7045"/>
                  <a:pt x="3200" y="7094"/>
                </a:cubicBezTo>
                <a:cubicBezTo>
                  <a:pt x="3223" y="7122"/>
                  <a:pt x="3244" y="7056"/>
                  <a:pt x="3249" y="7020"/>
                </a:cubicBezTo>
                <a:cubicBezTo>
                  <a:pt x="3223" y="7056"/>
                  <a:pt x="3209" y="7056"/>
                  <a:pt x="3249" y="7069"/>
                </a:cubicBezTo>
              </a:path>
              <a:path w="16149" h="4813">
                <a:moveTo>
                  <a:pt x="3497" y="6648"/>
                </a:moveTo>
                <a:cubicBezTo>
                  <a:pt x="3505" y="6656"/>
                  <a:pt x="3514" y="6664"/>
                  <a:pt x="3522" y="6672"/>
                </a:cubicBezTo>
                <a:cubicBezTo>
                  <a:pt x="3522" y="6619"/>
                  <a:pt x="3506" y="6571"/>
                  <a:pt x="3547" y="6548"/>
                </a:cubicBezTo>
                <a:cubicBezTo>
                  <a:pt x="3622" y="6506"/>
                  <a:pt x="3721" y="6474"/>
                  <a:pt x="3795" y="6449"/>
                </a:cubicBezTo>
                <a:cubicBezTo>
                  <a:pt x="3820" y="6449"/>
                  <a:pt x="3828" y="6449"/>
                  <a:pt x="3845" y="6449"/>
                </a:cubicBezTo>
                <a:cubicBezTo>
                  <a:pt x="3922" y="6475"/>
                  <a:pt x="3851" y="6801"/>
                  <a:pt x="3845" y="6846"/>
                </a:cubicBezTo>
                <a:cubicBezTo>
                  <a:pt x="3834" y="6935"/>
                  <a:pt x="3820" y="6988"/>
                  <a:pt x="3820" y="7069"/>
                </a:cubicBezTo>
              </a:path>
              <a:path w="16149" h="4813">
                <a:moveTo>
                  <a:pt x="2803" y="7441"/>
                </a:moveTo>
                <a:cubicBezTo>
                  <a:pt x="2712" y="7441"/>
                  <a:pt x="2675" y="7450"/>
                  <a:pt x="2629" y="7541"/>
                </a:cubicBezTo>
                <a:cubicBezTo>
                  <a:pt x="2565" y="7667"/>
                  <a:pt x="2495" y="7901"/>
                  <a:pt x="2555" y="8037"/>
                </a:cubicBezTo>
                <a:cubicBezTo>
                  <a:pt x="2593" y="8122"/>
                  <a:pt x="2740" y="8096"/>
                  <a:pt x="2803" y="8062"/>
                </a:cubicBezTo>
                <a:cubicBezTo>
                  <a:pt x="2929" y="7994"/>
                  <a:pt x="3004" y="7852"/>
                  <a:pt x="3026" y="7714"/>
                </a:cubicBezTo>
                <a:cubicBezTo>
                  <a:pt x="3048" y="7575"/>
                  <a:pt x="2997" y="7494"/>
                  <a:pt x="2902" y="7441"/>
                </a:cubicBezTo>
                <a:cubicBezTo>
                  <a:pt x="2846" y="7404"/>
                  <a:pt x="2842" y="7387"/>
                  <a:pt x="2803" y="7392"/>
                </a:cubicBezTo>
              </a:path>
              <a:path w="16149" h="4813">
                <a:moveTo>
                  <a:pt x="3324" y="7962"/>
                </a:moveTo>
                <a:cubicBezTo>
                  <a:pt x="3290" y="8004"/>
                  <a:pt x="3297" y="8035"/>
                  <a:pt x="3274" y="8012"/>
                </a:cubicBezTo>
                <a:cubicBezTo>
                  <a:pt x="3377" y="7840"/>
                  <a:pt x="3242" y="8113"/>
                  <a:pt x="3324" y="8062"/>
                </a:cubicBezTo>
                <a:cubicBezTo>
                  <a:pt x="3340" y="8037"/>
                  <a:pt x="3357" y="8012"/>
                  <a:pt x="3373" y="7987"/>
                </a:cubicBezTo>
              </a:path>
              <a:path w="16149" h="4813">
                <a:moveTo>
                  <a:pt x="3944" y="7541"/>
                </a:moveTo>
                <a:cubicBezTo>
                  <a:pt x="3872" y="7526"/>
                  <a:pt x="3859" y="7522"/>
                  <a:pt x="3795" y="7541"/>
                </a:cubicBezTo>
                <a:cubicBezTo>
                  <a:pt x="3729" y="7561"/>
                  <a:pt x="3704" y="7766"/>
                  <a:pt x="3696" y="7838"/>
                </a:cubicBezTo>
                <a:cubicBezTo>
                  <a:pt x="3684" y="7947"/>
                  <a:pt x="3678" y="8032"/>
                  <a:pt x="3795" y="8062"/>
                </a:cubicBezTo>
                <a:cubicBezTo>
                  <a:pt x="3903" y="8089"/>
                  <a:pt x="3992" y="7989"/>
                  <a:pt x="4043" y="7913"/>
                </a:cubicBezTo>
                <a:cubicBezTo>
                  <a:pt x="4102" y="7824"/>
                  <a:pt x="4149" y="7726"/>
                  <a:pt x="4118" y="7615"/>
                </a:cubicBezTo>
                <a:cubicBezTo>
                  <a:pt x="4105" y="7570"/>
                  <a:pt x="4007" y="7506"/>
                  <a:pt x="3969" y="7491"/>
                </a:cubicBezTo>
                <a:cubicBezTo>
                  <a:pt x="3951" y="7484"/>
                  <a:pt x="3913" y="7491"/>
                  <a:pt x="3894" y="7491"/>
                </a:cubicBezTo>
              </a:path>
              <a:path w="16149" h="4813">
                <a:moveTo>
                  <a:pt x="4614" y="7392"/>
                </a:moveTo>
                <a:cubicBezTo>
                  <a:pt x="4578" y="7395"/>
                  <a:pt x="4415" y="7393"/>
                  <a:pt x="4390" y="7417"/>
                </a:cubicBezTo>
                <a:cubicBezTo>
                  <a:pt x="4363" y="7443"/>
                  <a:pt x="4366" y="7527"/>
                  <a:pt x="4366" y="7565"/>
                </a:cubicBezTo>
                <a:cubicBezTo>
                  <a:pt x="4465" y="7565"/>
                  <a:pt x="4539" y="7527"/>
                  <a:pt x="4638" y="7565"/>
                </a:cubicBezTo>
                <a:cubicBezTo>
                  <a:pt x="4772" y="7617"/>
                  <a:pt x="4762" y="7803"/>
                  <a:pt x="4663" y="7888"/>
                </a:cubicBezTo>
                <a:cubicBezTo>
                  <a:pt x="4568" y="7969"/>
                  <a:pt x="4465" y="7971"/>
                  <a:pt x="4366" y="7913"/>
                </a:cubicBezTo>
                <a:cubicBezTo>
                  <a:pt x="4343" y="7890"/>
                  <a:pt x="4332" y="7882"/>
                  <a:pt x="4366" y="7888"/>
                </a:cubicBezTo>
              </a:path>
              <a:path w="16149" h="4813">
                <a:moveTo>
                  <a:pt x="4936" y="7342"/>
                </a:moveTo>
                <a:cubicBezTo>
                  <a:pt x="5049" y="7342"/>
                  <a:pt x="5150" y="7334"/>
                  <a:pt x="5259" y="7317"/>
                </a:cubicBezTo>
                <a:cubicBezTo>
                  <a:pt x="5283" y="7317"/>
                  <a:pt x="5292" y="7317"/>
                  <a:pt x="5308" y="7317"/>
                </a:cubicBezTo>
                <a:cubicBezTo>
                  <a:pt x="5287" y="7464"/>
                  <a:pt x="5222" y="7596"/>
                  <a:pt x="5184" y="7739"/>
                </a:cubicBezTo>
                <a:cubicBezTo>
                  <a:pt x="5166" y="7806"/>
                  <a:pt x="5135" y="7872"/>
                  <a:pt x="5135" y="7938"/>
                </a:cubicBezTo>
              </a:path>
              <a:path w="16149" h="4813">
                <a:moveTo>
                  <a:pt x="4440" y="6499"/>
                </a:moveTo>
                <a:cubicBezTo>
                  <a:pt x="4351" y="6465"/>
                  <a:pt x="4309" y="6469"/>
                  <a:pt x="4242" y="6548"/>
                </a:cubicBezTo>
                <a:cubicBezTo>
                  <a:pt x="4138" y="6670"/>
                  <a:pt x="4105" y="6751"/>
                  <a:pt x="4118" y="6896"/>
                </a:cubicBezTo>
                <a:cubicBezTo>
                  <a:pt x="4125" y="6967"/>
                  <a:pt x="4157" y="7012"/>
                  <a:pt x="4242" y="7020"/>
                </a:cubicBezTo>
                <a:cubicBezTo>
                  <a:pt x="4329" y="7028"/>
                  <a:pt x="4436" y="6965"/>
                  <a:pt x="4490" y="6896"/>
                </a:cubicBezTo>
                <a:cubicBezTo>
                  <a:pt x="4542" y="6830"/>
                  <a:pt x="4586" y="6749"/>
                  <a:pt x="4539" y="6672"/>
                </a:cubicBezTo>
                <a:cubicBezTo>
                  <a:pt x="4501" y="6610"/>
                  <a:pt x="4433" y="6554"/>
                  <a:pt x="4366" y="6548"/>
                </a:cubicBezTo>
                <a:cubicBezTo>
                  <a:pt x="4358" y="6548"/>
                  <a:pt x="4349" y="6548"/>
                  <a:pt x="4341" y="6548"/>
                </a:cubicBezTo>
              </a:path>
              <a:path w="16149" h="4813">
                <a:moveTo>
                  <a:pt x="4961" y="6548"/>
                </a:moveTo>
                <a:cubicBezTo>
                  <a:pt x="4885" y="6563"/>
                  <a:pt x="4813" y="6610"/>
                  <a:pt x="4762" y="6672"/>
                </a:cubicBezTo>
                <a:cubicBezTo>
                  <a:pt x="4717" y="6726"/>
                  <a:pt x="4676" y="6874"/>
                  <a:pt x="4713" y="6945"/>
                </a:cubicBezTo>
                <a:cubicBezTo>
                  <a:pt x="4754" y="7023"/>
                  <a:pt x="4855" y="7057"/>
                  <a:pt x="4936" y="7045"/>
                </a:cubicBezTo>
                <a:cubicBezTo>
                  <a:pt x="5029" y="7031"/>
                  <a:pt x="5108" y="6960"/>
                  <a:pt x="5135" y="6871"/>
                </a:cubicBezTo>
                <a:cubicBezTo>
                  <a:pt x="5169" y="6759"/>
                  <a:pt x="5161" y="6698"/>
                  <a:pt x="5110" y="6623"/>
                </a:cubicBezTo>
                <a:cubicBezTo>
                  <a:pt x="5044" y="6527"/>
                  <a:pt x="5019" y="6506"/>
                  <a:pt x="4961" y="6598"/>
                </a:cubicBezTo>
              </a:path>
              <a:path w="16149" h="4813">
                <a:moveTo>
                  <a:pt x="1563" y="8706"/>
                </a:moveTo>
                <a:cubicBezTo>
                  <a:pt x="1578" y="8811"/>
                  <a:pt x="1629" y="8946"/>
                  <a:pt x="1662" y="9054"/>
                </a:cubicBezTo>
                <a:cubicBezTo>
                  <a:pt x="1682" y="9094"/>
                  <a:pt x="1691" y="9100"/>
                  <a:pt x="1687" y="9128"/>
                </a:cubicBezTo>
              </a:path>
              <a:path w="16149" h="4813">
                <a:moveTo>
                  <a:pt x="1414" y="9227"/>
                </a:moveTo>
                <a:cubicBezTo>
                  <a:pt x="1433" y="9284"/>
                  <a:pt x="1547" y="9275"/>
                  <a:pt x="1612" y="9277"/>
                </a:cubicBezTo>
                <a:cubicBezTo>
                  <a:pt x="1740" y="9282"/>
                  <a:pt x="1819" y="9236"/>
                  <a:pt x="1910" y="9153"/>
                </a:cubicBezTo>
                <a:cubicBezTo>
                  <a:pt x="1947" y="9119"/>
                  <a:pt x="2036" y="9010"/>
                  <a:pt x="2034" y="8954"/>
                </a:cubicBezTo>
                <a:cubicBezTo>
                  <a:pt x="2032" y="8900"/>
                  <a:pt x="1961" y="8717"/>
                  <a:pt x="1910" y="8682"/>
                </a:cubicBezTo>
                <a:cubicBezTo>
                  <a:pt x="1842" y="8636"/>
                  <a:pt x="1744" y="8581"/>
                  <a:pt x="1662" y="8558"/>
                </a:cubicBezTo>
                <a:cubicBezTo>
                  <a:pt x="1581" y="8536"/>
                  <a:pt x="1539" y="8525"/>
                  <a:pt x="1463" y="8558"/>
                </a:cubicBezTo>
                <a:cubicBezTo>
                  <a:pt x="1414" y="8579"/>
                  <a:pt x="1350" y="8601"/>
                  <a:pt x="1315" y="8632"/>
                </a:cubicBezTo>
                <a:cubicBezTo>
                  <a:pt x="1222" y="8713"/>
                  <a:pt x="1264" y="8848"/>
                  <a:pt x="1290" y="8954"/>
                </a:cubicBezTo>
                <a:cubicBezTo>
                  <a:pt x="1322" y="9086"/>
                  <a:pt x="1390" y="9141"/>
                  <a:pt x="1488" y="9227"/>
                </a:cubicBezTo>
                <a:cubicBezTo>
                  <a:pt x="1516" y="9252"/>
                  <a:pt x="1551" y="9273"/>
                  <a:pt x="1588" y="9277"/>
                </a:cubicBezTo>
                <a:cubicBezTo>
                  <a:pt x="1638" y="9283"/>
                  <a:pt x="1649" y="9273"/>
                  <a:pt x="1662" y="9327"/>
                </a:cubicBezTo>
              </a:path>
              <a:path w="16149" h="4813">
                <a:moveTo>
                  <a:pt x="2307" y="9004"/>
                </a:moveTo>
                <a:cubicBezTo>
                  <a:pt x="2365" y="8989"/>
                  <a:pt x="2421" y="8991"/>
                  <a:pt x="2480" y="8979"/>
                </a:cubicBezTo>
                <a:cubicBezTo>
                  <a:pt x="2557" y="8964"/>
                  <a:pt x="2628" y="8966"/>
                  <a:pt x="2704" y="8954"/>
                </a:cubicBezTo>
                <a:cubicBezTo>
                  <a:pt x="2778" y="8943"/>
                  <a:pt x="2857" y="8914"/>
                  <a:pt x="2927" y="8905"/>
                </a:cubicBezTo>
                <a:cubicBezTo>
                  <a:pt x="2993" y="8897"/>
                  <a:pt x="3016" y="8887"/>
                  <a:pt x="3076" y="8880"/>
                </a:cubicBezTo>
                <a:cubicBezTo>
                  <a:pt x="3188" y="8867"/>
                  <a:pt x="3291" y="8833"/>
                  <a:pt x="3398" y="8806"/>
                </a:cubicBezTo>
                <a:cubicBezTo>
                  <a:pt x="3479" y="8785"/>
                  <a:pt x="3562" y="8777"/>
                  <a:pt x="3646" y="8756"/>
                </a:cubicBezTo>
                <a:cubicBezTo>
                  <a:pt x="3703" y="8742"/>
                  <a:pt x="3770" y="8718"/>
                  <a:pt x="3820" y="8706"/>
                </a:cubicBezTo>
                <a:cubicBezTo>
                  <a:pt x="3902" y="8687"/>
                  <a:pt x="3985" y="8679"/>
                  <a:pt x="4068" y="8657"/>
                </a:cubicBezTo>
                <a:cubicBezTo>
                  <a:pt x="4133" y="8640"/>
                  <a:pt x="4173" y="8634"/>
                  <a:pt x="4242" y="8632"/>
                </a:cubicBezTo>
                <a:cubicBezTo>
                  <a:pt x="4308" y="8630"/>
                  <a:pt x="4350" y="8619"/>
                  <a:pt x="4415" y="8607"/>
                </a:cubicBezTo>
                <a:cubicBezTo>
                  <a:pt x="4491" y="8593"/>
                  <a:pt x="4558" y="8584"/>
                  <a:pt x="4638" y="8582"/>
                </a:cubicBezTo>
                <a:cubicBezTo>
                  <a:pt x="4735" y="8579"/>
                  <a:pt x="4817" y="8544"/>
                  <a:pt x="4911" y="8533"/>
                </a:cubicBezTo>
                <a:cubicBezTo>
                  <a:pt x="5087" y="8512"/>
                  <a:pt x="5261" y="8543"/>
                  <a:pt x="5432" y="8508"/>
                </a:cubicBezTo>
                <a:cubicBezTo>
                  <a:pt x="5483" y="8498"/>
                  <a:pt x="5504" y="8512"/>
                  <a:pt x="5556" y="8508"/>
                </a:cubicBezTo>
              </a:path>
              <a:path w="16149" h="4813">
                <a:moveTo>
                  <a:pt x="2679" y="5978"/>
                </a:moveTo>
                <a:cubicBezTo>
                  <a:pt x="2690" y="6051"/>
                  <a:pt x="2692" y="6128"/>
                  <a:pt x="2704" y="6201"/>
                </a:cubicBezTo>
                <a:cubicBezTo>
                  <a:pt x="2734" y="6381"/>
                  <a:pt x="2765" y="6571"/>
                  <a:pt x="2803" y="6747"/>
                </a:cubicBezTo>
                <a:cubicBezTo>
                  <a:pt x="2827" y="6858"/>
                  <a:pt x="2836" y="6959"/>
                  <a:pt x="2853" y="7069"/>
                </a:cubicBezTo>
                <a:cubicBezTo>
                  <a:pt x="2871" y="7186"/>
                  <a:pt x="2862" y="7301"/>
                  <a:pt x="2877" y="7417"/>
                </a:cubicBezTo>
                <a:cubicBezTo>
                  <a:pt x="2890" y="7518"/>
                  <a:pt x="2916" y="7614"/>
                  <a:pt x="2927" y="7714"/>
                </a:cubicBezTo>
                <a:cubicBezTo>
                  <a:pt x="2947" y="7901"/>
                  <a:pt x="2938" y="8099"/>
                  <a:pt x="2952" y="8285"/>
                </a:cubicBezTo>
                <a:cubicBezTo>
                  <a:pt x="2962" y="8418"/>
                  <a:pt x="2974" y="8551"/>
                  <a:pt x="2977" y="8682"/>
                </a:cubicBezTo>
                <a:cubicBezTo>
                  <a:pt x="2981" y="8847"/>
                  <a:pt x="2994" y="9016"/>
                  <a:pt x="3026" y="9178"/>
                </a:cubicBezTo>
                <a:cubicBezTo>
                  <a:pt x="3048" y="9289"/>
                  <a:pt x="3058" y="9391"/>
                  <a:pt x="3076" y="9500"/>
                </a:cubicBezTo>
                <a:cubicBezTo>
                  <a:pt x="3094" y="9608"/>
                  <a:pt x="3088" y="9713"/>
                  <a:pt x="3101" y="9823"/>
                </a:cubicBezTo>
                <a:cubicBezTo>
                  <a:pt x="3111" y="9908"/>
                  <a:pt x="3123" y="9984"/>
                  <a:pt x="3125" y="10071"/>
                </a:cubicBezTo>
                <a:cubicBezTo>
                  <a:pt x="3128" y="10203"/>
                  <a:pt x="3125" y="10336"/>
                  <a:pt x="3125" y="10468"/>
                </a:cubicBezTo>
              </a:path>
              <a:path w="16149" h="4813">
                <a:moveTo>
                  <a:pt x="1687" y="7640"/>
                </a:moveTo>
                <a:cubicBezTo>
                  <a:pt x="1687" y="7714"/>
                  <a:pt x="1687" y="7789"/>
                  <a:pt x="1687" y="7863"/>
                </a:cubicBezTo>
                <a:cubicBezTo>
                  <a:pt x="1759" y="7805"/>
                  <a:pt x="1797" y="7780"/>
                  <a:pt x="1885" y="7764"/>
                </a:cubicBezTo>
              </a:path>
              <a:path w="16149" h="4813">
                <a:moveTo>
                  <a:pt x="1588" y="8037"/>
                </a:moveTo>
                <a:cubicBezTo>
                  <a:pt x="1676" y="8169"/>
                  <a:pt x="1749" y="8195"/>
                  <a:pt x="1910" y="8136"/>
                </a:cubicBezTo>
                <a:cubicBezTo>
                  <a:pt x="2176" y="8039"/>
                  <a:pt x="2192" y="7855"/>
                  <a:pt x="2133" y="7590"/>
                </a:cubicBezTo>
                <a:cubicBezTo>
                  <a:pt x="2075" y="7328"/>
                  <a:pt x="1884" y="7251"/>
                  <a:pt x="1637" y="7342"/>
                </a:cubicBezTo>
                <a:cubicBezTo>
                  <a:pt x="1366" y="7442"/>
                  <a:pt x="1420" y="7695"/>
                  <a:pt x="1538" y="7913"/>
                </a:cubicBezTo>
                <a:cubicBezTo>
                  <a:pt x="1651" y="8124"/>
                  <a:pt x="1702" y="8106"/>
                  <a:pt x="1860" y="8037"/>
                </a:cubicBezTo>
              </a:path>
              <a:path w="16149" h="4813">
                <a:moveTo>
                  <a:pt x="2803" y="7640"/>
                </a:moveTo>
                <a:cubicBezTo>
                  <a:pt x="2969" y="7650"/>
                  <a:pt x="3133" y="7680"/>
                  <a:pt x="3299" y="7689"/>
                </a:cubicBezTo>
                <a:cubicBezTo>
                  <a:pt x="3485" y="7699"/>
                  <a:pt x="3661" y="7646"/>
                  <a:pt x="3845" y="7640"/>
                </a:cubicBezTo>
                <a:cubicBezTo>
                  <a:pt x="3963" y="7636"/>
                  <a:pt x="4075" y="7619"/>
                  <a:pt x="4192" y="7615"/>
                </a:cubicBezTo>
                <a:cubicBezTo>
                  <a:pt x="4319" y="7611"/>
                  <a:pt x="4438" y="7576"/>
                  <a:pt x="4564" y="7565"/>
                </a:cubicBezTo>
                <a:cubicBezTo>
                  <a:pt x="4720" y="7552"/>
                  <a:pt x="4882" y="7554"/>
                  <a:pt x="5035" y="7541"/>
                </a:cubicBezTo>
                <a:cubicBezTo>
                  <a:pt x="5143" y="7532"/>
                  <a:pt x="5248" y="7565"/>
                  <a:pt x="5358" y="7565"/>
                </a:cubicBezTo>
                <a:cubicBezTo>
                  <a:pt x="5417" y="7565"/>
                  <a:pt x="5448" y="7565"/>
                  <a:pt x="5507" y="7565"/>
                </a:cubicBezTo>
              </a:path>
              <a:path w="16149" h="4813">
                <a:moveTo>
                  <a:pt x="3671" y="6003"/>
                </a:moveTo>
                <a:cubicBezTo>
                  <a:pt x="3694" y="6084"/>
                  <a:pt x="3723" y="6168"/>
                  <a:pt x="3746" y="6251"/>
                </a:cubicBezTo>
                <a:cubicBezTo>
                  <a:pt x="3776" y="6357"/>
                  <a:pt x="3815" y="6476"/>
                  <a:pt x="3845" y="6573"/>
                </a:cubicBezTo>
                <a:cubicBezTo>
                  <a:pt x="3865" y="6636"/>
                  <a:pt x="3852" y="6624"/>
                  <a:pt x="3870" y="6697"/>
                </a:cubicBezTo>
                <a:cubicBezTo>
                  <a:pt x="3888" y="6772"/>
                  <a:pt x="3911" y="6826"/>
                  <a:pt x="3919" y="6896"/>
                </a:cubicBezTo>
                <a:cubicBezTo>
                  <a:pt x="3929" y="6982"/>
                  <a:pt x="3925" y="7061"/>
                  <a:pt x="3944" y="7144"/>
                </a:cubicBezTo>
                <a:cubicBezTo>
                  <a:pt x="3960" y="7216"/>
                  <a:pt x="3986" y="7293"/>
                  <a:pt x="3994" y="7367"/>
                </a:cubicBezTo>
                <a:cubicBezTo>
                  <a:pt x="4006" y="7488"/>
                  <a:pt x="4011" y="7622"/>
                  <a:pt x="4018" y="7739"/>
                </a:cubicBezTo>
                <a:cubicBezTo>
                  <a:pt x="4024" y="7847"/>
                  <a:pt x="4036" y="7958"/>
                  <a:pt x="4043" y="8062"/>
                </a:cubicBezTo>
                <a:cubicBezTo>
                  <a:pt x="4048" y="8138"/>
                  <a:pt x="4055" y="8195"/>
                  <a:pt x="4068" y="8260"/>
                </a:cubicBezTo>
                <a:cubicBezTo>
                  <a:pt x="4079" y="8317"/>
                  <a:pt x="4076" y="8378"/>
                  <a:pt x="4093" y="8434"/>
                </a:cubicBezTo>
                <a:cubicBezTo>
                  <a:pt x="4119" y="8518"/>
                  <a:pt x="4148" y="8598"/>
                  <a:pt x="4167" y="8682"/>
                </a:cubicBezTo>
                <a:cubicBezTo>
                  <a:pt x="4181" y="8745"/>
                  <a:pt x="4177" y="8817"/>
                  <a:pt x="4192" y="8880"/>
                </a:cubicBezTo>
                <a:cubicBezTo>
                  <a:pt x="4217" y="8985"/>
                  <a:pt x="4226" y="9073"/>
                  <a:pt x="4242" y="9178"/>
                </a:cubicBezTo>
                <a:cubicBezTo>
                  <a:pt x="4254" y="9254"/>
                  <a:pt x="4264" y="9321"/>
                  <a:pt x="4266" y="9401"/>
                </a:cubicBezTo>
                <a:cubicBezTo>
                  <a:pt x="4269" y="9535"/>
                  <a:pt x="4284" y="9669"/>
                  <a:pt x="4291" y="9798"/>
                </a:cubicBezTo>
                <a:cubicBezTo>
                  <a:pt x="4296" y="9888"/>
                  <a:pt x="4311" y="9988"/>
                  <a:pt x="4316" y="10071"/>
                </a:cubicBezTo>
                <a:cubicBezTo>
                  <a:pt x="4322" y="10165"/>
                  <a:pt x="4321" y="10253"/>
                  <a:pt x="4341" y="10344"/>
                </a:cubicBezTo>
                <a:cubicBezTo>
                  <a:pt x="4353" y="10397"/>
                  <a:pt x="4355" y="10436"/>
                  <a:pt x="4366" y="10492"/>
                </a:cubicBezTo>
                <a:cubicBezTo>
                  <a:pt x="4380" y="10565"/>
                  <a:pt x="4391" y="10674"/>
                  <a:pt x="4415" y="10740"/>
                </a:cubicBezTo>
                <a:cubicBezTo>
                  <a:pt x="4435" y="10781"/>
                  <a:pt x="4444" y="10808"/>
                  <a:pt x="4440" y="10765"/>
                </a:cubicBezTo>
              </a:path>
              <a:path w="16149" h="4813">
                <a:moveTo>
                  <a:pt x="1836" y="6697"/>
                </a:moveTo>
                <a:cubicBezTo>
                  <a:pt x="1822" y="6744"/>
                  <a:pt x="1811" y="6913"/>
                  <a:pt x="1811" y="6871"/>
                </a:cubicBezTo>
                <a:cubicBezTo>
                  <a:pt x="1811" y="6830"/>
                  <a:pt x="1793" y="6744"/>
                  <a:pt x="1836" y="6722"/>
                </a:cubicBezTo>
                <a:cubicBezTo>
                  <a:pt x="1871" y="6704"/>
                  <a:pt x="1918" y="6697"/>
                  <a:pt x="1960" y="6697"/>
                </a:cubicBezTo>
                <a:cubicBezTo>
                  <a:pt x="1960" y="6767"/>
                  <a:pt x="1973" y="6834"/>
                  <a:pt x="1935" y="6896"/>
                </a:cubicBezTo>
                <a:cubicBezTo>
                  <a:pt x="1912" y="6933"/>
                  <a:pt x="1885" y="6944"/>
                  <a:pt x="1885" y="6921"/>
                </a:cubicBezTo>
                <a:cubicBezTo>
                  <a:pt x="1927" y="6914"/>
                  <a:pt x="1967" y="6903"/>
                  <a:pt x="2009" y="6896"/>
                </a:cubicBezTo>
                <a:cubicBezTo>
                  <a:pt x="2051" y="6990"/>
                  <a:pt x="2070" y="7043"/>
                  <a:pt x="1984" y="7119"/>
                </a:cubicBezTo>
                <a:cubicBezTo>
                  <a:pt x="1950" y="7149"/>
                  <a:pt x="1924" y="7144"/>
                  <a:pt x="1885" y="7144"/>
                </a:cubicBezTo>
              </a:path>
              <a:path w="16149" h="4813">
                <a:moveTo>
                  <a:pt x="1637" y="7119"/>
                </a:moveTo>
                <a:cubicBezTo>
                  <a:pt x="1657" y="7199"/>
                  <a:pt x="1728" y="7231"/>
                  <a:pt x="1811" y="7243"/>
                </a:cubicBezTo>
                <a:cubicBezTo>
                  <a:pt x="1922" y="7259"/>
                  <a:pt x="2108" y="7201"/>
                  <a:pt x="2183" y="7119"/>
                </a:cubicBezTo>
                <a:cubicBezTo>
                  <a:pt x="2270" y="7023"/>
                  <a:pt x="2300" y="6924"/>
                  <a:pt x="2282" y="6796"/>
                </a:cubicBezTo>
                <a:cubicBezTo>
                  <a:pt x="2268" y="6702"/>
                  <a:pt x="2159" y="6595"/>
                  <a:pt x="2059" y="6573"/>
                </a:cubicBezTo>
                <a:cubicBezTo>
                  <a:pt x="1927" y="6544"/>
                  <a:pt x="1799" y="6541"/>
                  <a:pt x="1687" y="6623"/>
                </a:cubicBezTo>
                <a:cubicBezTo>
                  <a:pt x="1576" y="6705"/>
                  <a:pt x="1548" y="6818"/>
                  <a:pt x="1588" y="6945"/>
                </a:cubicBezTo>
                <a:cubicBezTo>
                  <a:pt x="1616" y="7036"/>
                  <a:pt x="1659" y="7121"/>
                  <a:pt x="1736" y="7144"/>
                </a:cubicBezTo>
              </a:path>
              <a:path w="16149" h="4813">
                <a:moveTo>
                  <a:pt x="10964" y="7615"/>
                </a:moveTo>
                <a:cubicBezTo>
                  <a:pt x="10972" y="7842"/>
                  <a:pt x="10962" y="7954"/>
                  <a:pt x="10790" y="8111"/>
                </a:cubicBezTo>
              </a:path>
              <a:path w="16149" h="4813">
                <a:moveTo>
                  <a:pt x="13667" y="7243"/>
                </a:moveTo>
                <a:cubicBezTo>
                  <a:pt x="13629" y="7470"/>
                  <a:pt x="13575" y="7553"/>
                  <a:pt x="13370" y="7640"/>
                </a:cubicBezTo>
              </a:path>
              <a:path w="16149" h="4813">
                <a:moveTo>
                  <a:pt x="14734" y="7119"/>
                </a:moveTo>
                <a:cubicBezTo>
                  <a:pt x="14734" y="7187"/>
                  <a:pt x="14731" y="7206"/>
                  <a:pt x="14759" y="7243"/>
                </a:cubicBezTo>
              </a:path>
              <a:path w="16149" h="4813">
                <a:moveTo>
                  <a:pt x="17413" y="6995"/>
                </a:moveTo>
                <a:cubicBezTo>
                  <a:pt x="17385" y="7023"/>
                  <a:pt x="17376" y="7036"/>
                  <a:pt x="17388" y="7069"/>
                </a:cubicBezTo>
              </a:path>
              <a:path w="16149" h="4813">
                <a:moveTo>
                  <a:pt x="11286" y="9029"/>
                </a:moveTo>
                <a:cubicBezTo>
                  <a:pt x="11294" y="9046"/>
                  <a:pt x="11303" y="9062"/>
                  <a:pt x="11311" y="90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67040" y="2428920"/>
            <a:ext cx="1911240" cy="955800"/>
          </a:xfrm>
          <a:custGeom>
            <a:avLst/>
            <a:gdLst/>
            <a:ahLst/>
            <a:rect l="l" t="t" r="r" b="b"/>
            <a:pathLst>
              <a:path w="5310" h="2655">
                <a:moveTo>
                  <a:pt x="7962" y="7119"/>
                </a:moveTo>
                <a:cubicBezTo>
                  <a:pt x="8008" y="7192"/>
                  <a:pt x="8048" y="7264"/>
                  <a:pt x="8086" y="7342"/>
                </a:cubicBezTo>
                <a:cubicBezTo>
                  <a:pt x="8063" y="7366"/>
                  <a:pt x="8043" y="7247"/>
                  <a:pt x="8037" y="7193"/>
                </a:cubicBezTo>
                <a:cubicBezTo>
                  <a:pt x="8021" y="7044"/>
                  <a:pt x="8114" y="7048"/>
                  <a:pt x="8235" y="7045"/>
                </a:cubicBezTo>
                <a:cubicBezTo>
                  <a:pt x="8380" y="7041"/>
                  <a:pt x="8414" y="7030"/>
                  <a:pt x="8533" y="6970"/>
                </a:cubicBezTo>
                <a:cubicBezTo>
                  <a:pt x="8558" y="6970"/>
                  <a:pt x="8566" y="6970"/>
                  <a:pt x="8582" y="6970"/>
                </a:cubicBezTo>
                <a:cubicBezTo>
                  <a:pt x="8562" y="7218"/>
                  <a:pt x="8509" y="7464"/>
                  <a:pt x="8483" y="7714"/>
                </a:cubicBezTo>
                <a:cubicBezTo>
                  <a:pt x="8477" y="7768"/>
                  <a:pt x="8472" y="7777"/>
                  <a:pt x="8508" y="7789"/>
                </a:cubicBezTo>
              </a:path>
              <a:path w="5310" h="2655">
                <a:moveTo>
                  <a:pt x="8855" y="7739"/>
                </a:moveTo>
                <a:cubicBezTo>
                  <a:pt x="8841" y="7696"/>
                  <a:pt x="8773" y="7819"/>
                  <a:pt x="8806" y="7789"/>
                </a:cubicBezTo>
                <a:cubicBezTo>
                  <a:pt x="8822" y="7764"/>
                  <a:pt x="8839" y="7739"/>
                  <a:pt x="8855" y="7714"/>
                </a:cubicBezTo>
              </a:path>
              <a:path w="5310" h="2655">
                <a:moveTo>
                  <a:pt x="9302" y="7218"/>
                </a:moveTo>
                <a:cubicBezTo>
                  <a:pt x="9207" y="7237"/>
                  <a:pt x="9176" y="7487"/>
                  <a:pt x="9203" y="7615"/>
                </a:cubicBezTo>
                <a:cubicBezTo>
                  <a:pt x="9219" y="7640"/>
                  <a:pt x="9236" y="7664"/>
                  <a:pt x="9252" y="7689"/>
                </a:cubicBezTo>
                <a:cubicBezTo>
                  <a:pt x="9425" y="7680"/>
                  <a:pt x="9646" y="7565"/>
                  <a:pt x="9525" y="7317"/>
                </a:cubicBezTo>
                <a:cubicBezTo>
                  <a:pt x="9491" y="7248"/>
                  <a:pt x="9366" y="7207"/>
                  <a:pt x="9302" y="7193"/>
                </a:cubicBezTo>
              </a:path>
              <a:path w="5310" h="2655">
                <a:moveTo>
                  <a:pt x="9723" y="7094"/>
                </a:moveTo>
                <a:cubicBezTo>
                  <a:pt x="9685" y="7262"/>
                  <a:pt x="9673" y="7369"/>
                  <a:pt x="9699" y="7541"/>
                </a:cubicBezTo>
                <a:cubicBezTo>
                  <a:pt x="9814" y="7519"/>
                  <a:pt x="10078" y="7406"/>
                  <a:pt x="9971" y="7218"/>
                </a:cubicBezTo>
                <a:cubicBezTo>
                  <a:pt x="9921" y="7130"/>
                  <a:pt x="9813" y="7184"/>
                  <a:pt x="9748" y="7193"/>
                </a:cubicBezTo>
              </a:path>
              <a:path w="5310" h="2655">
                <a:moveTo>
                  <a:pt x="10170" y="7119"/>
                </a:moveTo>
                <a:cubicBezTo>
                  <a:pt x="10150" y="7219"/>
                  <a:pt x="10079" y="7360"/>
                  <a:pt x="10120" y="7466"/>
                </a:cubicBezTo>
                <a:cubicBezTo>
                  <a:pt x="10145" y="7491"/>
                  <a:pt x="10170" y="7516"/>
                  <a:pt x="10195" y="7541"/>
                </a:cubicBezTo>
                <a:cubicBezTo>
                  <a:pt x="10356" y="7470"/>
                  <a:pt x="10513" y="7369"/>
                  <a:pt x="10393" y="7169"/>
                </a:cubicBezTo>
                <a:cubicBezTo>
                  <a:pt x="10322" y="7050"/>
                  <a:pt x="10298" y="7069"/>
                  <a:pt x="10195" y="7069"/>
                </a:cubicBezTo>
              </a:path>
              <a:path w="5310" h="2655">
                <a:moveTo>
                  <a:pt x="11534" y="7045"/>
                </a:moveTo>
                <a:cubicBezTo>
                  <a:pt x="11451" y="7045"/>
                  <a:pt x="11433" y="6978"/>
                  <a:pt x="11385" y="7094"/>
                </a:cubicBezTo>
                <a:cubicBezTo>
                  <a:pt x="11301" y="7294"/>
                  <a:pt x="11337" y="7385"/>
                  <a:pt x="11410" y="7565"/>
                </a:cubicBezTo>
                <a:cubicBezTo>
                  <a:pt x="11604" y="7481"/>
                  <a:pt x="11710" y="7376"/>
                  <a:pt x="11658" y="7144"/>
                </a:cubicBezTo>
                <a:cubicBezTo>
                  <a:pt x="11630" y="7020"/>
                  <a:pt x="11556" y="7034"/>
                  <a:pt x="11460" y="6995"/>
                </a:cubicBezTo>
              </a:path>
              <a:path w="5310" h="2655">
                <a:moveTo>
                  <a:pt x="12005" y="7441"/>
                </a:moveTo>
                <a:cubicBezTo>
                  <a:pt x="12005" y="7491"/>
                  <a:pt x="12005" y="7508"/>
                  <a:pt x="12005" y="7441"/>
                </a:cubicBezTo>
              </a:path>
              <a:path w="5310" h="2655">
                <a:moveTo>
                  <a:pt x="12105" y="6896"/>
                </a:moveTo>
                <a:cubicBezTo>
                  <a:pt x="12190" y="6896"/>
                  <a:pt x="12268" y="6917"/>
                  <a:pt x="12353" y="6921"/>
                </a:cubicBezTo>
                <a:cubicBezTo>
                  <a:pt x="12369" y="6921"/>
                  <a:pt x="12386" y="6921"/>
                  <a:pt x="12402" y="6921"/>
                </a:cubicBezTo>
                <a:cubicBezTo>
                  <a:pt x="12448" y="7041"/>
                  <a:pt x="12436" y="7208"/>
                  <a:pt x="12402" y="7342"/>
                </a:cubicBezTo>
                <a:cubicBezTo>
                  <a:pt x="12394" y="7359"/>
                  <a:pt x="12386" y="7375"/>
                  <a:pt x="12378" y="7392"/>
                </a:cubicBezTo>
              </a:path>
              <a:path w="5310" h="2655">
                <a:moveTo>
                  <a:pt x="12874" y="6796"/>
                </a:moveTo>
                <a:cubicBezTo>
                  <a:pt x="12831" y="6810"/>
                  <a:pt x="12677" y="6839"/>
                  <a:pt x="12650" y="6871"/>
                </a:cubicBezTo>
                <a:cubicBezTo>
                  <a:pt x="12619" y="6908"/>
                  <a:pt x="12629" y="7028"/>
                  <a:pt x="12626" y="7069"/>
                </a:cubicBezTo>
                <a:cubicBezTo>
                  <a:pt x="12720" y="7042"/>
                  <a:pt x="12864" y="6953"/>
                  <a:pt x="12948" y="7069"/>
                </a:cubicBezTo>
                <a:cubicBezTo>
                  <a:pt x="13078" y="7248"/>
                  <a:pt x="12837" y="7363"/>
                  <a:pt x="12700" y="7367"/>
                </a:cubicBezTo>
                <a:cubicBezTo>
                  <a:pt x="12633" y="7345"/>
                  <a:pt x="12605" y="7343"/>
                  <a:pt x="12650" y="7293"/>
                </a:cubicBezTo>
              </a:path>
              <a:path w="5310" h="2655">
                <a:moveTo>
                  <a:pt x="13271" y="6747"/>
                </a:moveTo>
                <a:cubicBezTo>
                  <a:pt x="13170" y="6781"/>
                  <a:pt x="13243" y="7040"/>
                  <a:pt x="13246" y="7119"/>
                </a:cubicBezTo>
                <a:cubicBezTo>
                  <a:pt x="13246" y="7152"/>
                  <a:pt x="13246" y="7185"/>
                  <a:pt x="13246" y="7218"/>
                </a:cubicBezTo>
              </a:path>
              <a:path w="5310" h="2655">
                <a:moveTo>
                  <a:pt x="9426" y="8632"/>
                </a:moveTo>
                <a:cubicBezTo>
                  <a:pt x="9413" y="8732"/>
                  <a:pt x="9386" y="8830"/>
                  <a:pt x="9376" y="8930"/>
                </a:cubicBezTo>
                <a:cubicBezTo>
                  <a:pt x="9389" y="8853"/>
                  <a:pt x="9420" y="8685"/>
                  <a:pt x="9475" y="8632"/>
                </a:cubicBezTo>
                <a:cubicBezTo>
                  <a:pt x="9558" y="8553"/>
                  <a:pt x="9695" y="8558"/>
                  <a:pt x="9798" y="8558"/>
                </a:cubicBezTo>
                <a:cubicBezTo>
                  <a:pt x="9823" y="8558"/>
                  <a:pt x="9831" y="8558"/>
                  <a:pt x="9847" y="8558"/>
                </a:cubicBezTo>
                <a:cubicBezTo>
                  <a:pt x="9820" y="8776"/>
                  <a:pt x="9744" y="8987"/>
                  <a:pt x="9699" y="9203"/>
                </a:cubicBezTo>
                <a:cubicBezTo>
                  <a:pt x="9681" y="9289"/>
                  <a:pt x="9674" y="9328"/>
                  <a:pt x="9674" y="9401"/>
                </a:cubicBezTo>
              </a:path>
              <a:path w="5310" h="2655">
                <a:moveTo>
                  <a:pt x="10864" y="8582"/>
                </a:moveTo>
                <a:cubicBezTo>
                  <a:pt x="10806" y="8582"/>
                  <a:pt x="10776" y="8604"/>
                  <a:pt x="10740" y="8657"/>
                </a:cubicBezTo>
                <a:cubicBezTo>
                  <a:pt x="10617" y="8836"/>
                  <a:pt x="10590" y="8988"/>
                  <a:pt x="10666" y="9178"/>
                </a:cubicBezTo>
                <a:cubicBezTo>
                  <a:pt x="10847" y="9160"/>
                  <a:pt x="10997" y="9132"/>
                  <a:pt x="11063" y="8930"/>
                </a:cubicBezTo>
                <a:cubicBezTo>
                  <a:pt x="11104" y="8804"/>
                  <a:pt x="11132" y="8562"/>
                  <a:pt x="10964" y="8508"/>
                </a:cubicBezTo>
                <a:cubicBezTo>
                  <a:pt x="10831" y="8465"/>
                  <a:pt x="10813" y="8546"/>
                  <a:pt x="10790" y="86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99040" y="2313000"/>
            <a:ext cx="1768320" cy="384120"/>
          </a:xfrm>
          <a:custGeom>
            <a:avLst/>
            <a:gdLst/>
            <a:ahLst/>
            <a:rect l="l" t="t" r="r" b="b"/>
            <a:pathLst>
              <a:path w="4913" h="1068">
                <a:moveTo>
                  <a:pt x="14288" y="6772"/>
                </a:moveTo>
                <a:cubicBezTo>
                  <a:pt x="14231" y="6902"/>
                  <a:pt x="14109" y="7053"/>
                  <a:pt x="14163" y="7218"/>
                </a:cubicBezTo>
                <a:cubicBezTo>
                  <a:pt x="14188" y="7243"/>
                  <a:pt x="14213" y="7268"/>
                  <a:pt x="14238" y="7293"/>
                </a:cubicBezTo>
                <a:cubicBezTo>
                  <a:pt x="14435" y="7273"/>
                  <a:pt x="14632" y="7209"/>
                  <a:pt x="14560" y="6945"/>
                </a:cubicBezTo>
                <a:cubicBezTo>
                  <a:pt x="14531" y="6839"/>
                  <a:pt x="14409" y="6763"/>
                  <a:pt x="14312" y="6747"/>
                </a:cubicBezTo>
              </a:path>
              <a:path w="4913" h="1068">
                <a:moveTo>
                  <a:pt x="14858" y="6747"/>
                </a:moveTo>
                <a:cubicBezTo>
                  <a:pt x="14957" y="6747"/>
                  <a:pt x="15057" y="6747"/>
                  <a:pt x="15156" y="6747"/>
                </a:cubicBezTo>
                <a:cubicBezTo>
                  <a:pt x="15156" y="6883"/>
                  <a:pt x="15118" y="7066"/>
                  <a:pt x="15131" y="7193"/>
                </a:cubicBezTo>
                <a:cubicBezTo>
                  <a:pt x="15139" y="7201"/>
                  <a:pt x="15148" y="7210"/>
                  <a:pt x="15156" y="7218"/>
                </a:cubicBezTo>
              </a:path>
              <a:path w="4913" h="1068">
                <a:moveTo>
                  <a:pt x="15478" y="6747"/>
                </a:moveTo>
                <a:cubicBezTo>
                  <a:pt x="15434" y="6882"/>
                  <a:pt x="15396" y="6972"/>
                  <a:pt x="15404" y="7119"/>
                </a:cubicBezTo>
                <a:cubicBezTo>
                  <a:pt x="15528" y="7167"/>
                  <a:pt x="15726" y="7151"/>
                  <a:pt x="15726" y="6945"/>
                </a:cubicBezTo>
                <a:cubicBezTo>
                  <a:pt x="15726" y="6729"/>
                  <a:pt x="15523" y="6834"/>
                  <a:pt x="15429" y="6747"/>
                </a:cubicBezTo>
                <a:cubicBezTo>
                  <a:pt x="15437" y="6747"/>
                  <a:pt x="15445" y="6747"/>
                  <a:pt x="15453" y="6747"/>
                </a:cubicBezTo>
              </a:path>
              <a:path w="4913" h="1068">
                <a:moveTo>
                  <a:pt x="15949" y="6697"/>
                </a:moveTo>
                <a:cubicBezTo>
                  <a:pt x="15949" y="6583"/>
                  <a:pt x="15857" y="6856"/>
                  <a:pt x="15850" y="6970"/>
                </a:cubicBezTo>
                <a:cubicBezTo>
                  <a:pt x="15840" y="7139"/>
                  <a:pt x="16095" y="7237"/>
                  <a:pt x="16197" y="7094"/>
                </a:cubicBezTo>
                <a:cubicBezTo>
                  <a:pt x="16281" y="6975"/>
                  <a:pt x="16202" y="6773"/>
                  <a:pt x="16049" y="6772"/>
                </a:cubicBezTo>
                <a:cubicBezTo>
                  <a:pt x="16032" y="6780"/>
                  <a:pt x="16016" y="6788"/>
                  <a:pt x="15999" y="6796"/>
                </a:cubicBezTo>
              </a:path>
              <a:path w="4913" h="1068">
                <a:moveTo>
                  <a:pt x="16470" y="7069"/>
                </a:moveTo>
                <a:cubicBezTo>
                  <a:pt x="16470" y="7252"/>
                  <a:pt x="16482" y="7358"/>
                  <a:pt x="16371" y="7491"/>
                </a:cubicBezTo>
              </a:path>
              <a:path w="4913" h="1068">
                <a:moveTo>
                  <a:pt x="17016" y="6598"/>
                </a:moveTo>
                <a:cubicBezTo>
                  <a:pt x="16864" y="6636"/>
                  <a:pt x="16758" y="6789"/>
                  <a:pt x="16818" y="6970"/>
                </a:cubicBezTo>
                <a:cubicBezTo>
                  <a:pt x="16843" y="6995"/>
                  <a:pt x="16867" y="7020"/>
                  <a:pt x="16892" y="7045"/>
                </a:cubicBezTo>
                <a:cubicBezTo>
                  <a:pt x="17065" y="7044"/>
                  <a:pt x="17208" y="6988"/>
                  <a:pt x="17214" y="6772"/>
                </a:cubicBezTo>
                <a:cubicBezTo>
                  <a:pt x="17217" y="6674"/>
                  <a:pt x="17140" y="6628"/>
                  <a:pt x="17066" y="6598"/>
                </a:cubicBezTo>
              </a:path>
              <a:path w="4913" h="1068">
                <a:moveTo>
                  <a:pt x="17859" y="6524"/>
                </a:moveTo>
                <a:cubicBezTo>
                  <a:pt x="17743" y="6653"/>
                  <a:pt x="17672" y="6762"/>
                  <a:pt x="17686" y="6945"/>
                </a:cubicBezTo>
                <a:cubicBezTo>
                  <a:pt x="17694" y="6978"/>
                  <a:pt x="17703" y="7012"/>
                  <a:pt x="17711" y="7045"/>
                </a:cubicBezTo>
                <a:cubicBezTo>
                  <a:pt x="17899" y="7056"/>
                  <a:pt x="18021" y="6994"/>
                  <a:pt x="18033" y="6772"/>
                </a:cubicBezTo>
                <a:cubicBezTo>
                  <a:pt x="18037" y="6689"/>
                  <a:pt x="17937" y="6645"/>
                  <a:pt x="17884" y="6598"/>
                </a:cubicBezTo>
              </a:path>
              <a:path w="4913" h="1068">
                <a:moveTo>
                  <a:pt x="18430" y="6449"/>
                </a:moveTo>
                <a:cubicBezTo>
                  <a:pt x="18342" y="6449"/>
                  <a:pt x="18254" y="6429"/>
                  <a:pt x="18207" y="6524"/>
                </a:cubicBezTo>
                <a:cubicBezTo>
                  <a:pt x="18198" y="6542"/>
                  <a:pt x="18227" y="6643"/>
                  <a:pt x="18231" y="6648"/>
                </a:cubicBezTo>
                <a:cubicBezTo>
                  <a:pt x="18273" y="6697"/>
                  <a:pt x="18439" y="6613"/>
                  <a:pt x="18504" y="6672"/>
                </a:cubicBezTo>
                <a:cubicBezTo>
                  <a:pt x="18672" y="6823"/>
                  <a:pt x="18476" y="6910"/>
                  <a:pt x="18355" y="6945"/>
                </a:cubicBezTo>
                <a:cubicBezTo>
                  <a:pt x="18273" y="6966"/>
                  <a:pt x="18258" y="6974"/>
                  <a:pt x="18207" y="6970"/>
                </a:cubicBezTo>
              </a:path>
              <a:path w="4913" h="1068">
                <a:moveTo>
                  <a:pt x="18728" y="6499"/>
                </a:moveTo>
                <a:cubicBezTo>
                  <a:pt x="18841" y="6488"/>
                  <a:pt x="18941" y="6444"/>
                  <a:pt x="19050" y="6424"/>
                </a:cubicBezTo>
                <a:cubicBezTo>
                  <a:pt x="19108" y="6443"/>
                  <a:pt x="19075" y="6677"/>
                  <a:pt x="19075" y="6722"/>
                </a:cubicBezTo>
                <a:cubicBezTo>
                  <a:pt x="19075" y="6788"/>
                  <a:pt x="19075" y="6855"/>
                  <a:pt x="19075" y="69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2714760"/>
            <a:ext cx="4375440" cy="3536640"/>
          </a:xfrm>
          <a:custGeom>
            <a:avLst/>
            <a:gdLst/>
            <a:ahLst/>
            <a:rect l="l" t="t" r="r" b="b"/>
            <a:pathLst>
              <a:path w="12155" h="9823">
                <a:moveTo>
                  <a:pt x="1811" y="7541"/>
                </a:moveTo>
                <a:cubicBezTo>
                  <a:pt x="1853" y="7662"/>
                  <a:pt x="1914" y="7788"/>
                  <a:pt x="1935" y="7913"/>
                </a:cubicBezTo>
              </a:path>
              <a:path w="12155" h="9823">
                <a:moveTo>
                  <a:pt x="10269" y="9401"/>
                </a:moveTo>
                <a:cubicBezTo>
                  <a:pt x="10296" y="9680"/>
                  <a:pt x="10271" y="9736"/>
                  <a:pt x="9996" y="9748"/>
                </a:cubicBezTo>
              </a:path>
              <a:path w="12155" h="9823">
                <a:moveTo>
                  <a:pt x="3721" y="14560"/>
                </a:moveTo>
                <a:cubicBezTo>
                  <a:pt x="3700" y="14708"/>
                  <a:pt x="3705" y="14859"/>
                  <a:pt x="3671" y="15007"/>
                </a:cubicBezTo>
                <a:cubicBezTo>
                  <a:pt x="3663" y="15023"/>
                  <a:pt x="3654" y="15040"/>
                  <a:pt x="3646" y="15056"/>
                </a:cubicBezTo>
              </a:path>
              <a:path w="12155" h="9823">
                <a:moveTo>
                  <a:pt x="3125" y="13965"/>
                </a:moveTo>
                <a:cubicBezTo>
                  <a:pt x="3102" y="14013"/>
                  <a:pt x="3094" y="14028"/>
                  <a:pt x="3101" y="14064"/>
                </a:cubicBezTo>
              </a:path>
              <a:path w="12155" h="9823">
                <a:moveTo>
                  <a:pt x="3125" y="14337"/>
                </a:moveTo>
                <a:cubicBezTo>
                  <a:pt x="3119" y="14391"/>
                  <a:pt x="3107" y="14432"/>
                  <a:pt x="3101" y="14486"/>
                </a:cubicBezTo>
              </a:path>
              <a:path w="12155" h="9823">
                <a:moveTo>
                  <a:pt x="7714" y="10096"/>
                </a:moveTo>
                <a:lnTo>
                  <a:pt x="7714" y="10096"/>
                </a:lnTo>
                <a:lnTo>
                  <a:pt x="7714" y="10096"/>
                </a:lnTo>
              </a:path>
              <a:path w="12155" h="9823">
                <a:moveTo>
                  <a:pt x="3051" y="17363"/>
                </a:moveTo>
                <a:cubicBezTo>
                  <a:pt x="3068" y="17363"/>
                  <a:pt x="3084" y="17363"/>
                  <a:pt x="3101" y="17363"/>
                </a:cubicBezTo>
              </a:path>
              <a:path w="12155" h="9823">
                <a:moveTo>
                  <a:pt x="3497" y="13643"/>
                </a:moveTo>
                <a:cubicBezTo>
                  <a:pt x="3470" y="13827"/>
                  <a:pt x="3454" y="14003"/>
                  <a:pt x="3448" y="14188"/>
                </a:cubicBezTo>
              </a:path>
              <a:path w="12155" h="9823">
                <a:moveTo>
                  <a:pt x="2456" y="15577"/>
                </a:moveTo>
                <a:lnTo>
                  <a:pt x="2456" y="15577"/>
                </a:lnTo>
              </a:path>
              <a:path w="12155" h="9823">
                <a:moveTo>
                  <a:pt x="2456" y="15577"/>
                </a:moveTo>
                <a:lnTo>
                  <a:pt x="2456" y="15577"/>
                </a:lnTo>
              </a:path>
              <a:path w="12155" h="9823">
                <a:moveTo>
                  <a:pt x="13965" y="14213"/>
                </a:moveTo>
                <a:cubicBezTo>
                  <a:pt x="13965" y="14221"/>
                  <a:pt x="13965" y="14230"/>
                  <a:pt x="13965" y="14238"/>
                </a:cubicBezTo>
              </a:path>
              <a:path w="12155" h="9823">
                <a:moveTo>
                  <a:pt x="7987" y="16024"/>
                </a:moveTo>
                <a:cubicBezTo>
                  <a:pt x="8038" y="16146"/>
                  <a:pt x="8125" y="16339"/>
                  <a:pt x="8037" y="16470"/>
                </a:cubicBezTo>
                <a:cubicBezTo>
                  <a:pt x="7959" y="16522"/>
                  <a:pt x="7930" y="16540"/>
                  <a:pt x="7863" y="16545"/>
                </a:cubicBezTo>
              </a:path>
              <a:path w="12155" h="9823">
                <a:moveTo>
                  <a:pt x="10145" y="15949"/>
                </a:moveTo>
                <a:cubicBezTo>
                  <a:pt x="10162" y="16025"/>
                  <a:pt x="10176" y="16291"/>
                  <a:pt x="9996" y="16173"/>
                </a:cubicBezTo>
                <a:cubicBezTo>
                  <a:pt x="9963" y="16132"/>
                  <a:pt x="9930" y="16090"/>
                  <a:pt x="9897" y="16049"/>
                </a:cubicBezTo>
              </a:path>
              <a:path w="12155" h="9823">
                <a:moveTo>
                  <a:pt x="12030" y="15900"/>
                </a:moveTo>
                <a:cubicBezTo>
                  <a:pt x="12056" y="15995"/>
                  <a:pt x="12083" y="16203"/>
                  <a:pt x="11906" y="16197"/>
                </a:cubicBezTo>
                <a:cubicBezTo>
                  <a:pt x="11881" y="16181"/>
                  <a:pt x="11857" y="16164"/>
                  <a:pt x="11832" y="161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240" y="4795920"/>
            <a:ext cx="1135080" cy="857160"/>
          </a:xfrm>
          <a:custGeom>
            <a:avLst/>
            <a:gdLst/>
            <a:ahLst/>
            <a:rect l="l" t="t" r="r" b="b"/>
            <a:pathLst>
              <a:path w="3151" h="2382">
                <a:moveTo>
                  <a:pt x="3051" y="13395"/>
                </a:moveTo>
                <a:cubicBezTo>
                  <a:pt x="3012" y="13404"/>
                  <a:pt x="3029" y="13414"/>
                  <a:pt x="2977" y="13419"/>
                </a:cubicBezTo>
                <a:cubicBezTo>
                  <a:pt x="2923" y="13424"/>
                  <a:pt x="2844" y="13441"/>
                  <a:pt x="2803" y="13444"/>
                </a:cubicBezTo>
                <a:cubicBezTo>
                  <a:pt x="2725" y="13450"/>
                  <a:pt x="2655" y="13463"/>
                  <a:pt x="2580" y="13469"/>
                </a:cubicBezTo>
                <a:cubicBezTo>
                  <a:pt x="2444" y="13480"/>
                  <a:pt x="2305" y="13459"/>
                  <a:pt x="2183" y="13494"/>
                </a:cubicBezTo>
                <a:cubicBezTo>
                  <a:pt x="2114" y="13514"/>
                  <a:pt x="2098" y="13496"/>
                  <a:pt x="2059" y="13593"/>
                </a:cubicBezTo>
                <a:cubicBezTo>
                  <a:pt x="2024" y="13681"/>
                  <a:pt x="2027" y="13773"/>
                  <a:pt x="2009" y="13866"/>
                </a:cubicBezTo>
                <a:cubicBezTo>
                  <a:pt x="1993" y="13950"/>
                  <a:pt x="1997" y="14028"/>
                  <a:pt x="1984" y="14114"/>
                </a:cubicBezTo>
                <a:cubicBezTo>
                  <a:pt x="1975" y="14175"/>
                  <a:pt x="1965" y="14226"/>
                  <a:pt x="1960" y="14288"/>
                </a:cubicBezTo>
                <a:cubicBezTo>
                  <a:pt x="1948" y="14447"/>
                  <a:pt x="1973" y="14608"/>
                  <a:pt x="1984" y="14759"/>
                </a:cubicBezTo>
                <a:cubicBezTo>
                  <a:pt x="1989" y="14827"/>
                  <a:pt x="2004" y="14870"/>
                  <a:pt x="2009" y="14932"/>
                </a:cubicBezTo>
                <a:cubicBezTo>
                  <a:pt x="2016" y="15023"/>
                  <a:pt x="2027" y="15121"/>
                  <a:pt x="2034" y="15205"/>
                </a:cubicBezTo>
                <a:cubicBezTo>
                  <a:pt x="2040" y="15279"/>
                  <a:pt x="2031" y="15318"/>
                  <a:pt x="2059" y="15379"/>
                </a:cubicBezTo>
                <a:cubicBezTo>
                  <a:pt x="2075" y="15413"/>
                  <a:pt x="2114" y="15476"/>
                  <a:pt x="2133" y="15503"/>
                </a:cubicBezTo>
                <a:cubicBezTo>
                  <a:pt x="2143" y="15516"/>
                  <a:pt x="2169" y="15566"/>
                  <a:pt x="2183" y="15577"/>
                </a:cubicBezTo>
                <a:cubicBezTo>
                  <a:pt x="2207" y="15597"/>
                  <a:pt x="2303" y="15663"/>
                  <a:pt x="2332" y="15677"/>
                </a:cubicBezTo>
                <a:cubicBezTo>
                  <a:pt x="2378" y="15699"/>
                  <a:pt x="2422" y="15704"/>
                  <a:pt x="2480" y="15701"/>
                </a:cubicBezTo>
                <a:cubicBezTo>
                  <a:pt x="2555" y="15697"/>
                  <a:pt x="2654" y="15689"/>
                  <a:pt x="2729" y="15677"/>
                </a:cubicBezTo>
                <a:cubicBezTo>
                  <a:pt x="2775" y="15670"/>
                  <a:pt x="2848" y="15639"/>
                  <a:pt x="2902" y="15627"/>
                </a:cubicBezTo>
                <a:cubicBezTo>
                  <a:pt x="2962" y="15613"/>
                  <a:pt x="3013" y="15610"/>
                  <a:pt x="3076" y="15602"/>
                </a:cubicBezTo>
                <a:cubicBezTo>
                  <a:pt x="3179" y="15589"/>
                  <a:pt x="3277" y="15609"/>
                  <a:pt x="3373" y="15602"/>
                </a:cubicBezTo>
                <a:cubicBezTo>
                  <a:pt x="3441" y="15597"/>
                  <a:pt x="3526" y="15559"/>
                  <a:pt x="3597" y="15553"/>
                </a:cubicBezTo>
                <a:cubicBezTo>
                  <a:pt x="3740" y="15542"/>
                  <a:pt x="3876" y="15549"/>
                  <a:pt x="4018" y="15528"/>
                </a:cubicBezTo>
                <a:cubicBezTo>
                  <a:pt x="4108" y="15515"/>
                  <a:pt x="4199" y="15506"/>
                  <a:pt x="4291" y="15503"/>
                </a:cubicBezTo>
                <a:cubicBezTo>
                  <a:pt x="4417" y="15499"/>
                  <a:pt x="4540" y="15504"/>
                  <a:pt x="4663" y="15478"/>
                </a:cubicBezTo>
                <a:cubicBezTo>
                  <a:pt x="4720" y="15466"/>
                  <a:pt x="4716" y="15469"/>
                  <a:pt x="4762" y="15429"/>
                </a:cubicBezTo>
                <a:cubicBezTo>
                  <a:pt x="4826" y="15374"/>
                  <a:pt x="4834" y="15340"/>
                  <a:pt x="4862" y="15255"/>
                </a:cubicBezTo>
                <a:cubicBezTo>
                  <a:pt x="4887" y="15178"/>
                  <a:pt x="4885" y="15114"/>
                  <a:pt x="4887" y="15032"/>
                </a:cubicBezTo>
                <a:cubicBezTo>
                  <a:pt x="4889" y="14922"/>
                  <a:pt x="4925" y="14838"/>
                  <a:pt x="4936" y="14734"/>
                </a:cubicBezTo>
                <a:cubicBezTo>
                  <a:pt x="4948" y="14624"/>
                  <a:pt x="4957" y="14545"/>
                  <a:pt x="4986" y="14436"/>
                </a:cubicBezTo>
                <a:cubicBezTo>
                  <a:pt x="5013" y="14335"/>
                  <a:pt x="5060" y="14199"/>
                  <a:pt x="5060" y="14089"/>
                </a:cubicBezTo>
                <a:cubicBezTo>
                  <a:pt x="5060" y="14013"/>
                  <a:pt x="5028" y="13915"/>
                  <a:pt x="5011" y="13841"/>
                </a:cubicBezTo>
                <a:cubicBezTo>
                  <a:pt x="4995" y="13772"/>
                  <a:pt x="4986" y="13708"/>
                  <a:pt x="4961" y="13643"/>
                </a:cubicBezTo>
                <a:cubicBezTo>
                  <a:pt x="4938" y="13583"/>
                  <a:pt x="4919" y="13569"/>
                  <a:pt x="4887" y="13519"/>
                </a:cubicBezTo>
                <a:cubicBezTo>
                  <a:pt x="4871" y="13494"/>
                  <a:pt x="4871" y="13472"/>
                  <a:pt x="4837" y="13444"/>
                </a:cubicBezTo>
                <a:cubicBezTo>
                  <a:pt x="4809" y="13422"/>
                  <a:pt x="4748" y="13358"/>
                  <a:pt x="4713" y="13345"/>
                </a:cubicBezTo>
                <a:cubicBezTo>
                  <a:pt x="4643" y="13318"/>
                  <a:pt x="4588" y="13323"/>
                  <a:pt x="4514" y="13320"/>
                </a:cubicBezTo>
                <a:cubicBezTo>
                  <a:pt x="4353" y="13313"/>
                  <a:pt x="4195" y="13333"/>
                  <a:pt x="4043" y="13345"/>
                </a:cubicBezTo>
                <a:cubicBezTo>
                  <a:pt x="3964" y="13351"/>
                  <a:pt x="3861" y="13365"/>
                  <a:pt x="3795" y="13370"/>
                </a:cubicBezTo>
                <a:cubicBezTo>
                  <a:pt x="3706" y="13376"/>
                  <a:pt x="3631" y="13378"/>
                  <a:pt x="3547" y="13395"/>
                </a:cubicBezTo>
                <a:cubicBezTo>
                  <a:pt x="3480" y="13409"/>
                  <a:pt x="3418" y="13429"/>
                  <a:pt x="3349" y="13444"/>
                </a:cubicBezTo>
                <a:cubicBezTo>
                  <a:pt x="3264" y="13463"/>
                  <a:pt x="3162" y="13486"/>
                  <a:pt x="3076" y="13494"/>
                </a:cubicBezTo>
                <a:cubicBezTo>
                  <a:pt x="2987" y="13502"/>
                  <a:pt x="2917" y="13517"/>
                  <a:pt x="2828" y="13519"/>
                </a:cubicBezTo>
                <a:cubicBezTo>
                  <a:pt x="2758" y="13521"/>
                  <a:pt x="2712" y="13530"/>
                  <a:pt x="2654" y="13543"/>
                </a:cubicBezTo>
              </a:path>
              <a:path w="3151" h="2382">
                <a:moveTo>
                  <a:pt x="2505" y="13494"/>
                </a:moveTo>
                <a:cubicBezTo>
                  <a:pt x="2499" y="13535"/>
                  <a:pt x="2486" y="13555"/>
                  <a:pt x="2480" y="13593"/>
                </a:cubicBezTo>
                <a:cubicBezTo>
                  <a:pt x="2471" y="13647"/>
                  <a:pt x="2464" y="13694"/>
                  <a:pt x="2456" y="13742"/>
                </a:cubicBezTo>
                <a:cubicBezTo>
                  <a:pt x="2443" y="13822"/>
                  <a:pt x="2472" y="13889"/>
                  <a:pt x="2480" y="13965"/>
                </a:cubicBezTo>
                <a:cubicBezTo>
                  <a:pt x="2487" y="14027"/>
                  <a:pt x="2476" y="14033"/>
                  <a:pt x="2480" y="14064"/>
                </a:cubicBezTo>
                <a:cubicBezTo>
                  <a:pt x="2505" y="14256"/>
                  <a:pt x="2490" y="14507"/>
                  <a:pt x="2456" y="14684"/>
                </a:cubicBezTo>
                <a:cubicBezTo>
                  <a:pt x="2438" y="14777"/>
                  <a:pt x="2470" y="14872"/>
                  <a:pt x="2480" y="14957"/>
                </a:cubicBezTo>
                <a:cubicBezTo>
                  <a:pt x="2488" y="15020"/>
                  <a:pt x="2446" y="15049"/>
                  <a:pt x="2456" y="15106"/>
                </a:cubicBezTo>
                <a:cubicBezTo>
                  <a:pt x="2469" y="15179"/>
                  <a:pt x="2480" y="15230"/>
                  <a:pt x="2480" y="15304"/>
                </a:cubicBezTo>
                <a:cubicBezTo>
                  <a:pt x="2480" y="15378"/>
                  <a:pt x="2460" y="15433"/>
                  <a:pt x="2456" y="15503"/>
                </a:cubicBezTo>
                <a:cubicBezTo>
                  <a:pt x="2454" y="15544"/>
                  <a:pt x="2456" y="15536"/>
                  <a:pt x="2456" y="15577"/>
                </a:cubicBezTo>
              </a:path>
              <a:path w="3151" h="2382">
                <a:moveTo>
                  <a:pt x="1910" y="15032"/>
                </a:moveTo>
                <a:cubicBezTo>
                  <a:pt x="1950" y="15000"/>
                  <a:pt x="1983" y="14966"/>
                  <a:pt x="2059" y="14957"/>
                </a:cubicBezTo>
                <a:cubicBezTo>
                  <a:pt x="2188" y="14942"/>
                  <a:pt x="2326" y="14935"/>
                  <a:pt x="2456" y="14932"/>
                </a:cubicBezTo>
                <a:cubicBezTo>
                  <a:pt x="2640" y="14927"/>
                  <a:pt x="2820" y="14923"/>
                  <a:pt x="3001" y="14908"/>
                </a:cubicBezTo>
                <a:cubicBezTo>
                  <a:pt x="3157" y="14895"/>
                  <a:pt x="3318" y="14894"/>
                  <a:pt x="3473" y="14883"/>
                </a:cubicBezTo>
                <a:cubicBezTo>
                  <a:pt x="3606" y="14873"/>
                  <a:pt x="3740" y="14870"/>
                  <a:pt x="3870" y="14858"/>
                </a:cubicBezTo>
                <a:cubicBezTo>
                  <a:pt x="3993" y="14846"/>
                  <a:pt x="4119" y="14836"/>
                  <a:pt x="4242" y="14833"/>
                </a:cubicBezTo>
                <a:cubicBezTo>
                  <a:pt x="4392" y="14829"/>
                  <a:pt x="4538" y="14796"/>
                  <a:pt x="4688" y="14784"/>
                </a:cubicBezTo>
                <a:cubicBezTo>
                  <a:pt x="4746" y="14784"/>
                  <a:pt x="4754" y="14784"/>
                  <a:pt x="4787" y="147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5000760"/>
            <a:ext cx="1482480" cy="438120"/>
          </a:xfrm>
          <a:custGeom>
            <a:avLst/>
            <a:gdLst/>
            <a:ahLst/>
            <a:rect l="l" t="t" r="r" b="b"/>
            <a:pathLst>
              <a:path w="4118" h="1216">
                <a:moveTo>
                  <a:pt x="6201" y="14188"/>
                </a:moveTo>
                <a:cubicBezTo>
                  <a:pt x="6176" y="14339"/>
                  <a:pt x="6097" y="14487"/>
                  <a:pt x="6052" y="14635"/>
                </a:cubicBezTo>
                <a:cubicBezTo>
                  <a:pt x="6001" y="14806"/>
                  <a:pt x="5931" y="15027"/>
                  <a:pt x="6201" y="14982"/>
                </a:cubicBezTo>
                <a:cubicBezTo>
                  <a:pt x="6408" y="14947"/>
                  <a:pt x="6488" y="14847"/>
                  <a:pt x="6474" y="14660"/>
                </a:cubicBezTo>
                <a:cubicBezTo>
                  <a:pt x="6339" y="14623"/>
                  <a:pt x="6253" y="14647"/>
                  <a:pt x="6201" y="14808"/>
                </a:cubicBezTo>
                <a:cubicBezTo>
                  <a:pt x="6201" y="14893"/>
                  <a:pt x="6194" y="14913"/>
                  <a:pt x="6226" y="14957"/>
                </a:cubicBezTo>
              </a:path>
              <a:path w="4118" h="1216">
                <a:moveTo>
                  <a:pt x="6871" y="14709"/>
                </a:moveTo>
                <a:cubicBezTo>
                  <a:pt x="6791" y="14789"/>
                  <a:pt x="6796" y="14745"/>
                  <a:pt x="6796" y="14858"/>
                </a:cubicBezTo>
                <a:cubicBezTo>
                  <a:pt x="6880" y="14795"/>
                  <a:pt x="6936" y="14714"/>
                  <a:pt x="6796" y="14784"/>
                </a:cubicBezTo>
              </a:path>
              <a:path w="4118" h="1216">
                <a:moveTo>
                  <a:pt x="7342" y="14015"/>
                </a:moveTo>
                <a:cubicBezTo>
                  <a:pt x="7318" y="14178"/>
                  <a:pt x="7311" y="14362"/>
                  <a:pt x="7293" y="14536"/>
                </a:cubicBezTo>
                <a:cubicBezTo>
                  <a:pt x="7291" y="14558"/>
                  <a:pt x="7217" y="14862"/>
                  <a:pt x="7293" y="14610"/>
                </a:cubicBezTo>
              </a:path>
              <a:path w="4118" h="1216">
                <a:moveTo>
                  <a:pt x="7789" y="13965"/>
                </a:moveTo>
                <a:cubicBezTo>
                  <a:pt x="7668" y="14065"/>
                  <a:pt x="7590" y="14271"/>
                  <a:pt x="7565" y="14436"/>
                </a:cubicBezTo>
                <a:cubicBezTo>
                  <a:pt x="7565" y="14572"/>
                  <a:pt x="7559" y="14611"/>
                  <a:pt x="7615" y="14684"/>
                </a:cubicBezTo>
                <a:cubicBezTo>
                  <a:pt x="7834" y="14626"/>
                  <a:pt x="8079" y="14450"/>
                  <a:pt x="7987" y="14163"/>
                </a:cubicBezTo>
                <a:cubicBezTo>
                  <a:pt x="7932" y="13992"/>
                  <a:pt x="7789" y="14058"/>
                  <a:pt x="7689" y="14089"/>
                </a:cubicBezTo>
              </a:path>
              <a:path w="4118" h="1216">
                <a:moveTo>
                  <a:pt x="8260" y="14635"/>
                </a:moveTo>
                <a:cubicBezTo>
                  <a:pt x="8319" y="14771"/>
                  <a:pt x="8281" y="14877"/>
                  <a:pt x="8210" y="15007"/>
                </a:cubicBezTo>
                <a:cubicBezTo>
                  <a:pt x="8145" y="15094"/>
                  <a:pt x="8125" y="15141"/>
                  <a:pt x="8111" y="15032"/>
                </a:cubicBezTo>
              </a:path>
              <a:path w="4118" h="1216">
                <a:moveTo>
                  <a:pt x="8880" y="14039"/>
                </a:moveTo>
                <a:cubicBezTo>
                  <a:pt x="8867" y="14239"/>
                  <a:pt x="8773" y="14375"/>
                  <a:pt x="8731" y="14560"/>
                </a:cubicBezTo>
                <a:cubicBezTo>
                  <a:pt x="8731" y="14651"/>
                  <a:pt x="8731" y="14659"/>
                  <a:pt x="8731" y="14709"/>
                </a:cubicBezTo>
                <a:cubicBezTo>
                  <a:pt x="8869" y="14726"/>
                  <a:pt x="8998" y="14726"/>
                  <a:pt x="9054" y="14560"/>
                </a:cubicBezTo>
                <a:cubicBezTo>
                  <a:pt x="9093" y="14443"/>
                  <a:pt x="9006" y="14441"/>
                  <a:pt x="8930" y="14412"/>
                </a:cubicBezTo>
                <a:cubicBezTo>
                  <a:pt x="8808" y="14488"/>
                  <a:pt x="8841" y="14562"/>
                  <a:pt x="8855" y="14709"/>
                </a:cubicBezTo>
              </a:path>
              <a:path w="4118" h="1216">
                <a:moveTo>
                  <a:pt x="9252" y="14560"/>
                </a:moveTo>
                <a:cubicBezTo>
                  <a:pt x="9239" y="14567"/>
                  <a:pt x="9167" y="14630"/>
                  <a:pt x="9203" y="14660"/>
                </a:cubicBezTo>
                <a:cubicBezTo>
                  <a:pt x="9238" y="14689"/>
                  <a:pt x="9242" y="14625"/>
                  <a:pt x="9227" y="14610"/>
                </a:cubicBezTo>
              </a:path>
              <a:path w="4118" h="1216">
                <a:moveTo>
                  <a:pt x="9723" y="14064"/>
                </a:moveTo>
                <a:cubicBezTo>
                  <a:pt x="9583" y="14064"/>
                  <a:pt x="9522" y="14189"/>
                  <a:pt x="9475" y="14312"/>
                </a:cubicBezTo>
                <a:cubicBezTo>
                  <a:pt x="9453" y="14427"/>
                  <a:pt x="9445" y="14460"/>
                  <a:pt x="9451" y="14536"/>
                </a:cubicBezTo>
                <a:cubicBezTo>
                  <a:pt x="9655" y="14564"/>
                  <a:pt x="9782" y="14494"/>
                  <a:pt x="9798" y="14263"/>
                </a:cubicBezTo>
                <a:cubicBezTo>
                  <a:pt x="9806" y="14149"/>
                  <a:pt x="9739" y="14114"/>
                  <a:pt x="9649" y="14114"/>
                </a:cubicBezTo>
              </a:path>
              <a:path w="4118" h="1216">
                <a:moveTo>
                  <a:pt x="10096" y="13891"/>
                </a:moveTo>
                <a:cubicBezTo>
                  <a:pt x="10163" y="13913"/>
                  <a:pt x="10075" y="14276"/>
                  <a:pt x="10071" y="14337"/>
                </a:cubicBezTo>
                <a:cubicBezTo>
                  <a:pt x="10071" y="14428"/>
                  <a:pt x="10071" y="14436"/>
                  <a:pt x="10071" y="144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000" y="3062160"/>
            <a:ext cx="5295960" cy="1455840"/>
          </a:xfrm>
          <a:custGeom>
            <a:avLst/>
            <a:gdLst/>
            <a:ahLst/>
            <a:rect l="l" t="t" r="r" b="b"/>
            <a:pathLst>
              <a:path w="14710" h="4044">
                <a:moveTo>
                  <a:pt x="2555" y="8533"/>
                </a:moveTo>
                <a:cubicBezTo>
                  <a:pt x="2587" y="8565"/>
                  <a:pt x="2610" y="8643"/>
                  <a:pt x="2629" y="8706"/>
                </a:cubicBezTo>
                <a:cubicBezTo>
                  <a:pt x="2643" y="8699"/>
                  <a:pt x="2624" y="8593"/>
                  <a:pt x="2654" y="8582"/>
                </a:cubicBezTo>
                <a:cubicBezTo>
                  <a:pt x="2756" y="8544"/>
                  <a:pt x="2916" y="8536"/>
                  <a:pt x="3026" y="8508"/>
                </a:cubicBezTo>
                <a:cubicBezTo>
                  <a:pt x="3051" y="8508"/>
                  <a:pt x="3059" y="8508"/>
                  <a:pt x="3076" y="8508"/>
                </a:cubicBezTo>
                <a:cubicBezTo>
                  <a:pt x="3046" y="8746"/>
                  <a:pt x="2961" y="8971"/>
                  <a:pt x="2902" y="9203"/>
                </a:cubicBezTo>
                <a:cubicBezTo>
                  <a:pt x="2897" y="9224"/>
                  <a:pt x="2884" y="9390"/>
                  <a:pt x="2853" y="9327"/>
                </a:cubicBezTo>
              </a:path>
              <a:path w="14710" h="4044">
                <a:moveTo>
                  <a:pt x="3398" y="9153"/>
                </a:moveTo>
                <a:cubicBezTo>
                  <a:pt x="3423" y="9153"/>
                  <a:pt x="3431" y="9153"/>
                  <a:pt x="3423" y="9128"/>
                </a:cubicBezTo>
                <a:cubicBezTo>
                  <a:pt x="3337" y="9107"/>
                  <a:pt x="3357" y="9058"/>
                  <a:pt x="3349" y="9203"/>
                </a:cubicBezTo>
                <a:cubicBezTo>
                  <a:pt x="3346" y="9255"/>
                  <a:pt x="3493" y="9163"/>
                  <a:pt x="3423" y="9128"/>
                </a:cubicBezTo>
                <a:cubicBezTo>
                  <a:pt x="3379" y="9106"/>
                  <a:pt x="3334" y="9232"/>
                  <a:pt x="3373" y="9227"/>
                </a:cubicBezTo>
                <a:cubicBezTo>
                  <a:pt x="3381" y="9219"/>
                  <a:pt x="3390" y="9211"/>
                  <a:pt x="3398" y="9203"/>
                </a:cubicBezTo>
                <a:cubicBezTo>
                  <a:pt x="3458" y="9062"/>
                  <a:pt x="3369" y="9172"/>
                  <a:pt x="3373" y="9203"/>
                </a:cubicBezTo>
                <a:cubicBezTo>
                  <a:pt x="3375" y="9214"/>
                  <a:pt x="3437" y="9159"/>
                  <a:pt x="3448" y="9153"/>
                </a:cubicBezTo>
              </a:path>
              <a:path w="14710" h="4044">
                <a:moveTo>
                  <a:pt x="3125" y="9773"/>
                </a:moveTo>
                <a:cubicBezTo>
                  <a:pt x="3090" y="9746"/>
                  <a:pt x="3026" y="9698"/>
                  <a:pt x="2977" y="9699"/>
                </a:cubicBezTo>
                <a:cubicBezTo>
                  <a:pt x="2760" y="9705"/>
                  <a:pt x="2621" y="9971"/>
                  <a:pt x="2679" y="10170"/>
                </a:cubicBezTo>
                <a:cubicBezTo>
                  <a:pt x="2768" y="10304"/>
                  <a:pt x="2784" y="10351"/>
                  <a:pt x="2902" y="10344"/>
                </a:cubicBezTo>
                <a:cubicBezTo>
                  <a:pt x="3082" y="10186"/>
                  <a:pt x="3206" y="10051"/>
                  <a:pt x="3101" y="9798"/>
                </a:cubicBezTo>
                <a:cubicBezTo>
                  <a:pt x="3060" y="9699"/>
                  <a:pt x="2941" y="9635"/>
                  <a:pt x="2877" y="9699"/>
                </a:cubicBezTo>
              </a:path>
              <a:path w="14710" h="4044">
                <a:moveTo>
                  <a:pt x="3522" y="10096"/>
                </a:moveTo>
                <a:cubicBezTo>
                  <a:pt x="3481" y="10109"/>
                  <a:pt x="3477" y="10143"/>
                  <a:pt x="3473" y="10195"/>
                </a:cubicBezTo>
                <a:cubicBezTo>
                  <a:pt x="3473" y="10203"/>
                  <a:pt x="3473" y="10212"/>
                  <a:pt x="3473" y="10220"/>
                </a:cubicBezTo>
                <a:cubicBezTo>
                  <a:pt x="3473" y="10107"/>
                  <a:pt x="3432" y="10207"/>
                  <a:pt x="3522" y="10145"/>
                </a:cubicBezTo>
              </a:path>
              <a:path w="14710" h="4044">
                <a:moveTo>
                  <a:pt x="4118" y="9699"/>
                </a:moveTo>
                <a:cubicBezTo>
                  <a:pt x="4118" y="9646"/>
                  <a:pt x="4095" y="9622"/>
                  <a:pt x="4142" y="9599"/>
                </a:cubicBezTo>
                <a:cubicBezTo>
                  <a:pt x="4216" y="9562"/>
                  <a:pt x="4392" y="9490"/>
                  <a:pt x="4440" y="9500"/>
                </a:cubicBezTo>
                <a:cubicBezTo>
                  <a:pt x="4440" y="9721"/>
                  <a:pt x="4387" y="9912"/>
                  <a:pt x="4316" y="10120"/>
                </a:cubicBezTo>
                <a:cubicBezTo>
                  <a:pt x="4294" y="10186"/>
                  <a:pt x="4266" y="10339"/>
                  <a:pt x="4266" y="10269"/>
                </a:cubicBezTo>
              </a:path>
              <a:path w="14710" h="4044">
                <a:moveTo>
                  <a:pt x="4887" y="9599"/>
                </a:moveTo>
                <a:cubicBezTo>
                  <a:pt x="4802" y="9617"/>
                  <a:pt x="4726" y="9624"/>
                  <a:pt x="4638" y="9624"/>
                </a:cubicBezTo>
                <a:cubicBezTo>
                  <a:pt x="4638" y="9741"/>
                  <a:pt x="4621" y="9855"/>
                  <a:pt x="4614" y="9971"/>
                </a:cubicBezTo>
                <a:cubicBezTo>
                  <a:pt x="4695" y="9948"/>
                  <a:pt x="4867" y="9878"/>
                  <a:pt x="4936" y="9996"/>
                </a:cubicBezTo>
                <a:cubicBezTo>
                  <a:pt x="5030" y="10156"/>
                  <a:pt x="4768" y="10307"/>
                  <a:pt x="4638" y="10269"/>
                </a:cubicBezTo>
                <a:cubicBezTo>
                  <a:pt x="4617" y="10263"/>
                  <a:pt x="4540" y="10220"/>
                  <a:pt x="4589" y="10220"/>
                </a:cubicBezTo>
              </a:path>
              <a:path w="14710" h="4044">
                <a:moveTo>
                  <a:pt x="5209" y="9500"/>
                </a:moveTo>
                <a:cubicBezTo>
                  <a:pt x="5209" y="9367"/>
                  <a:pt x="5242" y="9714"/>
                  <a:pt x="5234" y="9847"/>
                </a:cubicBezTo>
                <a:cubicBezTo>
                  <a:pt x="5226" y="9983"/>
                  <a:pt x="5202" y="10117"/>
                  <a:pt x="5159" y="10244"/>
                </a:cubicBezTo>
              </a:path>
              <a:path w="14710" h="4044">
                <a:moveTo>
                  <a:pt x="1910" y="9922"/>
                </a:moveTo>
                <a:cubicBezTo>
                  <a:pt x="1910" y="9930"/>
                  <a:pt x="1910" y="9939"/>
                  <a:pt x="1910" y="9947"/>
                </a:cubicBezTo>
                <a:cubicBezTo>
                  <a:pt x="1910" y="10001"/>
                  <a:pt x="1900" y="9908"/>
                  <a:pt x="1935" y="9897"/>
                </a:cubicBezTo>
                <a:cubicBezTo>
                  <a:pt x="2061" y="9858"/>
                  <a:pt x="2072" y="10082"/>
                  <a:pt x="2059" y="10145"/>
                </a:cubicBezTo>
                <a:cubicBezTo>
                  <a:pt x="2039" y="10241"/>
                  <a:pt x="1972" y="10385"/>
                  <a:pt x="1860" y="10393"/>
                </a:cubicBezTo>
                <a:cubicBezTo>
                  <a:pt x="1816" y="10393"/>
                  <a:pt x="1802" y="10396"/>
                  <a:pt x="1786" y="10368"/>
                </a:cubicBezTo>
                <a:cubicBezTo>
                  <a:pt x="1842" y="10299"/>
                  <a:pt x="1853" y="10232"/>
                  <a:pt x="1960" y="10244"/>
                </a:cubicBezTo>
                <a:cubicBezTo>
                  <a:pt x="2030" y="10252"/>
                  <a:pt x="2085" y="10302"/>
                  <a:pt x="2133" y="10344"/>
                </a:cubicBezTo>
              </a:path>
              <a:path w="14710" h="4044">
                <a:moveTo>
                  <a:pt x="1736" y="10517"/>
                </a:moveTo>
                <a:cubicBezTo>
                  <a:pt x="1747" y="10595"/>
                  <a:pt x="1815" y="10666"/>
                  <a:pt x="1910" y="10666"/>
                </a:cubicBezTo>
                <a:cubicBezTo>
                  <a:pt x="2036" y="10666"/>
                  <a:pt x="2165" y="10571"/>
                  <a:pt x="2232" y="10468"/>
                </a:cubicBezTo>
                <a:cubicBezTo>
                  <a:pt x="2308" y="10351"/>
                  <a:pt x="2325" y="10223"/>
                  <a:pt x="2257" y="10096"/>
                </a:cubicBezTo>
                <a:cubicBezTo>
                  <a:pt x="2209" y="10007"/>
                  <a:pt x="2052" y="9937"/>
                  <a:pt x="1960" y="9922"/>
                </a:cubicBezTo>
                <a:cubicBezTo>
                  <a:pt x="1837" y="9901"/>
                  <a:pt x="1733" y="9945"/>
                  <a:pt x="1637" y="10021"/>
                </a:cubicBezTo>
                <a:cubicBezTo>
                  <a:pt x="1517" y="10116"/>
                  <a:pt x="1572" y="10225"/>
                  <a:pt x="1612" y="10344"/>
                </a:cubicBezTo>
                <a:cubicBezTo>
                  <a:pt x="1647" y="10449"/>
                  <a:pt x="1696" y="10515"/>
                  <a:pt x="1761" y="10592"/>
                </a:cubicBezTo>
                <a:cubicBezTo>
                  <a:pt x="1784" y="10614"/>
                  <a:pt x="1789" y="10622"/>
                  <a:pt x="1811" y="10616"/>
                </a:cubicBezTo>
              </a:path>
              <a:path w="14710" h="4044">
                <a:moveTo>
                  <a:pt x="2977" y="10046"/>
                </a:moveTo>
                <a:cubicBezTo>
                  <a:pt x="3161" y="10029"/>
                  <a:pt x="3341" y="9987"/>
                  <a:pt x="3522" y="9947"/>
                </a:cubicBezTo>
                <a:cubicBezTo>
                  <a:pt x="3845" y="9875"/>
                  <a:pt x="4158" y="9777"/>
                  <a:pt x="4490" y="9748"/>
                </a:cubicBezTo>
                <a:cubicBezTo>
                  <a:pt x="4737" y="9727"/>
                  <a:pt x="4988" y="9744"/>
                  <a:pt x="5234" y="9723"/>
                </a:cubicBezTo>
                <a:cubicBezTo>
                  <a:pt x="5382" y="9711"/>
                  <a:pt x="5485" y="9702"/>
                  <a:pt x="5631" y="9723"/>
                </a:cubicBezTo>
              </a:path>
              <a:path w="14710" h="4044">
                <a:moveTo>
                  <a:pt x="12824" y="9079"/>
                </a:moveTo>
                <a:cubicBezTo>
                  <a:pt x="12779" y="9222"/>
                  <a:pt x="12751" y="9352"/>
                  <a:pt x="12601" y="9351"/>
                </a:cubicBezTo>
              </a:path>
              <a:path w="14710" h="4044">
                <a:moveTo>
                  <a:pt x="13891" y="8830"/>
                </a:moveTo>
                <a:cubicBezTo>
                  <a:pt x="13891" y="8962"/>
                  <a:pt x="13953" y="8812"/>
                  <a:pt x="13965" y="8781"/>
                </a:cubicBezTo>
              </a:path>
              <a:path w="14710" h="4044">
                <a:moveTo>
                  <a:pt x="14858" y="9079"/>
                </a:moveTo>
                <a:cubicBezTo>
                  <a:pt x="14814" y="9189"/>
                  <a:pt x="14809" y="9222"/>
                  <a:pt x="14734" y="9252"/>
                </a:cubicBezTo>
              </a:path>
              <a:path w="14710" h="4044">
                <a:moveTo>
                  <a:pt x="496" y="11832"/>
                </a:moveTo>
                <a:cubicBezTo>
                  <a:pt x="466" y="11891"/>
                  <a:pt x="536" y="11725"/>
                  <a:pt x="571" y="11683"/>
                </a:cubicBezTo>
                <a:cubicBezTo>
                  <a:pt x="769" y="11828"/>
                  <a:pt x="699" y="12018"/>
                  <a:pt x="546" y="12204"/>
                </a:cubicBezTo>
                <a:cubicBezTo>
                  <a:pt x="466" y="12263"/>
                  <a:pt x="458" y="12288"/>
                  <a:pt x="397" y="12278"/>
                </a:cubicBezTo>
                <a:cubicBezTo>
                  <a:pt x="382" y="12083"/>
                  <a:pt x="460" y="12058"/>
                  <a:pt x="645" y="12129"/>
                </a:cubicBezTo>
                <a:cubicBezTo>
                  <a:pt x="722" y="12168"/>
                  <a:pt x="737" y="12167"/>
                  <a:pt x="769" y="12204"/>
                </a:cubicBezTo>
              </a:path>
              <a:path w="14710" h="4044">
                <a:moveTo>
                  <a:pt x="223" y="12526"/>
                </a:moveTo>
                <a:cubicBezTo>
                  <a:pt x="504" y="12537"/>
                  <a:pt x="795" y="12497"/>
                  <a:pt x="943" y="12204"/>
                </a:cubicBezTo>
                <a:cubicBezTo>
                  <a:pt x="1119" y="11857"/>
                  <a:pt x="857" y="11470"/>
                  <a:pt x="471" y="11485"/>
                </a:cubicBezTo>
                <a:cubicBezTo>
                  <a:pt x="-287" y="11514"/>
                  <a:pt x="308" y="12353"/>
                  <a:pt x="372" y="1242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3240" y="2928960"/>
            <a:ext cx="2179800" cy="330120"/>
          </a:xfrm>
          <a:custGeom>
            <a:avLst/>
            <a:gdLst/>
            <a:ahLst/>
            <a:rect l="l" t="t" r="r" b="b"/>
            <a:pathLst>
              <a:path w="6054" h="919">
                <a:moveTo>
                  <a:pt x="11509" y="8558"/>
                </a:moveTo>
                <a:cubicBezTo>
                  <a:pt x="11568" y="8514"/>
                  <a:pt x="11680" y="8519"/>
                  <a:pt x="11757" y="8508"/>
                </a:cubicBezTo>
                <a:cubicBezTo>
                  <a:pt x="11840" y="8496"/>
                  <a:pt x="11823" y="8551"/>
                  <a:pt x="11807" y="8607"/>
                </a:cubicBezTo>
                <a:cubicBezTo>
                  <a:pt x="11769" y="8741"/>
                  <a:pt x="11696" y="8891"/>
                  <a:pt x="11683" y="9029"/>
                </a:cubicBezTo>
                <a:cubicBezTo>
                  <a:pt x="11683" y="9037"/>
                  <a:pt x="11683" y="9046"/>
                  <a:pt x="11683" y="9054"/>
                </a:cubicBezTo>
              </a:path>
              <a:path w="6054" h="919">
                <a:moveTo>
                  <a:pt x="12378" y="8458"/>
                </a:moveTo>
                <a:cubicBezTo>
                  <a:pt x="12336" y="8465"/>
                  <a:pt x="12201" y="8475"/>
                  <a:pt x="12179" y="8483"/>
                </a:cubicBezTo>
                <a:cubicBezTo>
                  <a:pt x="12149" y="8494"/>
                  <a:pt x="12095" y="8646"/>
                  <a:pt x="12080" y="8682"/>
                </a:cubicBezTo>
                <a:cubicBezTo>
                  <a:pt x="12180" y="8682"/>
                  <a:pt x="12265" y="8622"/>
                  <a:pt x="12353" y="8706"/>
                </a:cubicBezTo>
                <a:cubicBezTo>
                  <a:pt x="12486" y="8833"/>
                  <a:pt x="12244" y="8983"/>
                  <a:pt x="12154" y="9004"/>
                </a:cubicBezTo>
                <a:cubicBezTo>
                  <a:pt x="12065" y="9025"/>
                  <a:pt x="12000" y="8983"/>
                  <a:pt x="11981" y="8905"/>
                </a:cubicBezTo>
              </a:path>
              <a:path w="6054" h="919">
                <a:moveTo>
                  <a:pt x="12650" y="8483"/>
                </a:moveTo>
                <a:cubicBezTo>
                  <a:pt x="12650" y="8413"/>
                  <a:pt x="12628" y="8696"/>
                  <a:pt x="12626" y="8706"/>
                </a:cubicBezTo>
                <a:cubicBezTo>
                  <a:pt x="12608" y="8806"/>
                  <a:pt x="12585" y="8903"/>
                  <a:pt x="12576" y="9004"/>
                </a:cubicBezTo>
              </a:path>
              <a:path w="6054" h="919">
                <a:moveTo>
                  <a:pt x="13717" y="8384"/>
                </a:moveTo>
                <a:cubicBezTo>
                  <a:pt x="13634" y="8384"/>
                  <a:pt x="13535" y="8365"/>
                  <a:pt x="13469" y="8434"/>
                </a:cubicBezTo>
                <a:cubicBezTo>
                  <a:pt x="13394" y="8514"/>
                  <a:pt x="13166" y="8867"/>
                  <a:pt x="13320" y="8954"/>
                </a:cubicBezTo>
                <a:cubicBezTo>
                  <a:pt x="13499" y="9055"/>
                  <a:pt x="13648" y="8851"/>
                  <a:pt x="13692" y="8706"/>
                </a:cubicBezTo>
                <a:cubicBezTo>
                  <a:pt x="13728" y="8590"/>
                  <a:pt x="13753" y="8373"/>
                  <a:pt x="13568" y="8409"/>
                </a:cubicBezTo>
                <a:cubicBezTo>
                  <a:pt x="13552" y="8417"/>
                  <a:pt x="13535" y="8426"/>
                  <a:pt x="13519" y="8434"/>
                </a:cubicBezTo>
              </a:path>
              <a:path w="6054" h="919">
                <a:moveTo>
                  <a:pt x="14263" y="8458"/>
                </a:moveTo>
                <a:cubicBezTo>
                  <a:pt x="14274" y="8415"/>
                  <a:pt x="14297" y="8374"/>
                  <a:pt x="14337" y="8359"/>
                </a:cubicBezTo>
                <a:cubicBezTo>
                  <a:pt x="14446" y="8319"/>
                  <a:pt x="14573" y="8330"/>
                  <a:pt x="14684" y="8310"/>
                </a:cubicBezTo>
                <a:cubicBezTo>
                  <a:pt x="14692" y="8310"/>
                  <a:pt x="14701" y="8310"/>
                  <a:pt x="14709" y="8310"/>
                </a:cubicBezTo>
                <a:cubicBezTo>
                  <a:pt x="14684" y="8480"/>
                  <a:pt x="14607" y="8640"/>
                  <a:pt x="14560" y="8806"/>
                </a:cubicBezTo>
                <a:cubicBezTo>
                  <a:pt x="14542" y="8880"/>
                  <a:pt x="14534" y="8887"/>
                  <a:pt x="14536" y="8930"/>
                </a:cubicBezTo>
              </a:path>
              <a:path w="6054" h="919">
                <a:moveTo>
                  <a:pt x="15503" y="8409"/>
                </a:moveTo>
                <a:cubicBezTo>
                  <a:pt x="15328" y="8429"/>
                  <a:pt x="15278" y="8553"/>
                  <a:pt x="15205" y="8706"/>
                </a:cubicBezTo>
                <a:cubicBezTo>
                  <a:pt x="15159" y="8823"/>
                  <a:pt x="15139" y="8858"/>
                  <a:pt x="15205" y="8930"/>
                </a:cubicBezTo>
                <a:cubicBezTo>
                  <a:pt x="15391" y="8909"/>
                  <a:pt x="15530" y="8879"/>
                  <a:pt x="15602" y="8682"/>
                </a:cubicBezTo>
                <a:cubicBezTo>
                  <a:pt x="15640" y="8578"/>
                  <a:pt x="15646" y="8461"/>
                  <a:pt x="15553" y="8434"/>
                </a:cubicBezTo>
                <a:cubicBezTo>
                  <a:pt x="15495" y="8415"/>
                  <a:pt x="15470" y="8388"/>
                  <a:pt x="15478" y="8434"/>
                </a:cubicBezTo>
              </a:path>
              <a:path w="6054" h="919">
                <a:moveTo>
                  <a:pt x="15900" y="8731"/>
                </a:moveTo>
                <a:cubicBezTo>
                  <a:pt x="15893" y="8766"/>
                  <a:pt x="15844" y="8867"/>
                  <a:pt x="15900" y="8756"/>
                </a:cubicBezTo>
              </a:path>
              <a:path w="6054" h="919">
                <a:moveTo>
                  <a:pt x="16321" y="8384"/>
                </a:moveTo>
                <a:cubicBezTo>
                  <a:pt x="16258" y="8544"/>
                  <a:pt x="16180" y="8659"/>
                  <a:pt x="16247" y="8806"/>
                </a:cubicBezTo>
                <a:cubicBezTo>
                  <a:pt x="16421" y="8768"/>
                  <a:pt x="16552" y="8688"/>
                  <a:pt x="16545" y="8483"/>
                </a:cubicBezTo>
                <a:cubicBezTo>
                  <a:pt x="16541" y="8367"/>
                  <a:pt x="16461" y="8342"/>
                  <a:pt x="16371" y="8310"/>
                </a:cubicBezTo>
              </a:path>
              <a:path w="6054" h="919">
                <a:moveTo>
                  <a:pt x="16991" y="8285"/>
                </a:moveTo>
                <a:cubicBezTo>
                  <a:pt x="16965" y="8258"/>
                  <a:pt x="16860" y="8296"/>
                  <a:pt x="16793" y="8310"/>
                </a:cubicBezTo>
                <a:cubicBezTo>
                  <a:pt x="16731" y="8322"/>
                  <a:pt x="16749" y="8382"/>
                  <a:pt x="16743" y="8434"/>
                </a:cubicBezTo>
                <a:cubicBezTo>
                  <a:pt x="16815" y="8434"/>
                  <a:pt x="16904" y="8375"/>
                  <a:pt x="16966" y="8434"/>
                </a:cubicBezTo>
                <a:cubicBezTo>
                  <a:pt x="17072" y="8535"/>
                  <a:pt x="16983" y="8798"/>
                  <a:pt x="16818" y="8756"/>
                </a:cubicBezTo>
                <a:cubicBezTo>
                  <a:pt x="16727" y="8689"/>
                  <a:pt x="16700" y="8674"/>
                  <a:pt x="16669" y="8607"/>
                </a:cubicBezTo>
              </a:path>
              <a:path w="6054" h="919">
                <a:moveTo>
                  <a:pt x="17165" y="8186"/>
                </a:moveTo>
                <a:cubicBezTo>
                  <a:pt x="17295" y="8180"/>
                  <a:pt x="17450" y="8184"/>
                  <a:pt x="17562" y="8136"/>
                </a:cubicBezTo>
                <a:cubicBezTo>
                  <a:pt x="17562" y="8257"/>
                  <a:pt x="17541" y="8420"/>
                  <a:pt x="17512" y="8533"/>
                </a:cubicBezTo>
                <a:cubicBezTo>
                  <a:pt x="17476" y="8623"/>
                  <a:pt x="17459" y="8628"/>
                  <a:pt x="17462" y="868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93920" y="3081240"/>
            <a:ext cx="142920" cy="187560"/>
          </a:xfrm>
          <a:custGeom>
            <a:avLst/>
            <a:gdLst/>
            <a:ahLst/>
            <a:rect l="l" t="t" r="r" b="b"/>
            <a:pathLst>
              <a:path w="397" h="522">
                <a:moveTo>
                  <a:pt x="4068" y="8607"/>
                </a:moveTo>
                <a:cubicBezTo>
                  <a:pt x="4034" y="8555"/>
                  <a:pt x="3949" y="8612"/>
                  <a:pt x="3919" y="8682"/>
                </a:cubicBezTo>
                <a:cubicBezTo>
                  <a:pt x="3889" y="8751"/>
                  <a:pt x="3820" y="9004"/>
                  <a:pt x="3919" y="9054"/>
                </a:cubicBezTo>
                <a:cubicBezTo>
                  <a:pt x="4062" y="9126"/>
                  <a:pt x="4189" y="9035"/>
                  <a:pt x="4242" y="8905"/>
                </a:cubicBezTo>
                <a:cubicBezTo>
                  <a:pt x="4284" y="8802"/>
                  <a:pt x="4260" y="8728"/>
                  <a:pt x="4192" y="8657"/>
                </a:cubicBezTo>
                <a:cubicBezTo>
                  <a:pt x="4151" y="8613"/>
                  <a:pt x="4130" y="8593"/>
                  <a:pt x="4118" y="85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0040" y="3036960"/>
            <a:ext cx="295200" cy="204840"/>
          </a:xfrm>
          <a:custGeom>
            <a:avLst/>
            <a:gdLst/>
            <a:ahLst/>
            <a:rect l="l" t="t" r="r" b="b"/>
            <a:pathLst>
              <a:path w="820" h="571">
                <a:moveTo>
                  <a:pt x="4986" y="8533"/>
                </a:moveTo>
                <a:cubicBezTo>
                  <a:pt x="4942" y="8522"/>
                  <a:pt x="4911" y="8495"/>
                  <a:pt x="4862" y="8483"/>
                </a:cubicBezTo>
                <a:cubicBezTo>
                  <a:pt x="4753" y="8455"/>
                  <a:pt x="4654" y="8686"/>
                  <a:pt x="4638" y="8756"/>
                </a:cubicBezTo>
                <a:cubicBezTo>
                  <a:pt x="4619" y="8839"/>
                  <a:pt x="4613" y="8984"/>
                  <a:pt x="4738" y="8979"/>
                </a:cubicBezTo>
                <a:cubicBezTo>
                  <a:pt x="4895" y="8972"/>
                  <a:pt x="4954" y="8830"/>
                  <a:pt x="4961" y="8706"/>
                </a:cubicBezTo>
                <a:cubicBezTo>
                  <a:pt x="4966" y="8616"/>
                  <a:pt x="4971" y="8519"/>
                  <a:pt x="4887" y="8483"/>
                </a:cubicBezTo>
                <a:cubicBezTo>
                  <a:pt x="4832" y="8459"/>
                  <a:pt x="4837" y="8424"/>
                  <a:pt x="4837" y="8458"/>
                </a:cubicBezTo>
              </a:path>
              <a:path w="820" h="571">
                <a:moveTo>
                  <a:pt x="5358" y="8508"/>
                </a:moveTo>
                <a:cubicBezTo>
                  <a:pt x="5314" y="8475"/>
                  <a:pt x="5265" y="8468"/>
                  <a:pt x="5209" y="8508"/>
                </a:cubicBezTo>
                <a:cubicBezTo>
                  <a:pt x="5111" y="8579"/>
                  <a:pt x="5024" y="8756"/>
                  <a:pt x="5060" y="8880"/>
                </a:cubicBezTo>
                <a:cubicBezTo>
                  <a:pt x="5090" y="8983"/>
                  <a:pt x="5175" y="9041"/>
                  <a:pt x="5283" y="9004"/>
                </a:cubicBezTo>
                <a:cubicBezTo>
                  <a:pt x="5440" y="8950"/>
                  <a:pt x="5453" y="8820"/>
                  <a:pt x="5457" y="8682"/>
                </a:cubicBezTo>
                <a:cubicBezTo>
                  <a:pt x="5460" y="8599"/>
                  <a:pt x="5439" y="8540"/>
                  <a:pt x="5358" y="8508"/>
                </a:cubicBezTo>
                <a:cubicBezTo>
                  <a:pt x="5333" y="8508"/>
                  <a:pt x="5325" y="8508"/>
                  <a:pt x="5308" y="85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62640" y="5160960"/>
            <a:ext cx="53640" cy="125280"/>
          </a:xfrm>
          <a:custGeom>
            <a:avLst/>
            <a:gdLst/>
            <a:ahLst/>
            <a:rect l="l" t="t" r="r" b="b"/>
            <a:pathLst>
              <a:path w="150" h="348">
                <a:moveTo>
                  <a:pt x="12824" y="14337"/>
                </a:moveTo>
                <a:cubicBezTo>
                  <a:pt x="12790" y="14516"/>
                  <a:pt x="12796" y="14564"/>
                  <a:pt x="12675" y="146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70200" y="4946760"/>
            <a:ext cx="884160" cy="420480"/>
          </a:xfrm>
          <a:custGeom>
            <a:avLst/>
            <a:gdLst/>
            <a:ahLst/>
            <a:rect l="l" t="t" r="r" b="b"/>
            <a:pathLst>
              <a:path w="2456" h="1167">
                <a:moveTo>
                  <a:pt x="10319" y="14511"/>
                </a:moveTo>
                <a:cubicBezTo>
                  <a:pt x="10319" y="14675"/>
                  <a:pt x="10275" y="14770"/>
                  <a:pt x="10195" y="14908"/>
                </a:cubicBezTo>
              </a:path>
              <a:path w="2456" h="1167">
                <a:moveTo>
                  <a:pt x="10914" y="13965"/>
                </a:moveTo>
                <a:cubicBezTo>
                  <a:pt x="10827" y="13791"/>
                  <a:pt x="10683" y="14117"/>
                  <a:pt x="10666" y="14163"/>
                </a:cubicBezTo>
                <a:cubicBezTo>
                  <a:pt x="10622" y="14361"/>
                  <a:pt x="10605" y="14409"/>
                  <a:pt x="10616" y="14536"/>
                </a:cubicBezTo>
                <a:cubicBezTo>
                  <a:pt x="10862" y="14613"/>
                  <a:pt x="11069" y="14481"/>
                  <a:pt x="11063" y="14163"/>
                </a:cubicBezTo>
                <a:cubicBezTo>
                  <a:pt x="11060" y="13996"/>
                  <a:pt x="10908" y="13962"/>
                  <a:pt x="10790" y="13915"/>
                </a:cubicBezTo>
              </a:path>
              <a:path w="2456" h="1167">
                <a:moveTo>
                  <a:pt x="11336" y="14337"/>
                </a:moveTo>
                <a:cubicBezTo>
                  <a:pt x="11336" y="14414"/>
                  <a:pt x="11314" y="14486"/>
                  <a:pt x="11361" y="14362"/>
                </a:cubicBezTo>
              </a:path>
              <a:path w="2456" h="1167">
                <a:moveTo>
                  <a:pt x="11956" y="14015"/>
                </a:moveTo>
                <a:cubicBezTo>
                  <a:pt x="11980" y="13919"/>
                  <a:pt x="12002" y="13737"/>
                  <a:pt x="11832" y="13742"/>
                </a:cubicBezTo>
                <a:cubicBezTo>
                  <a:pt x="11627" y="13748"/>
                  <a:pt x="11575" y="13999"/>
                  <a:pt x="11584" y="14139"/>
                </a:cubicBezTo>
                <a:cubicBezTo>
                  <a:pt x="11714" y="14084"/>
                  <a:pt x="11742" y="13784"/>
                  <a:pt x="11857" y="13866"/>
                </a:cubicBezTo>
                <a:cubicBezTo>
                  <a:pt x="11913" y="13905"/>
                  <a:pt x="11879" y="14262"/>
                  <a:pt x="11881" y="14337"/>
                </a:cubicBezTo>
                <a:cubicBezTo>
                  <a:pt x="11806" y="14544"/>
                  <a:pt x="11951" y="14222"/>
                  <a:pt x="11956" y="14213"/>
                </a:cubicBezTo>
              </a:path>
              <a:path w="2456" h="1167">
                <a:moveTo>
                  <a:pt x="12378" y="13791"/>
                </a:moveTo>
                <a:cubicBezTo>
                  <a:pt x="12179" y="13959"/>
                  <a:pt x="12154" y="14084"/>
                  <a:pt x="12154" y="14337"/>
                </a:cubicBezTo>
                <a:cubicBezTo>
                  <a:pt x="12374" y="14407"/>
                  <a:pt x="12660" y="14286"/>
                  <a:pt x="12650" y="13965"/>
                </a:cubicBezTo>
                <a:cubicBezTo>
                  <a:pt x="12647" y="13877"/>
                  <a:pt x="12402" y="13661"/>
                  <a:pt x="12402" y="13816"/>
                </a:cubicBezTo>
                <a:cubicBezTo>
                  <a:pt x="12410" y="13841"/>
                  <a:pt x="12419" y="13866"/>
                  <a:pt x="12427" y="138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6200" y="4894200"/>
            <a:ext cx="206640" cy="276120"/>
          </a:xfrm>
          <a:custGeom>
            <a:avLst/>
            <a:gdLst/>
            <a:ahLst/>
            <a:rect l="l" t="t" r="r" b="b"/>
            <a:pathLst>
              <a:path w="572" h="770">
                <a:moveTo>
                  <a:pt x="13593" y="13593"/>
                </a:moveTo>
                <a:cubicBezTo>
                  <a:pt x="13419" y="13680"/>
                  <a:pt x="13295" y="13951"/>
                  <a:pt x="13295" y="14163"/>
                </a:cubicBezTo>
                <a:cubicBezTo>
                  <a:pt x="13312" y="14213"/>
                  <a:pt x="13328" y="14262"/>
                  <a:pt x="13345" y="14312"/>
                </a:cubicBezTo>
                <a:cubicBezTo>
                  <a:pt x="13585" y="14334"/>
                  <a:pt x="13878" y="14192"/>
                  <a:pt x="13866" y="13866"/>
                </a:cubicBezTo>
                <a:cubicBezTo>
                  <a:pt x="13860" y="13715"/>
                  <a:pt x="13655" y="13658"/>
                  <a:pt x="13543" y="136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60960" y="4857840"/>
            <a:ext cx="268200" cy="258840"/>
          </a:xfrm>
          <a:custGeom>
            <a:avLst/>
            <a:gdLst/>
            <a:ahLst/>
            <a:rect l="l" t="t" r="r" b="b"/>
            <a:pathLst>
              <a:path w="745" h="720">
                <a:moveTo>
                  <a:pt x="14511" y="13568"/>
                </a:moveTo>
                <a:cubicBezTo>
                  <a:pt x="14487" y="13663"/>
                  <a:pt x="14413" y="13760"/>
                  <a:pt x="14387" y="13866"/>
                </a:cubicBezTo>
                <a:cubicBezTo>
                  <a:pt x="14361" y="13969"/>
                  <a:pt x="14347" y="14083"/>
                  <a:pt x="14337" y="14188"/>
                </a:cubicBezTo>
                <a:cubicBezTo>
                  <a:pt x="14501" y="14223"/>
                  <a:pt x="14748" y="14220"/>
                  <a:pt x="14759" y="13990"/>
                </a:cubicBezTo>
                <a:cubicBezTo>
                  <a:pt x="14729" y="13960"/>
                  <a:pt x="14715" y="13949"/>
                  <a:pt x="14684" y="13940"/>
                </a:cubicBezTo>
                <a:cubicBezTo>
                  <a:pt x="14581" y="13974"/>
                  <a:pt x="14418" y="14062"/>
                  <a:pt x="14536" y="14213"/>
                </a:cubicBezTo>
                <a:cubicBezTo>
                  <a:pt x="14576" y="14213"/>
                  <a:pt x="14595" y="14202"/>
                  <a:pt x="14610" y="14163"/>
                </a:cubicBezTo>
              </a:path>
              <a:path w="745" h="720">
                <a:moveTo>
                  <a:pt x="15081" y="13494"/>
                </a:moveTo>
                <a:cubicBezTo>
                  <a:pt x="15081" y="13677"/>
                  <a:pt x="15059" y="13856"/>
                  <a:pt x="15056" y="14039"/>
                </a:cubicBezTo>
                <a:cubicBezTo>
                  <a:pt x="15054" y="14124"/>
                  <a:pt x="15085" y="14170"/>
                  <a:pt x="15032" y="141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040" y="5259240"/>
            <a:ext cx="1079640" cy="866880"/>
          </a:xfrm>
          <a:custGeom>
            <a:avLst/>
            <a:gdLst/>
            <a:ahLst/>
            <a:rect l="l" t="t" r="r" b="b"/>
            <a:pathLst>
              <a:path w="3002" h="2407">
                <a:moveTo>
                  <a:pt x="2654" y="15652"/>
                </a:moveTo>
                <a:cubicBezTo>
                  <a:pt x="2617" y="15540"/>
                  <a:pt x="2445" y="15783"/>
                  <a:pt x="2431" y="15801"/>
                </a:cubicBezTo>
                <a:cubicBezTo>
                  <a:pt x="2366" y="15886"/>
                  <a:pt x="2305" y="15958"/>
                  <a:pt x="2282" y="16049"/>
                </a:cubicBezTo>
                <a:cubicBezTo>
                  <a:pt x="2421" y="16037"/>
                  <a:pt x="2625" y="16008"/>
                  <a:pt x="2729" y="15900"/>
                </a:cubicBezTo>
                <a:cubicBezTo>
                  <a:pt x="2825" y="15801"/>
                  <a:pt x="2766" y="15670"/>
                  <a:pt x="2654" y="15627"/>
                </a:cubicBezTo>
                <a:cubicBezTo>
                  <a:pt x="2563" y="15592"/>
                  <a:pt x="2653" y="15700"/>
                  <a:pt x="2654" y="15701"/>
                </a:cubicBezTo>
              </a:path>
              <a:path w="3002" h="2407">
                <a:moveTo>
                  <a:pt x="3175" y="15999"/>
                </a:moveTo>
                <a:cubicBezTo>
                  <a:pt x="3145" y="15979"/>
                  <a:pt x="3159" y="15927"/>
                  <a:pt x="3150" y="15949"/>
                </a:cubicBezTo>
                <a:cubicBezTo>
                  <a:pt x="3150" y="15974"/>
                  <a:pt x="3150" y="15982"/>
                  <a:pt x="3125" y="15974"/>
                </a:cubicBezTo>
              </a:path>
              <a:path w="3002" h="2407">
                <a:moveTo>
                  <a:pt x="3795" y="15354"/>
                </a:moveTo>
                <a:cubicBezTo>
                  <a:pt x="3795" y="15471"/>
                  <a:pt x="3758" y="15592"/>
                  <a:pt x="3721" y="15701"/>
                </a:cubicBezTo>
                <a:cubicBezTo>
                  <a:pt x="3688" y="15801"/>
                  <a:pt x="3656" y="15871"/>
                  <a:pt x="3646" y="15974"/>
                </a:cubicBezTo>
                <a:cubicBezTo>
                  <a:pt x="3763" y="16044"/>
                  <a:pt x="3922" y="16022"/>
                  <a:pt x="4043" y="15925"/>
                </a:cubicBezTo>
                <a:cubicBezTo>
                  <a:pt x="4122" y="15862"/>
                  <a:pt x="4141" y="15798"/>
                  <a:pt x="4093" y="15751"/>
                </a:cubicBezTo>
                <a:cubicBezTo>
                  <a:pt x="3988" y="15751"/>
                  <a:pt x="3747" y="15813"/>
                  <a:pt x="3795" y="15999"/>
                </a:cubicBezTo>
                <a:cubicBezTo>
                  <a:pt x="3812" y="15999"/>
                  <a:pt x="3828" y="15999"/>
                  <a:pt x="3845" y="15999"/>
                </a:cubicBezTo>
              </a:path>
              <a:path w="3002" h="2407">
                <a:moveTo>
                  <a:pt x="4490" y="15280"/>
                </a:moveTo>
                <a:cubicBezTo>
                  <a:pt x="4490" y="15160"/>
                  <a:pt x="4456" y="15459"/>
                  <a:pt x="4440" y="15577"/>
                </a:cubicBezTo>
                <a:cubicBezTo>
                  <a:pt x="4425" y="15689"/>
                  <a:pt x="4415" y="15767"/>
                  <a:pt x="4415" y="15875"/>
                </a:cubicBezTo>
              </a:path>
              <a:path w="3002" h="2407">
                <a:moveTo>
                  <a:pt x="2629" y="16297"/>
                </a:moveTo>
                <a:cubicBezTo>
                  <a:pt x="2481" y="16297"/>
                  <a:pt x="2449" y="16521"/>
                  <a:pt x="2406" y="16619"/>
                </a:cubicBezTo>
                <a:cubicBezTo>
                  <a:pt x="2340" y="16774"/>
                  <a:pt x="2312" y="16811"/>
                  <a:pt x="2356" y="16917"/>
                </a:cubicBezTo>
                <a:cubicBezTo>
                  <a:pt x="2564" y="16932"/>
                  <a:pt x="2704" y="16815"/>
                  <a:pt x="2753" y="16594"/>
                </a:cubicBezTo>
                <a:cubicBezTo>
                  <a:pt x="2792" y="16417"/>
                  <a:pt x="2736" y="16380"/>
                  <a:pt x="2604" y="16321"/>
                </a:cubicBezTo>
              </a:path>
              <a:path w="3002" h="2407">
                <a:moveTo>
                  <a:pt x="3200" y="16718"/>
                </a:moveTo>
                <a:cubicBezTo>
                  <a:pt x="3171" y="16754"/>
                  <a:pt x="3108" y="16825"/>
                  <a:pt x="3175" y="16842"/>
                </a:cubicBezTo>
                <a:cubicBezTo>
                  <a:pt x="3209" y="16850"/>
                  <a:pt x="3208" y="16796"/>
                  <a:pt x="3225" y="16768"/>
                </a:cubicBezTo>
                <a:cubicBezTo>
                  <a:pt x="3182" y="16790"/>
                  <a:pt x="3173" y="16791"/>
                  <a:pt x="3200" y="16818"/>
                </a:cubicBezTo>
              </a:path>
              <a:path w="3002" h="2407">
                <a:moveTo>
                  <a:pt x="3944" y="16421"/>
                </a:moveTo>
                <a:cubicBezTo>
                  <a:pt x="3990" y="16406"/>
                  <a:pt x="3971" y="16347"/>
                  <a:pt x="3944" y="16297"/>
                </a:cubicBezTo>
                <a:cubicBezTo>
                  <a:pt x="3924" y="16261"/>
                  <a:pt x="3877" y="16241"/>
                  <a:pt x="3845" y="16222"/>
                </a:cubicBezTo>
                <a:cubicBezTo>
                  <a:pt x="3743" y="16332"/>
                  <a:pt x="3686" y="16394"/>
                  <a:pt x="3671" y="16545"/>
                </a:cubicBezTo>
                <a:cubicBezTo>
                  <a:pt x="3809" y="16568"/>
                  <a:pt x="3879" y="16538"/>
                  <a:pt x="3969" y="16421"/>
                </a:cubicBezTo>
                <a:cubicBezTo>
                  <a:pt x="4006" y="16364"/>
                  <a:pt x="4023" y="16361"/>
                  <a:pt x="4018" y="16321"/>
                </a:cubicBezTo>
                <a:cubicBezTo>
                  <a:pt x="3997" y="16497"/>
                  <a:pt x="3972" y="16672"/>
                  <a:pt x="3919" y="16842"/>
                </a:cubicBezTo>
                <a:cubicBezTo>
                  <a:pt x="3895" y="16890"/>
                  <a:pt x="3887" y="16905"/>
                  <a:pt x="3894" y="16942"/>
                </a:cubicBezTo>
              </a:path>
              <a:path w="3002" h="2407">
                <a:moveTo>
                  <a:pt x="3076" y="16297"/>
                </a:moveTo>
                <a:cubicBezTo>
                  <a:pt x="3087" y="16350"/>
                  <a:pt x="3101" y="16389"/>
                  <a:pt x="3101" y="16446"/>
                </a:cubicBezTo>
                <a:cubicBezTo>
                  <a:pt x="3101" y="16497"/>
                  <a:pt x="3102" y="16515"/>
                  <a:pt x="3125" y="16545"/>
                </a:cubicBezTo>
              </a:path>
              <a:path w="3002" h="2407">
                <a:moveTo>
                  <a:pt x="3101" y="16644"/>
                </a:moveTo>
                <a:cubicBezTo>
                  <a:pt x="3101" y="16669"/>
                  <a:pt x="3101" y="16677"/>
                  <a:pt x="3101" y="16694"/>
                </a:cubicBezTo>
                <a:cubicBezTo>
                  <a:pt x="3135" y="16717"/>
                  <a:pt x="3143" y="16785"/>
                  <a:pt x="3150" y="16842"/>
                </a:cubicBezTo>
              </a:path>
              <a:path w="3002" h="2407">
                <a:moveTo>
                  <a:pt x="4390" y="14660"/>
                </a:moveTo>
                <a:cubicBezTo>
                  <a:pt x="4379" y="14627"/>
                  <a:pt x="4339" y="14612"/>
                  <a:pt x="4291" y="14610"/>
                </a:cubicBezTo>
                <a:cubicBezTo>
                  <a:pt x="4110" y="14603"/>
                  <a:pt x="4045" y="14715"/>
                  <a:pt x="3969" y="14858"/>
                </a:cubicBezTo>
                <a:cubicBezTo>
                  <a:pt x="3918" y="14955"/>
                  <a:pt x="3902" y="15131"/>
                  <a:pt x="4068" y="15131"/>
                </a:cubicBezTo>
                <a:cubicBezTo>
                  <a:pt x="4207" y="15131"/>
                  <a:pt x="4386" y="15008"/>
                  <a:pt x="4390" y="14858"/>
                </a:cubicBezTo>
                <a:cubicBezTo>
                  <a:pt x="4394" y="14694"/>
                  <a:pt x="4341" y="14691"/>
                  <a:pt x="4242" y="14610"/>
                </a:cubicBezTo>
              </a:path>
              <a:path w="3002" h="2407">
                <a:moveTo>
                  <a:pt x="4390" y="16446"/>
                </a:moveTo>
                <a:cubicBezTo>
                  <a:pt x="4425" y="16434"/>
                  <a:pt x="4415" y="16439"/>
                  <a:pt x="4415" y="16396"/>
                </a:cubicBezTo>
                <a:cubicBezTo>
                  <a:pt x="4372" y="16396"/>
                  <a:pt x="4318" y="16379"/>
                  <a:pt x="4291" y="16421"/>
                </a:cubicBezTo>
                <a:cubicBezTo>
                  <a:pt x="4229" y="16516"/>
                  <a:pt x="4196" y="16632"/>
                  <a:pt x="4192" y="16743"/>
                </a:cubicBezTo>
                <a:cubicBezTo>
                  <a:pt x="4189" y="16827"/>
                  <a:pt x="4240" y="16896"/>
                  <a:pt x="4341" y="16892"/>
                </a:cubicBezTo>
                <a:cubicBezTo>
                  <a:pt x="4414" y="16889"/>
                  <a:pt x="4563" y="16823"/>
                  <a:pt x="4614" y="16768"/>
                </a:cubicBezTo>
                <a:cubicBezTo>
                  <a:pt x="4662" y="16717"/>
                  <a:pt x="4709" y="16645"/>
                  <a:pt x="4688" y="16570"/>
                </a:cubicBezTo>
                <a:cubicBezTo>
                  <a:pt x="4663" y="16480"/>
                  <a:pt x="4627" y="16455"/>
                  <a:pt x="4539" y="16421"/>
                </a:cubicBezTo>
                <a:cubicBezTo>
                  <a:pt x="4452" y="16387"/>
                  <a:pt x="4435" y="16390"/>
                  <a:pt x="4366" y="16446"/>
                </a:cubicBezTo>
              </a:path>
              <a:path w="3002" h="2407">
                <a:moveTo>
                  <a:pt x="2604" y="15701"/>
                </a:moveTo>
                <a:cubicBezTo>
                  <a:pt x="2580" y="15701"/>
                  <a:pt x="2572" y="15701"/>
                  <a:pt x="2580" y="15677"/>
                </a:cubicBezTo>
                <a:cubicBezTo>
                  <a:pt x="2580" y="15724"/>
                  <a:pt x="2590" y="15782"/>
                  <a:pt x="2604" y="15825"/>
                </a:cubicBezTo>
                <a:cubicBezTo>
                  <a:pt x="2625" y="15889"/>
                  <a:pt x="2647" y="15958"/>
                  <a:pt x="2654" y="16024"/>
                </a:cubicBezTo>
                <a:cubicBezTo>
                  <a:pt x="2669" y="16177"/>
                  <a:pt x="2660" y="16352"/>
                  <a:pt x="2629" y="16495"/>
                </a:cubicBezTo>
                <a:cubicBezTo>
                  <a:pt x="2616" y="16557"/>
                  <a:pt x="2615" y="16633"/>
                  <a:pt x="2604" y="16694"/>
                </a:cubicBezTo>
                <a:cubicBezTo>
                  <a:pt x="2594" y="16749"/>
                  <a:pt x="2594" y="16794"/>
                  <a:pt x="2580" y="16842"/>
                </a:cubicBezTo>
                <a:cubicBezTo>
                  <a:pt x="2574" y="16863"/>
                  <a:pt x="2568" y="17017"/>
                  <a:pt x="2604" y="17016"/>
                </a:cubicBezTo>
                <a:cubicBezTo>
                  <a:pt x="2604" y="16991"/>
                  <a:pt x="2604" y="16983"/>
                  <a:pt x="2604" y="17016"/>
                </a:cubicBezTo>
              </a:path>
              <a:path w="3002" h="2407">
                <a:moveTo>
                  <a:pt x="1712" y="16793"/>
                </a:moveTo>
                <a:cubicBezTo>
                  <a:pt x="1717" y="16786"/>
                  <a:pt x="1810" y="16726"/>
                  <a:pt x="1910" y="16718"/>
                </a:cubicBezTo>
                <a:cubicBezTo>
                  <a:pt x="2274" y="16690"/>
                  <a:pt x="2637" y="16652"/>
                  <a:pt x="3001" y="16619"/>
                </a:cubicBezTo>
                <a:cubicBezTo>
                  <a:pt x="3340" y="16589"/>
                  <a:pt x="3678" y="16570"/>
                  <a:pt x="4018" y="16570"/>
                </a:cubicBezTo>
                <a:cubicBezTo>
                  <a:pt x="4159" y="16570"/>
                  <a:pt x="4272" y="16585"/>
                  <a:pt x="4415" y="16570"/>
                </a:cubicBezTo>
                <a:cubicBezTo>
                  <a:pt x="4440" y="16567"/>
                  <a:pt x="4415" y="16575"/>
                  <a:pt x="4440" y="16570"/>
                </a:cubicBezTo>
              </a:path>
              <a:path w="3002" h="2407">
                <a:moveTo>
                  <a:pt x="2034" y="15900"/>
                </a:moveTo>
                <a:cubicBezTo>
                  <a:pt x="2067" y="15849"/>
                  <a:pt x="2619" y="15945"/>
                  <a:pt x="2729" y="15949"/>
                </a:cubicBezTo>
                <a:cubicBezTo>
                  <a:pt x="3228" y="15967"/>
                  <a:pt x="3721" y="15939"/>
                  <a:pt x="4217" y="15900"/>
                </a:cubicBezTo>
                <a:cubicBezTo>
                  <a:pt x="4242" y="15900"/>
                  <a:pt x="4250" y="15900"/>
                  <a:pt x="4266" y="1590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28920" y="5419800"/>
            <a:ext cx="2598840" cy="455400"/>
          </a:xfrm>
          <a:custGeom>
            <a:avLst/>
            <a:gdLst/>
            <a:ahLst/>
            <a:rect l="l" t="t" r="r" b="b"/>
            <a:pathLst>
              <a:path w="7219" h="1266">
                <a:moveTo>
                  <a:pt x="6921" y="15652"/>
                </a:moveTo>
                <a:cubicBezTo>
                  <a:pt x="6921" y="15807"/>
                  <a:pt x="6904" y="15870"/>
                  <a:pt x="6846" y="16024"/>
                </a:cubicBezTo>
                <a:cubicBezTo>
                  <a:pt x="6812" y="16115"/>
                  <a:pt x="6766" y="16184"/>
                  <a:pt x="6747" y="16272"/>
                </a:cubicBezTo>
                <a:cubicBezTo>
                  <a:pt x="6912" y="16338"/>
                  <a:pt x="7008" y="16324"/>
                  <a:pt x="7119" y="16173"/>
                </a:cubicBezTo>
                <a:cubicBezTo>
                  <a:pt x="7157" y="16096"/>
                  <a:pt x="7156" y="16081"/>
                  <a:pt x="7193" y="16049"/>
                </a:cubicBezTo>
                <a:cubicBezTo>
                  <a:pt x="7089" y="16059"/>
                  <a:pt x="6990" y="16061"/>
                  <a:pt x="6945" y="16173"/>
                </a:cubicBezTo>
                <a:cubicBezTo>
                  <a:pt x="6895" y="16296"/>
                  <a:pt x="7003" y="16239"/>
                  <a:pt x="7045" y="16222"/>
                </a:cubicBezTo>
              </a:path>
              <a:path w="7219" h="1266">
                <a:moveTo>
                  <a:pt x="7367" y="16024"/>
                </a:moveTo>
                <a:cubicBezTo>
                  <a:pt x="7340" y="16096"/>
                  <a:pt x="7320" y="16117"/>
                  <a:pt x="7342" y="16173"/>
                </a:cubicBezTo>
                <a:cubicBezTo>
                  <a:pt x="7381" y="16124"/>
                  <a:pt x="7418" y="16092"/>
                  <a:pt x="7342" y="16073"/>
                </a:cubicBezTo>
              </a:path>
              <a:path w="7219" h="1266">
                <a:moveTo>
                  <a:pt x="7665" y="15677"/>
                </a:moveTo>
                <a:cubicBezTo>
                  <a:pt x="7665" y="15845"/>
                  <a:pt x="7660" y="16013"/>
                  <a:pt x="7689" y="16173"/>
                </a:cubicBezTo>
                <a:cubicBezTo>
                  <a:pt x="7689" y="16197"/>
                  <a:pt x="7689" y="16205"/>
                  <a:pt x="7689" y="16173"/>
                </a:cubicBezTo>
              </a:path>
              <a:path w="7219" h="1266">
                <a:moveTo>
                  <a:pt x="8483" y="15453"/>
                </a:moveTo>
                <a:cubicBezTo>
                  <a:pt x="8483" y="15410"/>
                  <a:pt x="8436" y="15646"/>
                  <a:pt x="8434" y="15652"/>
                </a:cubicBezTo>
                <a:cubicBezTo>
                  <a:pt x="8390" y="15801"/>
                  <a:pt x="8363" y="15881"/>
                  <a:pt x="8384" y="16024"/>
                </a:cubicBezTo>
                <a:cubicBezTo>
                  <a:pt x="8538" y="16060"/>
                  <a:pt x="8577" y="16060"/>
                  <a:pt x="8682" y="15949"/>
                </a:cubicBezTo>
                <a:cubicBezTo>
                  <a:pt x="8736" y="15892"/>
                  <a:pt x="8731" y="15896"/>
                  <a:pt x="8731" y="15825"/>
                </a:cubicBezTo>
                <a:cubicBezTo>
                  <a:pt x="8612" y="15799"/>
                  <a:pt x="8539" y="15865"/>
                  <a:pt x="8508" y="15999"/>
                </a:cubicBezTo>
                <a:cubicBezTo>
                  <a:pt x="8508" y="16073"/>
                  <a:pt x="8483" y="16106"/>
                  <a:pt x="8533" y="16098"/>
                </a:cubicBezTo>
              </a:path>
              <a:path w="7219" h="1266">
                <a:moveTo>
                  <a:pt x="8880" y="15949"/>
                </a:moveTo>
                <a:cubicBezTo>
                  <a:pt x="8869" y="15994"/>
                  <a:pt x="8848" y="15983"/>
                  <a:pt x="8880" y="15999"/>
                </a:cubicBezTo>
              </a:path>
              <a:path w="7219" h="1266">
                <a:moveTo>
                  <a:pt x="9351" y="15503"/>
                </a:moveTo>
                <a:cubicBezTo>
                  <a:pt x="9237" y="15574"/>
                  <a:pt x="9036" y="15754"/>
                  <a:pt x="9079" y="15925"/>
                </a:cubicBezTo>
                <a:cubicBezTo>
                  <a:pt x="9104" y="15950"/>
                  <a:pt x="9128" y="15974"/>
                  <a:pt x="9153" y="15999"/>
                </a:cubicBezTo>
                <a:cubicBezTo>
                  <a:pt x="9318" y="15949"/>
                  <a:pt x="9565" y="15864"/>
                  <a:pt x="9451" y="15627"/>
                </a:cubicBezTo>
                <a:cubicBezTo>
                  <a:pt x="9387" y="15585"/>
                  <a:pt x="9376" y="15568"/>
                  <a:pt x="9327" y="15577"/>
                </a:cubicBezTo>
              </a:path>
              <a:path w="7219" h="1266">
                <a:moveTo>
                  <a:pt x="9723" y="15429"/>
                </a:moveTo>
                <a:cubicBezTo>
                  <a:pt x="9723" y="15602"/>
                  <a:pt x="9723" y="15776"/>
                  <a:pt x="9723" y="15949"/>
                </a:cubicBezTo>
              </a:path>
              <a:path w="7219" h="1266">
                <a:moveTo>
                  <a:pt x="10840" y="15280"/>
                </a:moveTo>
                <a:cubicBezTo>
                  <a:pt x="10756" y="15300"/>
                  <a:pt x="10738" y="15324"/>
                  <a:pt x="10691" y="15429"/>
                </a:cubicBezTo>
                <a:cubicBezTo>
                  <a:pt x="10652" y="15517"/>
                  <a:pt x="10496" y="15836"/>
                  <a:pt x="10616" y="15900"/>
                </a:cubicBezTo>
                <a:cubicBezTo>
                  <a:pt x="10807" y="16003"/>
                  <a:pt x="10994" y="15830"/>
                  <a:pt x="11038" y="15652"/>
                </a:cubicBezTo>
                <a:cubicBezTo>
                  <a:pt x="11063" y="15551"/>
                  <a:pt x="10966" y="15276"/>
                  <a:pt x="10815" y="15304"/>
                </a:cubicBezTo>
                <a:cubicBezTo>
                  <a:pt x="10798" y="15321"/>
                  <a:pt x="10782" y="15337"/>
                  <a:pt x="10765" y="15354"/>
                </a:cubicBezTo>
              </a:path>
              <a:path w="7219" h="1266">
                <a:moveTo>
                  <a:pt x="11237" y="15801"/>
                </a:moveTo>
                <a:cubicBezTo>
                  <a:pt x="11205" y="15811"/>
                  <a:pt x="11143" y="15906"/>
                  <a:pt x="11237" y="15925"/>
                </a:cubicBezTo>
                <a:cubicBezTo>
                  <a:pt x="11293" y="15896"/>
                  <a:pt x="11312" y="15880"/>
                  <a:pt x="11311" y="15825"/>
                </a:cubicBezTo>
                <a:cubicBezTo>
                  <a:pt x="11274" y="15813"/>
                  <a:pt x="11159" y="15824"/>
                  <a:pt x="11237" y="15850"/>
                </a:cubicBezTo>
              </a:path>
              <a:path w="7219" h="1266">
                <a:moveTo>
                  <a:pt x="11832" y="15379"/>
                </a:moveTo>
                <a:cubicBezTo>
                  <a:pt x="11841" y="15290"/>
                  <a:pt x="11795" y="15128"/>
                  <a:pt x="11683" y="15081"/>
                </a:cubicBezTo>
                <a:cubicBezTo>
                  <a:pt x="11658" y="15081"/>
                  <a:pt x="11634" y="15081"/>
                  <a:pt x="11609" y="15081"/>
                </a:cubicBezTo>
                <a:cubicBezTo>
                  <a:pt x="11535" y="15175"/>
                  <a:pt x="11356" y="15442"/>
                  <a:pt x="11584" y="15503"/>
                </a:cubicBezTo>
                <a:cubicBezTo>
                  <a:pt x="11751" y="15547"/>
                  <a:pt x="11774" y="15302"/>
                  <a:pt x="11782" y="15205"/>
                </a:cubicBezTo>
                <a:cubicBezTo>
                  <a:pt x="11782" y="15437"/>
                  <a:pt x="11782" y="15668"/>
                  <a:pt x="11782" y="15900"/>
                </a:cubicBezTo>
              </a:path>
              <a:path w="7219" h="1266">
                <a:moveTo>
                  <a:pt x="12626" y="15304"/>
                </a:moveTo>
                <a:cubicBezTo>
                  <a:pt x="12557" y="15205"/>
                  <a:pt x="12399" y="15446"/>
                  <a:pt x="12378" y="15503"/>
                </a:cubicBezTo>
                <a:cubicBezTo>
                  <a:pt x="12355" y="15661"/>
                  <a:pt x="12344" y="15703"/>
                  <a:pt x="12378" y="15801"/>
                </a:cubicBezTo>
                <a:cubicBezTo>
                  <a:pt x="12557" y="15823"/>
                  <a:pt x="12768" y="15811"/>
                  <a:pt x="12799" y="15577"/>
                </a:cubicBezTo>
                <a:cubicBezTo>
                  <a:pt x="12814" y="15467"/>
                  <a:pt x="12730" y="15319"/>
                  <a:pt x="12626" y="15280"/>
                </a:cubicBezTo>
                <a:cubicBezTo>
                  <a:pt x="12618" y="15280"/>
                  <a:pt x="12609" y="15280"/>
                  <a:pt x="12601" y="15280"/>
                </a:cubicBezTo>
              </a:path>
              <a:path w="7219" h="1266">
                <a:moveTo>
                  <a:pt x="12998" y="15726"/>
                </a:moveTo>
                <a:cubicBezTo>
                  <a:pt x="13009" y="15797"/>
                  <a:pt x="13074" y="15783"/>
                  <a:pt x="13097" y="15701"/>
                </a:cubicBezTo>
                <a:cubicBezTo>
                  <a:pt x="13089" y="15701"/>
                  <a:pt x="13080" y="15701"/>
                  <a:pt x="13072" y="15701"/>
                </a:cubicBezTo>
                <a:cubicBezTo>
                  <a:pt x="12985" y="15714"/>
                  <a:pt x="12985" y="15738"/>
                  <a:pt x="13072" y="15751"/>
                </a:cubicBezTo>
              </a:path>
              <a:path w="7219" h="1266">
                <a:moveTo>
                  <a:pt x="13320" y="15156"/>
                </a:moveTo>
                <a:cubicBezTo>
                  <a:pt x="13320" y="15269"/>
                  <a:pt x="13290" y="15394"/>
                  <a:pt x="13295" y="15503"/>
                </a:cubicBezTo>
                <a:cubicBezTo>
                  <a:pt x="13316" y="15587"/>
                  <a:pt x="13318" y="15606"/>
                  <a:pt x="13345" y="15652"/>
                </a:cubicBezTo>
                <a:cubicBezTo>
                  <a:pt x="13460" y="15644"/>
                  <a:pt x="13650" y="15639"/>
                  <a:pt x="13667" y="15478"/>
                </a:cubicBezTo>
                <a:cubicBezTo>
                  <a:pt x="13659" y="15462"/>
                  <a:pt x="13651" y="15445"/>
                  <a:pt x="13643" y="15429"/>
                </a:cubicBezTo>
                <a:cubicBezTo>
                  <a:pt x="13509" y="15462"/>
                  <a:pt x="13423" y="15541"/>
                  <a:pt x="13494" y="15701"/>
                </a:cubicBezTo>
                <a:cubicBezTo>
                  <a:pt x="13537" y="15701"/>
                  <a:pt x="13562" y="15696"/>
                  <a:pt x="13593" y="15677"/>
                </a:cubicBezTo>
              </a:path>
              <a:path w="7219" h="1266">
                <a:moveTo>
                  <a:pt x="13866" y="15056"/>
                </a:moveTo>
                <a:cubicBezTo>
                  <a:pt x="13882" y="15233"/>
                  <a:pt x="13941" y="15401"/>
                  <a:pt x="13965" y="15577"/>
                </a:cubicBezTo>
                <a:cubicBezTo>
                  <a:pt x="13965" y="15619"/>
                  <a:pt x="13965" y="15627"/>
                  <a:pt x="13965" y="156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49840" y="1527120"/>
            <a:ext cx="1125360" cy="125640"/>
          </a:xfrm>
          <a:custGeom>
            <a:avLst/>
            <a:gdLst/>
            <a:ahLst/>
            <a:rect l="l" t="t" r="r" b="b"/>
            <a:pathLst>
              <a:path w="3126" h="348">
                <a:moveTo>
                  <a:pt x="13196" y="4366"/>
                </a:moveTo>
                <a:cubicBezTo>
                  <a:pt x="13283" y="4366"/>
                  <a:pt x="13364" y="4351"/>
                  <a:pt x="13444" y="4341"/>
                </a:cubicBezTo>
                <a:cubicBezTo>
                  <a:pt x="13533" y="4330"/>
                  <a:pt x="13628" y="4319"/>
                  <a:pt x="13717" y="4316"/>
                </a:cubicBezTo>
                <a:cubicBezTo>
                  <a:pt x="13812" y="4313"/>
                  <a:pt x="13878" y="4305"/>
                  <a:pt x="13965" y="4291"/>
                </a:cubicBezTo>
                <a:cubicBezTo>
                  <a:pt x="14299" y="4235"/>
                  <a:pt x="14800" y="4234"/>
                  <a:pt x="15131" y="4266"/>
                </a:cubicBezTo>
                <a:cubicBezTo>
                  <a:pt x="15227" y="4275"/>
                  <a:pt x="15302" y="4270"/>
                  <a:pt x="15404" y="4266"/>
                </a:cubicBezTo>
                <a:cubicBezTo>
                  <a:pt x="15613" y="4258"/>
                  <a:pt x="15819" y="4269"/>
                  <a:pt x="16024" y="4242"/>
                </a:cubicBezTo>
                <a:cubicBezTo>
                  <a:pt x="16119" y="4229"/>
                  <a:pt x="16226" y="4242"/>
                  <a:pt x="16321" y="4242"/>
                </a:cubicBezTo>
              </a:path>
              <a:path w="3126" h="348">
                <a:moveTo>
                  <a:pt x="13295" y="4589"/>
                </a:moveTo>
                <a:cubicBezTo>
                  <a:pt x="13337" y="4564"/>
                  <a:pt x="13381" y="4564"/>
                  <a:pt x="13469" y="4564"/>
                </a:cubicBezTo>
                <a:cubicBezTo>
                  <a:pt x="13791" y="4564"/>
                  <a:pt x="14147" y="4520"/>
                  <a:pt x="14461" y="4539"/>
                </a:cubicBezTo>
                <a:cubicBezTo>
                  <a:pt x="14554" y="4545"/>
                  <a:pt x="14616" y="4542"/>
                  <a:pt x="14709" y="4539"/>
                </a:cubicBezTo>
                <a:cubicBezTo>
                  <a:pt x="15107" y="4524"/>
                  <a:pt x="15508" y="4551"/>
                  <a:pt x="15900" y="4514"/>
                </a:cubicBezTo>
                <a:cubicBezTo>
                  <a:pt x="15996" y="4505"/>
                  <a:pt x="16112" y="4499"/>
                  <a:pt x="16197" y="4490"/>
                </a:cubicBezTo>
                <a:cubicBezTo>
                  <a:pt x="16237" y="4486"/>
                  <a:pt x="16280" y="4490"/>
                  <a:pt x="16321" y="44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822920"/>
            <a:ext cx="376200" cy="276120"/>
          </a:xfrm>
          <a:custGeom>
            <a:avLst/>
            <a:gdLst/>
            <a:ahLst/>
            <a:rect l="l" t="t" r="r" b="b"/>
            <a:pathLst>
              <a:path w="1042" h="769">
                <a:moveTo>
                  <a:pt x="4142" y="13543"/>
                </a:moveTo>
                <a:cubicBezTo>
                  <a:pt x="4142" y="13687"/>
                  <a:pt x="4138" y="13821"/>
                  <a:pt x="4118" y="13965"/>
                </a:cubicBezTo>
                <a:cubicBezTo>
                  <a:pt x="4111" y="14017"/>
                  <a:pt x="4100" y="14142"/>
                  <a:pt x="4068" y="14163"/>
                </a:cubicBezTo>
              </a:path>
              <a:path w="1042" h="769">
                <a:moveTo>
                  <a:pt x="3101" y="13395"/>
                </a:moveTo>
                <a:cubicBezTo>
                  <a:pt x="3101" y="13486"/>
                  <a:pt x="3101" y="13576"/>
                  <a:pt x="3101" y="136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98720" y="5313240"/>
            <a:ext cx="44280" cy="884520"/>
          </a:xfrm>
          <a:custGeom>
            <a:avLst/>
            <a:gdLst/>
            <a:ahLst/>
            <a:rect l="l" t="t" r="r" b="b"/>
            <a:pathLst>
              <a:path w="125" h="2456">
                <a:moveTo>
                  <a:pt x="3101" y="14759"/>
                </a:moveTo>
                <a:lnTo>
                  <a:pt x="3101" y="14759"/>
                </a:lnTo>
              </a:path>
              <a:path w="125" h="2456">
                <a:moveTo>
                  <a:pt x="3076" y="14932"/>
                </a:moveTo>
                <a:cubicBezTo>
                  <a:pt x="3076" y="14949"/>
                  <a:pt x="3076" y="14965"/>
                  <a:pt x="3076" y="14982"/>
                </a:cubicBezTo>
              </a:path>
              <a:path w="125" h="2456">
                <a:moveTo>
                  <a:pt x="3051" y="15304"/>
                </a:moveTo>
                <a:cubicBezTo>
                  <a:pt x="3079" y="15360"/>
                  <a:pt x="3087" y="15383"/>
                  <a:pt x="3076" y="15429"/>
                </a:cubicBezTo>
              </a:path>
              <a:path w="125" h="2456">
                <a:moveTo>
                  <a:pt x="3076" y="15429"/>
                </a:moveTo>
                <a:lnTo>
                  <a:pt x="3076" y="15429"/>
                </a:lnTo>
              </a:path>
              <a:path w="125" h="2456">
                <a:moveTo>
                  <a:pt x="3101" y="15925"/>
                </a:moveTo>
                <a:cubicBezTo>
                  <a:pt x="3101" y="15969"/>
                  <a:pt x="3098" y="15982"/>
                  <a:pt x="3125" y="15999"/>
                </a:cubicBezTo>
              </a:path>
              <a:path w="125" h="2456">
                <a:moveTo>
                  <a:pt x="3125" y="16024"/>
                </a:moveTo>
                <a:cubicBezTo>
                  <a:pt x="3125" y="16032"/>
                  <a:pt x="3125" y="16041"/>
                  <a:pt x="3125" y="16049"/>
                </a:cubicBezTo>
              </a:path>
              <a:path w="125" h="2456">
                <a:moveTo>
                  <a:pt x="3125" y="16049"/>
                </a:moveTo>
                <a:lnTo>
                  <a:pt x="3125" y="16049"/>
                </a:lnTo>
              </a:path>
              <a:path w="125" h="2456">
                <a:moveTo>
                  <a:pt x="3150" y="16966"/>
                </a:moveTo>
                <a:cubicBezTo>
                  <a:pt x="3150" y="16974"/>
                  <a:pt x="3150" y="16983"/>
                  <a:pt x="3150" y="16991"/>
                </a:cubicBezTo>
              </a:path>
              <a:path w="125" h="2456">
                <a:moveTo>
                  <a:pt x="3150" y="16991"/>
                </a:moveTo>
                <a:lnTo>
                  <a:pt x="3150" y="16991"/>
                </a:lnTo>
              </a:path>
              <a:path w="125" h="2456">
                <a:moveTo>
                  <a:pt x="3175" y="17140"/>
                </a:moveTo>
                <a:cubicBezTo>
                  <a:pt x="3155" y="17180"/>
                  <a:pt x="3146" y="17187"/>
                  <a:pt x="3150" y="172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880" y="4894200"/>
            <a:ext cx="876240" cy="642960"/>
          </a:xfrm>
          <a:custGeom>
            <a:avLst/>
            <a:gdLst/>
            <a:ahLst/>
            <a:rect l="l" t="t" r="r" b="b"/>
            <a:pathLst>
              <a:path w="2432" h="1787">
                <a:moveTo>
                  <a:pt x="2505" y="13593"/>
                </a:moveTo>
                <a:cubicBezTo>
                  <a:pt x="2441" y="13797"/>
                  <a:pt x="2342" y="13984"/>
                  <a:pt x="2282" y="14188"/>
                </a:cubicBezTo>
                <a:cubicBezTo>
                  <a:pt x="2226" y="14376"/>
                  <a:pt x="2355" y="14437"/>
                  <a:pt x="2530" y="14387"/>
                </a:cubicBezTo>
                <a:cubicBezTo>
                  <a:pt x="2720" y="14332"/>
                  <a:pt x="2758" y="14273"/>
                  <a:pt x="2828" y="14114"/>
                </a:cubicBezTo>
                <a:cubicBezTo>
                  <a:pt x="2727" y="14033"/>
                  <a:pt x="2634" y="14096"/>
                  <a:pt x="2580" y="14213"/>
                </a:cubicBezTo>
                <a:cubicBezTo>
                  <a:pt x="2547" y="14284"/>
                  <a:pt x="2536" y="14358"/>
                  <a:pt x="2580" y="14387"/>
                </a:cubicBezTo>
              </a:path>
              <a:path w="2432" h="1787">
                <a:moveTo>
                  <a:pt x="3101" y="14163"/>
                </a:moveTo>
                <a:cubicBezTo>
                  <a:pt x="3044" y="14258"/>
                  <a:pt x="3094" y="14184"/>
                  <a:pt x="3101" y="14163"/>
                </a:cubicBezTo>
              </a:path>
              <a:path w="2432" h="1787">
                <a:moveTo>
                  <a:pt x="3621" y="13717"/>
                </a:moveTo>
                <a:cubicBezTo>
                  <a:pt x="3496" y="13789"/>
                  <a:pt x="3387" y="13958"/>
                  <a:pt x="3373" y="14114"/>
                </a:cubicBezTo>
                <a:cubicBezTo>
                  <a:pt x="3381" y="14147"/>
                  <a:pt x="3390" y="14180"/>
                  <a:pt x="3398" y="14213"/>
                </a:cubicBezTo>
                <a:cubicBezTo>
                  <a:pt x="3614" y="14213"/>
                  <a:pt x="3792" y="14109"/>
                  <a:pt x="3746" y="13841"/>
                </a:cubicBezTo>
                <a:cubicBezTo>
                  <a:pt x="3694" y="13789"/>
                  <a:pt x="3675" y="13772"/>
                  <a:pt x="3621" y="13767"/>
                </a:cubicBezTo>
              </a:path>
              <a:path w="2432" h="1787">
                <a:moveTo>
                  <a:pt x="2307" y="14734"/>
                </a:moveTo>
                <a:cubicBezTo>
                  <a:pt x="2341" y="14885"/>
                  <a:pt x="2252" y="15042"/>
                  <a:pt x="2232" y="15205"/>
                </a:cubicBezTo>
                <a:cubicBezTo>
                  <a:pt x="2208" y="15405"/>
                  <a:pt x="2409" y="15395"/>
                  <a:pt x="2555" y="15354"/>
                </a:cubicBezTo>
                <a:cubicBezTo>
                  <a:pt x="2711" y="15310"/>
                  <a:pt x="2751" y="15217"/>
                  <a:pt x="2729" y="15081"/>
                </a:cubicBezTo>
                <a:cubicBezTo>
                  <a:pt x="2594" y="15081"/>
                  <a:pt x="2562" y="15122"/>
                  <a:pt x="2530" y="15255"/>
                </a:cubicBezTo>
                <a:cubicBezTo>
                  <a:pt x="2530" y="15304"/>
                  <a:pt x="2530" y="15321"/>
                  <a:pt x="2580" y="15304"/>
                </a:cubicBezTo>
              </a:path>
              <a:path w="2432" h="1787">
                <a:moveTo>
                  <a:pt x="3175" y="15081"/>
                </a:moveTo>
                <a:cubicBezTo>
                  <a:pt x="3166" y="15109"/>
                  <a:pt x="3096" y="15148"/>
                  <a:pt x="3125" y="15205"/>
                </a:cubicBezTo>
                <a:cubicBezTo>
                  <a:pt x="3171" y="15205"/>
                  <a:pt x="3192" y="15187"/>
                  <a:pt x="3200" y="15131"/>
                </a:cubicBezTo>
                <a:cubicBezTo>
                  <a:pt x="3172" y="15138"/>
                  <a:pt x="3124" y="15182"/>
                  <a:pt x="3175" y="15131"/>
                </a:cubicBezTo>
              </a:path>
              <a:path w="2432" h="1787">
                <a:moveTo>
                  <a:pt x="3101" y="14684"/>
                </a:moveTo>
                <a:cubicBezTo>
                  <a:pt x="3101" y="14717"/>
                  <a:pt x="3101" y="14734"/>
                  <a:pt x="3101" y="14759"/>
                </a:cubicBezTo>
              </a:path>
              <a:path w="2432" h="1787">
                <a:moveTo>
                  <a:pt x="2034" y="13965"/>
                </a:moveTo>
                <a:cubicBezTo>
                  <a:pt x="2119" y="13928"/>
                  <a:pt x="2159" y="13915"/>
                  <a:pt x="2257" y="13915"/>
                </a:cubicBezTo>
                <a:cubicBezTo>
                  <a:pt x="2459" y="13915"/>
                  <a:pt x="2655" y="13904"/>
                  <a:pt x="2853" y="13891"/>
                </a:cubicBezTo>
                <a:cubicBezTo>
                  <a:pt x="3385" y="13857"/>
                  <a:pt x="3932" y="13891"/>
                  <a:pt x="4465" y="138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71840" y="1919160"/>
            <a:ext cx="44280" cy="54000"/>
          </a:xfrm>
          <a:custGeom>
            <a:avLst/>
            <a:gdLst/>
            <a:ahLst/>
            <a:rect l="l" t="t" r="r" b="b"/>
            <a:pathLst>
              <a:path w="125" h="150">
                <a:moveTo>
                  <a:pt x="7193" y="5407"/>
                </a:moveTo>
                <a:cubicBezTo>
                  <a:pt x="7161" y="5383"/>
                  <a:pt x="7137" y="5456"/>
                  <a:pt x="7169" y="5432"/>
                </a:cubicBezTo>
                <a:cubicBezTo>
                  <a:pt x="7211" y="5400"/>
                  <a:pt x="7194" y="5230"/>
                  <a:pt x="7144" y="5407"/>
                </a:cubicBezTo>
                <a:cubicBezTo>
                  <a:pt x="7112" y="5519"/>
                  <a:pt x="7249" y="5384"/>
                  <a:pt x="7268" y="5358"/>
                </a:cubicBezTo>
                <a:cubicBezTo>
                  <a:pt x="7177" y="5322"/>
                  <a:pt x="7178" y="5396"/>
                  <a:pt x="7169" y="5482"/>
                </a:cubicBezTo>
                <a:cubicBezTo>
                  <a:pt x="7213" y="5482"/>
                  <a:pt x="7227" y="5485"/>
                  <a:pt x="7243" y="5457"/>
                </a:cubicBezTo>
                <a:cubicBezTo>
                  <a:pt x="7255" y="5350"/>
                  <a:pt x="7200" y="5354"/>
                  <a:pt x="7193" y="5432"/>
                </a:cubicBezTo>
                <a:cubicBezTo>
                  <a:pt x="7186" y="5513"/>
                  <a:pt x="7304" y="5427"/>
                  <a:pt x="7268" y="5383"/>
                </a:cubicBezTo>
                <a:cubicBezTo>
                  <a:pt x="7237" y="5345"/>
                  <a:pt x="7201" y="5496"/>
                  <a:pt x="7243" y="5407"/>
                </a:cubicBezTo>
                <a:cubicBezTo>
                  <a:pt x="7263" y="5367"/>
                  <a:pt x="7282" y="5351"/>
                  <a:pt x="7243" y="53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24160" y="2813040"/>
            <a:ext cx="3313080" cy="776160"/>
          </a:xfrm>
          <a:custGeom>
            <a:avLst/>
            <a:gdLst/>
            <a:ahLst/>
            <a:rect l="l" t="t" r="r" b="b"/>
            <a:pathLst>
              <a:path w="9204" h="2159">
                <a:moveTo>
                  <a:pt x="17785" y="8979"/>
                </a:moveTo>
                <a:cubicBezTo>
                  <a:pt x="17891" y="8790"/>
                  <a:pt x="17952" y="8626"/>
                  <a:pt x="18008" y="8409"/>
                </a:cubicBezTo>
                <a:cubicBezTo>
                  <a:pt x="18055" y="8228"/>
                  <a:pt x="18068" y="8069"/>
                  <a:pt x="18083" y="7888"/>
                </a:cubicBezTo>
                <a:cubicBezTo>
                  <a:pt x="18085" y="7863"/>
                  <a:pt x="18081" y="7838"/>
                  <a:pt x="18083" y="7813"/>
                </a:cubicBezTo>
                <a:cubicBezTo>
                  <a:pt x="17950" y="7826"/>
                  <a:pt x="17820" y="7828"/>
                  <a:pt x="17686" y="7838"/>
                </a:cubicBezTo>
                <a:cubicBezTo>
                  <a:pt x="17521" y="7851"/>
                  <a:pt x="17356" y="7881"/>
                  <a:pt x="17190" y="7888"/>
                </a:cubicBezTo>
                <a:cubicBezTo>
                  <a:pt x="16959" y="7898"/>
                  <a:pt x="16723" y="7904"/>
                  <a:pt x="16495" y="7913"/>
                </a:cubicBezTo>
                <a:cubicBezTo>
                  <a:pt x="16383" y="7918"/>
                  <a:pt x="16283" y="7927"/>
                  <a:pt x="16173" y="7938"/>
                </a:cubicBezTo>
                <a:cubicBezTo>
                  <a:pt x="15986" y="7957"/>
                  <a:pt x="15789" y="7979"/>
                  <a:pt x="15602" y="7987"/>
                </a:cubicBezTo>
                <a:cubicBezTo>
                  <a:pt x="15462" y="7993"/>
                  <a:pt x="15315" y="8006"/>
                  <a:pt x="15180" y="8012"/>
                </a:cubicBezTo>
                <a:cubicBezTo>
                  <a:pt x="15045" y="8018"/>
                  <a:pt x="14917" y="8022"/>
                  <a:pt x="14784" y="8037"/>
                </a:cubicBezTo>
                <a:cubicBezTo>
                  <a:pt x="14700" y="8046"/>
                  <a:pt x="14620" y="8052"/>
                  <a:pt x="14536" y="8062"/>
                </a:cubicBezTo>
                <a:cubicBezTo>
                  <a:pt x="14406" y="8077"/>
                  <a:pt x="14271" y="8096"/>
                  <a:pt x="14139" y="8111"/>
                </a:cubicBezTo>
                <a:cubicBezTo>
                  <a:pt x="14015" y="8126"/>
                  <a:pt x="13891" y="8124"/>
                  <a:pt x="13767" y="8136"/>
                </a:cubicBezTo>
                <a:cubicBezTo>
                  <a:pt x="13667" y="8146"/>
                  <a:pt x="13568" y="8157"/>
                  <a:pt x="13469" y="8161"/>
                </a:cubicBezTo>
                <a:cubicBezTo>
                  <a:pt x="13072" y="8178"/>
                  <a:pt x="12668" y="8151"/>
                  <a:pt x="12278" y="8136"/>
                </a:cubicBezTo>
                <a:cubicBezTo>
                  <a:pt x="12133" y="8131"/>
                  <a:pt x="11999" y="8155"/>
                  <a:pt x="11857" y="8161"/>
                </a:cubicBezTo>
                <a:cubicBezTo>
                  <a:pt x="11504" y="8177"/>
                  <a:pt x="11138" y="8174"/>
                  <a:pt x="10790" y="8186"/>
                </a:cubicBezTo>
                <a:cubicBezTo>
                  <a:pt x="10541" y="8195"/>
                  <a:pt x="10294" y="8189"/>
                  <a:pt x="10046" y="8210"/>
                </a:cubicBezTo>
                <a:cubicBezTo>
                  <a:pt x="9923" y="8220"/>
                  <a:pt x="9796" y="8244"/>
                  <a:pt x="9674" y="8260"/>
                </a:cubicBezTo>
                <a:cubicBezTo>
                  <a:pt x="9555" y="8276"/>
                  <a:pt x="9409" y="8297"/>
                  <a:pt x="9302" y="8310"/>
                </a:cubicBezTo>
                <a:cubicBezTo>
                  <a:pt x="9192" y="8323"/>
                  <a:pt x="9088" y="8338"/>
                  <a:pt x="8979" y="8359"/>
                </a:cubicBezTo>
                <a:cubicBezTo>
                  <a:pt x="8971" y="8359"/>
                  <a:pt x="8962" y="8359"/>
                  <a:pt x="8954" y="8359"/>
                </a:cubicBezTo>
                <a:cubicBezTo>
                  <a:pt x="8959" y="8494"/>
                  <a:pt x="8973" y="8621"/>
                  <a:pt x="8979" y="8756"/>
                </a:cubicBezTo>
                <a:cubicBezTo>
                  <a:pt x="8994" y="9118"/>
                  <a:pt x="8974" y="9496"/>
                  <a:pt x="8954" y="9847"/>
                </a:cubicBezTo>
                <a:cubicBezTo>
                  <a:pt x="8952" y="9888"/>
                  <a:pt x="8958" y="9930"/>
                  <a:pt x="8954" y="9971"/>
                </a:cubicBezTo>
                <a:cubicBezTo>
                  <a:pt x="9141" y="9971"/>
                  <a:pt x="9345" y="9943"/>
                  <a:pt x="9525" y="9947"/>
                </a:cubicBezTo>
                <a:cubicBezTo>
                  <a:pt x="9635" y="9950"/>
                  <a:pt x="9732" y="9978"/>
                  <a:pt x="9847" y="9971"/>
                </a:cubicBezTo>
                <a:cubicBezTo>
                  <a:pt x="9965" y="9964"/>
                  <a:pt x="10078" y="9952"/>
                  <a:pt x="10195" y="9947"/>
                </a:cubicBezTo>
                <a:cubicBezTo>
                  <a:pt x="10329" y="9942"/>
                  <a:pt x="10459" y="9918"/>
                  <a:pt x="10592" y="9922"/>
                </a:cubicBezTo>
                <a:cubicBezTo>
                  <a:pt x="10718" y="9926"/>
                  <a:pt x="10837" y="9945"/>
                  <a:pt x="10964" y="9947"/>
                </a:cubicBezTo>
                <a:cubicBezTo>
                  <a:pt x="11116" y="9949"/>
                  <a:pt x="11264" y="9928"/>
                  <a:pt x="11410" y="9922"/>
                </a:cubicBezTo>
                <a:cubicBezTo>
                  <a:pt x="11676" y="9911"/>
                  <a:pt x="11941" y="9908"/>
                  <a:pt x="12204" y="9897"/>
                </a:cubicBezTo>
                <a:cubicBezTo>
                  <a:pt x="12555" y="9883"/>
                  <a:pt x="12900" y="9861"/>
                  <a:pt x="13246" y="9847"/>
                </a:cubicBezTo>
                <a:cubicBezTo>
                  <a:pt x="13708" y="9829"/>
                  <a:pt x="14175" y="9830"/>
                  <a:pt x="14635" y="9823"/>
                </a:cubicBezTo>
                <a:cubicBezTo>
                  <a:pt x="14762" y="9821"/>
                  <a:pt x="14882" y="9811"/>
                  <a:pt x="15007" y="9798"/>
                </a:cubicBezTo>
                <a:cubicBezTo>
                  <a:pt x="15173" y="9780"/>
                  <a:pt x="15336" y="9786"/>
                  <a:pt x="15503" y="9773"/>
                </a:cubicBezTo>
                <a:cubicBezTo>
                  <a:pt x="15669" y="9760"/>
                  <a:pt x="15833" y="9712"/>
                  <a:pt x="15999" y="9699"/>
                </a:cubicBezTo>
                <a:cubicBezTo>
                  <a:pt x="16165" y="9686"/>
                  <a:pt x="16330" y="9689"/>
                  <a:pt x="16495" y="9674"/>
                </a:cubicBezTo>
                <a:cubicBezTo>
                  <a:pt x="16685" y="9657"/>
                  <a:pt x="16878" y="9644"/>
                  <a:pt x="17066" y="9624"/>
                </a:cubicBezTo>
                <a:cubicBezTo>
                  <a:pt x="17169" y="9613"/>
                  <a:pt x="17261" y="9612"/>
                  <a:pt x="17363" y="9599"/>
                </a:cubicBezTo>
                <a:cubicBezTo>
                  <a:pt x="17445" y="9588"/>
                  <a:pt x="17529" y="9585"/>
                  <a:pt x="17611" y="9575"/>
                </a:cubicBezTo>
                <a:cubicBezTo>
                  <a:pt x="17666" y="9568"/>
                  <a:pt x="17707" y="9561"/>
                  <a:pt x="17760" y="9550"/>
                </a:cubicBezTo>
                <a:cubicBezTo>
                  <a:pt x="17800" y="9542"/>
                  <a:pt x="17901" y="9536"/>
                  <a:pt x="17934" y="9500"/>
                </a:cubicBezTo>
                <a:cubicBezTo>
                  <a:pt x="17967" y="9465"/>
                  <a:pt x="17995" y="9331"/>
                  <a:pt x="18008" y="9277"/>
                </a:cubicBezTo>
                <a:cubicBezTo>
                  <a:pt x="18023" y="9214"/>
                  <a:pt x="18024" y="9110"/>
                  <a:pt x="18033" y="9054"/>
                </a:cubicBezTo>
                <a:cubicBezTo>
                  <a:pt x="18048" y="8959"/>
                  <a:pt x="18052" y="8874"/>
                  <a:pt x="18058" y="8781"/>
                </a:cubicBezTo>
                <a:cubicBezTo>
                  <a:pt x="18060" y="8743"/>
                  <a:pt x="18054" y="8658"/>
                  <a:pt x="18058" y="8607"/>
                </a:cubicBezTo>
                <a:cubicBezTo>
                  <a:pt x="18064" y="8534"/>
                  <a:pt x="18075" y="8479"/>
                  <a:pt x="18083" y="8409"/>
                </a:cubicBezTo>
                <a:cubicBezTo>
                  <a:pt x="18090" y="8347"/>
                  <a:pt x="18101" y="8288"/>
                  <a:pt x="18107" y="8235"/>
                </a:cubicBezTo>
                <a:cubicBezTo>
                  <a:pt x="18111" y="8199"/>
                  <a:pt x="18126" y="8132"/>
                  <a:pt x="18132" y="8086"/>
                </a:cubicBezTo>
                <a:cubicBezTo>
                  <a:pt x="18142" y="8017"/>
                  <a:pt x="18149" y="7948"/>
                  <a:pt x="18157" y="78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43080" y="5286240"/>
            <a:ext cx="2955960" cy="687600"/>
          </a:xfrm>
          <a:custGeom>
            <a:avLst/>
            <a:gdLst/>
            <a:ahLst/>
            <a:rect l="l" t="t" r="r" b="b"/>
            <a:pathLst>
              <a:path w="8211" h="1911">
                <a:moveTo>
                  <a:pt x="5978" y="15429"/>
                </a:moveTo>
                <a:cubicBezTo>
                  <a:pt x="5987" y="15461"/>
                  <a:pt x="5994" y="15421"/>
                  <a:pt x="6003" y="15453"/>
                </a:cubicBezTo>
                <a:cubicBezTo>
                  <a:pt x="6120" y="15842"/>
                  <a:pt x="6039" y="16123"/>
                  <a:pt x="5978" y="16495"/>
                </a:cubicBezTo>
                <a:cubicBezTo>
                  <a:pt x="5973" y="16529"/>
                  <a:pt x="5980" y="16585"/>
                  <a:pt x="5978" y="16594"/>
                </a:cubicBezTo>
                <a:cubicBezTo>
                  <a:pt x="6286" y="16587"/>
                  <a:pt x="6589" y="16550"/>
                  <a:pt x="6896" y="16545"/>
                </a:cubicBezTo>
                <a:cubicBezTo>
                  <a:pt x="7442" y="16536"/>
                  <a:pt x="7945" y="16510"/>
                  <a:pt x="8483" y="16421"/>
                </a:cubicBezTo>
                <a:cubicBezTo>
                  <a:pt x="8893" y="16353"/>
                  <a:pt x="9315" y="16337"/>
                  <a:pt x="9723" y="16272"/>
                </a:cubicBezTo>
                <a:cubicBezTo>
                  <a:pt x="9866" y="16249"/>
                  <a:pt x="10003" y="16241"/>
                  <a:pt x="10145" y="16222"/>
                </a:cubicBezTo>
                <a:cubicBezTo>
                  <a:pt x="10345" y="16195"/>
                  <a:pt x="10540" y="16169"/>
                  <a:pt x="10740" y="16148"/>
                </a:cubicBezTo>
                <a:cubicBezTo>
                  <a:pt x="10931" y="16128"/>
                  <a:pt x="11121" y="16118"/>
                  <a:pt x="11311" y="16098"/>
                </a:cubicBezTo>
                <a:cubicBezTo>
                  <a:pt x="11507" y="16078"/>
                  <a:pt x="11707" y="16028"/>
                  <a:pt x="11906" y="16049"/>
                </a:cubicBezTo>
                <a:cubicBezTo>
                  <a:pt x="12162" y="16076"/>
                  <a:pt x="12412" y="16119"/>
                  <a:pt x="12675" y="16123"/>
                </a:cubicBezTo>
                <a:cubicBezTo>
                  <a:pt x="12876" y="16126"/>
                  <a:pt x="13075" y="16106"/>
                  <a:pt x="13271" y="16098"/>
                </a:cubicBezTo>
                <a:cubicBezTo>
                  <a:pt x="13557" y="16087"/>
                  <a:pt x="13831" y="16078"/>
                  <a:pt x="14114" y="16049"/>
                </a:cubicBezTo>
                <a:cubicBezTo>
                  <a:pt x="14122" y="16049"/>
                  <a:pt x="14131" y="16049"/>
                  <a:pt x="14139" y="16049"/>
                </a:cubicBezTo>
                <a:cubicBezTo>
                  <a:pt x="14119" y="15907"/>
                  <a:pt x="14080" y="15773"/>
                  <a:pt x="14089" y="15627"/>
                </a:cubicBezTo>
                <a:cubicBezTo>
                  <a:pt x="14099" y="15469"/>
                  <a:pt x="14152" y="15313"/>
                  <a:pt x="14163" y="15156"/>
                </a:cubicBezTo>
                <a:cubicBezTo>
                  <a:pt x="14169" y="15065"/>
                  <a:pt x="14196" y="14833"/>
                  <a:pt x="14139" y="14759"/>
                </a:cubicBezTo>
                <a:cubicBezTo>
                  <a:pt x="14103" y="14713"/>
                  <a:pt x="14046" y="14687"/>
                  <a:pt x="13965" y="14684"/>
                </a:cubicBezTo>
                <a:cubicBezTo>
                  <a:pt x="13842" y="14680"/>
                  <a:pt x="13694" y="14751"/>
                  <a:pt x="13568" y="14759"/>
                </a:cubicBezTo>
                <a:cubicBezTo>
                  <a:pt x="13343" y="14774"/>
                  <a:pt x="13121" y="14759"/>
                  <a:pt x="12898" y="14784"/>
                </a:cubicBezTo>
                <a:cubicBezTo>
                  <a:pt x="12773" y="14798"/>
                  <a:pt x="12653" y="14806"/>
                  <a:pt x="12526" y="14808"/>
                </a:cubicBezTo>
                <a:cubicBezTo>
                  <a:pt x="12309" y="14811"/>
                  <a:pt x="12096" y="14813"/>
                  <a:pt x="11881" y="14833"/>
                </a:cubicBezTo>
                <a:cubicBezTo>
                  <a:pt x="11741" y="14846"/>
                  <a:pt x="11601" y="14844"/>
                  <a:pt x="11460" y="14858"/>
                </a:cubicBezTo>
                <a:cubicBezTo>
                  <a:pt x="11347" y="14869"/>
                  <a:pt x="11228" y="14873"/>
                  <a:pt x="11112" y="14883"/>
                </a:cubicBezTo>
                <a:cubicBezTo>
                  <a:pt x="10987" y="14894"/>
                  <a:pt x="10866" y="14899"/>
                  <a:pt x="10740" y="14908"/>
                </a:cubicBezTo>
                <a:cubicBezTo>
                  <a:pt x="10557" y="14922"/>
                  <a:pt x="10379" y="14930"/>
                  <a:pt x="10195" y="14932"/>
                </a:cubicBezTo>
                <a:cubicBezTo>
                  <a:pt x="9986" y="14934"/>
                  <a:pt x="9783" y="14951"/>
                  <a:pt x="9575" y="14957"/>
                </a:cubicBezTo>
                <a:cubicBezTo>
                  <a:pt x="9367" y="14963"/>
                  <a:pt x="9161" y="14963"/>
                  <a:pt x="8954" y="14982"/>
                </a:cubicBezTo>
                <a:cubicBezTo>
                  <a:pt x="8836" y="14993"/>
                  <a:pt x="8723" y="15029"/>
                  <a:pt x="8607" y="15056"/>
                </a:cubicBezTo>
                <a:cubicBezTo>
                  <a:pt x="8430" y="15097"/>
                  <a:pt x="8258" y="15120"/>
                  <a:pt x="8086" y="15156"/>
                </a:cubicBezTo>
                <a:cubicBezTo>
                  <a:pt x="7900" y="15195"/>
                  <a:pt x="7728" y="15228"/>
                  <a:pt x="7541" y="15255"/>
                </a:cubicBezTo>
                <a:cubicBezTo>
                  <a:pt x="7309" y="15289"/>
                  <a:pt x="7077" y="15325"/>
                  <a:pt x="6846" y="15354"/>
                </a:cubicBezTo>
                <a:cubicBezTo>
                  <a:pt x="6655" y="15378"/>
                  <a:pt x="6464" y="15378"/>
                  <a:pt x="6276" y="15404"/>
                </a:cubicBezTo>
                <a:cubicBezTo>
                  <a:pt x="6209" y="15413"/>
                  <a:pt x="6144" y="15424"/>
                  <a:pt x="6077" y="15429"/>
                </a:cubicBezTo>
                <a:cubicBezTo>
                  <a:pt x="6044" y="15432"/>
                  <a:pt x="6011" y="15426"/>
                  <a:pt x="5978" y="1542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comparing with fractions, we’ll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ollow the same ste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but we must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rewrite the fractions as decim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We can only compare like form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cc66"/>
                </a:solidFill>
                <a:uFillTx/>
                <a:latin typeface="Arial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Order the following numbers from least to greates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.426,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0.43,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cc66"/>
                </a:solidFill>
                <a:uFillTx/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81280" y="4038480"/>
                <a:ext cx="628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34120" y="403848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96960" y="3894120"/>
            <a:ext cx="4938840" cy="1741680"/>
          </a:xfrm>
          <a:custGeom>
            <a:avLst/>
            <a:gdLst/>
            <a:ahLst/>
            <a:rect l="l" t="t" r="r" b="b"/>
            <a:pathLst>
              <a:path w="13718" h="4838">
                <a:moveTo>
                  <a:pt x="2009" y="13717"/>
                </a:moveTo>
                <a:cubicBezTo>
                  <a:pt x="2013" y="13770"/>
                  <a:pt x="2011" y="13972"/>
                  <a:pt x="2084" y="13990"/>
                </a:cubicBezTo>
                <a:cubicBezTo>
                  <a:pt x="2084" y="13982"/>
                  <a:pt x="2084" y="13973"/>
                  <a:pt x="2084" y="13965"/>
                </a:cubicBezTo>
              </a:path>
              <a:path w="13718" h="4838">
                <a:moveTo>
                  <a:pt x="2108" y="13767"/>
                </a:moveTo>
                <a:cubicBezTo>
                  <a:pt x="2051" y="13859"/>
                  <a:pt x="2005" y="13956"/>
                  <a:pt x="1935" y="14039"/>
                </a:cubicBezTo>
              </a:path>
              <a:path w="13718" h="4838">
                <a:moveTo>
                  <a:pt x="2902" y="13866"/>
                </a:moveTo>
                <a:cubicBezTo>
                  <a:pt x="2984" y="13839"/>
                  <a:pt x="3017" y="13828"/>
                  <a:pt x="3076" y="13816"/>
                </a:cubicBezTo>
              </a:path>
              <a:path w="13718" h="4838">
                <a:moveTo>
                  <a:pt x="3572" y="13767"/>
                </a:moveTo>
                <a:cubicBezTo>
                  <a:pt x="3565" y="13871"/>
                  <a:pt x="3530" y="14098"/>
                  <a:pt x="3522" y="14114"/>
                </a:cubicBezTo>
              </a:path>
              <a:path w="13718" h="4838">
                <a:moveTo>
                  <a:pt x="3398" y="13519"/>
                </a:moveTo>
                <a:cubicBezTo>
                  <a:pt x="3605" y="13441"/>
                  <a:pt x="3800" y="13368"/>
                  <a:pt x="4018" y="13345"/>
                </a:cubicBezTo>
              </a:path>
              <a:path w="13718" h="4838">
                <a:moveTo>
                  <a:pt x="3398" y="12923"/>
                </a:moveTo>
                <a:cubicBezTo>
                  <a:pt x="3404" y="13089"/>
                  <a:pt x="3417" y="13253"/>
                  <a:pt x="3423" y="13419"/>
                </a:cubicBezTo>
              </a:path>
              <a:path w="13718" h="4838">
                <a:moveTo>
                  <a:pt x="15354" y="10815"/>
                </a:moveTo>
                <a:cubicBezTo>
                  <a:pt x="15312" y="10888"/>
                  <a:pt x="15329" y="10902"/>
                  <a:pt x="15280" y="10840"/>
                </a:cubicBezTo>
              </a:path>
              <a:path w="13718" h="4838">
                <a:moveTo>
                  <a:pt x="15602" y="15354"/>
                </a:moveTo>
                <a:cubicBezTo>
                  <a:pt x="15697" y="15401"/>
                  <a:pt x="15651" y="15522"/>
                  <a:pt x="15602" y="15602"/>
                </a:cubicBezTo>
                <a:cubicBezTo>
                  <a:pt x="15586" y="15619"/>
                  <a:pt x="15569" y="15635"/>
                  <a:pt x="15553" y="1565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44880"/>
            <a:ext cx="401760" cy="687240"/>
          </a:xfrm>
          <a:custGeom>
            <a:avLst/>
            <a:gdLst/>
            <a:ahLst/>
            <a:rect l="l" t="t" r="r" b="b"/>
            <a:pathLst>
              <a:path w="1117" h="1911">
                <a:moveTo>
                  <a:pt x="347" y="8954"/>
                </a:moveTo>
                <a:cubicBezTo>
                  <a:pt x="424" y="9056"/>
                  <a:pt x="378" y="9184"/>
                  <a:pt x="372" y="9302"/>
                </a:cubicBezTo>
                <a:cubicBezTo>
                  <a:pt x="372" y="9327"/>
                  <a:pt x="372" y="9351"/>
                  <a:pt x="372" y="9376"/>
                </a:cubicBezTo>
              </a:path>
              <a:path w="1117" h="1911">
                <a:moveTo>
                  <a:pt x="595" y="8830"/>
                </a:moveTo>
                <a:cubicBezTo>
                  <a:pt x="650" y="8803"/>
                  <a:pt x="707" y="8762"/>
                  <a:pt x="769" y="8731"/>
                </a:cubicBezTo>
                <a:cubicBezTo>
                  <a:pt x="826" y="8844"/>
                  <a:pt x="834" y="8923"/>
                  <a:pt x="719" y="9004"/>
                </a:cubicBezTo>
                <a:cubicBezTo>
                  <a:pt x="711" y="9004"/>
                  <a:pt x="703" y="9004"/>
                  <a:pt x="695" y="9004"/>
                </a:cubicBezTo>
                <a:cubicBezTo>
                  <a:pt x="756" y="8942"/>
                  <a:pt x="856" y="8918"/>
                  <a:pt x="843" y="9054"/>
                </a:cubicBezTo>
                <a:cubicBezTo>
                  <a:pt x="831" y="9183"/>
                  <a:pt x="777" y="9181"/>
                  <a:pt x="670" y="9203"/>
                </a:cubicBezTo>
              </a:path>
              <a:path w="1117" h="1911">
                <a:moveTo>
                  <a:pt x="893" y="9302"/>
                </a:moveTo>
                <a:cubicBezTo>
                  <a:pt x="840" y="9335"/>
                  <a:pt x="776" y="9377"/>
                  <a:pt x="744" y="9401"/>
                </a:cubicBezTo>
                <a:cubicBezTo>
                  <a:pt x="708" y="9428"/>
                  <a:pt x="705" y="9458"/>
                  <a:pt x="670" y="9475"/>
                </a:cubicBezTo>
                <a:cubicBezTo>
                  <a:pt x="755" y="9461"/>
                  <a:pt x="830" y="9451"/>
                  <a:pt x="918" y="9451"/>
                </a:cubicBezTo>
                <a:cubicBezTo>
                  <a:pt x="926" y="9451"/>
                  <a:pt x="935" y="9451"/>
                  <a:pt x="943" y="9451"/>
                </a:cubicBezTo>
                <a:cubicBezTo>
                  <a:pt x="890" y="9537"/>
                  <a:pt x="732" y="9599"/>
                  <a:pt x="620" y="9599"/>
                </a:cubicBezTo>
                <a:cubicBezTo>
                  <a:pt x="566" y="9573"/>
                  <a:pt x="554" y="9561"/>
                  <a:pt x="620" y="9525"/>
                </a:cubicBezTo>
              </a:path>
              <a:path w="1117" h="1911">
                <a:moveTo>
                  <a:pt x="273" y="9401"/>
                </a:moveTo>
                <a:cubicBezTo>
                  <a:pt x="282" y="9494"/>
                  <a:pt x="298" y="9580"/>
                  <a:pt x="298" y="9674"/>
                </a:cubicBezTo>
              </a:path>
              <a:path w="1117" h="1911">
                <a:moveTo>
                  <a:pt x="0" y="9971"/>
                </a:moveTo>
                <a:cubicBezTo>
                  <a:pt x="272" y="9890"/>
                  <a:pt x="533" y="9785"/>
                  <a:pt x="794" y="9674"/>
                </a:cubicBezTo>
                <a:cubicBezTo>
                  <a:pt x="943" y="9609"/>
                  <a:pt x="978" y="9596"/>
                  <a:pt x="1067" y="9550"/>
                </a:cubicBezTo>
              </a:path>
              <a:path w="1117" h="1911">
                <a:moveTo>
                  <a:pt x="1017" y="9723"/>
                </a:moveTo>
                <a:cubicBezTo>
                  <a:pt x="945" y="9753"/>
                  <a:pt x="868" y="9757"/>
                  <a:pt x="868" y="9847"/>
                </a:cubicBezTo>
                <a:cubicBezTo>
                  <a:pt x="868" y="9913"/>
                  <a:pt x="868" y="9930"/>
                  <a:pt x="868" y="9971"/>
                </a:cubicBezTo>
                <a:cubicBezTo>
                  <a:pt x="927" y="9952"/>
                  <a:pt x="887" y="9926"/>
                  <a:pt x="992" y="9922"/>
                </a:cubicBezTo>
                <a:cubicBezTo>
                  <a:pt x="1095" y="9918"/>
                  <a:pt x="1176" y="10030"/>
                  <a:pt x="1091" y="10120"/>
                </a:cubicBezTo>
                <a:cubicBezTo>
                  <a:pt x="1032" y="10183"/>
                  <a:pt x="993" y="10170"/>
                  <a:pt x="918" y="10170"/>
                </a:cubicBezTo>
              </a:path>
              <a:path w="1117" h="1911">
                <a:moveTo>
                  <a:pt x="248" y="8483"/>
                </a:moveTo>
                <a:cubicBezTo>
                  <a:pt x="248" y="8475"/>
                  <a:pt x="248" y="8466"/>
                  <a:pt x="248" y="8458"/>
                </a:cubicBezTo>
                <a:cubicBezTo>
                  <a:pt x="268" y="8478"/>
                  <a:pt x="327" y="8582"/>
                  <a:pt x="347" y="8632"/>
                </a:cubicBezTo>
                <a:cubicBezTo>
                  <a:pt x="347" y="8640"/>
                  <a:pt x="347" y="8649"/>
                  <a:pt x="347" y="8657"/>
                </a:cubicBezTo>
              </a:path>
              <a:path w="1117" h="1911">
                <a:moveTo>
                  <a:pt x="446" y="9922"/>
                </a:moveTo>
                <a:cubicBezTo>
                  <a:pt x="446" y="10012"/>
                  <a:pt x="412" y="10084"/>
                  <a:pt x="397" y="10170"/>
                </a:cubicBezTo>
                <a:cubicBezTo>
                  <a:pt x="385" y="10241"/>
                  <a:pt x="386" y="10315"/>
                  <a:pt x="446" y="10344"/>
                </a:cubicBezTo>
                <a:cubicBezTo>
                  <a:pt x="537" y="10388"/>
                  <a:pt x="626" y="10370"/>
                  <a:pt x="695" y="10294"/>
                </a:cubicBezTo>
                <a:cubicBezTo>
                  <a:pt x="746" y="10237"/>
                  <a:pt x="789" y="10180"/>
                  <a:pt x="744" y="10120"/>
                </a:cubicBezTo>
                <a:cubicBezTo>
                  <a:pt x="699" y="10088"/>
                  <a:pt x="638" y="10098"/>
                  <a:pt x="595" y="10145"/>
                </a:cubicBezTo>
                <a:cubicBezTo>
                  <a:pt x="545" y="10200"/>
                  <a:pt x="566" y="10293"/>
                  <a:pt x="595" y="1034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040" y="3813120"/>
            <a:ext cx="1009800" cy="741240"/>
          </a:xfrm>
          <a:custGeom>
            <a:avLst/>
            <a:gdLst/>
            <a:ahLst/>
            <a:rect l="l" t="t" r="r" b="b"/>
            <a:pathLst>
              <a:path w="2804" h="2059">
                <a:moveTo>
                  <a:pt x="1240" y="11088"/>
                </a:moveTo>
                <a:cubicBezTo>
                  <a:pt x="1240" y="10955"/>
                  <a:pt x="1258" y="11302"/>
                  <a:pt x="1265" y="11435"/>
                </a:cubicBezTo>
                <a:cubicBezTo>
                  <a:pt x="1269" y="11509"/>
                  <a:pt x="1265" y="11683"/>
                  <a:pt x="1265" y="11609"/>
                </a:cubicBezTo>
              </a:path>
              <a:path w="2804" h="2059">
                <a:moveTo>
                  <a:pt x="1439" y="11038"/>
                </a:moveTo>
                <a:cubicBezTo>
                  <a:pt x="1533" y="10994"/>
                  <a:pt x="1692" y="10926"/>
                  <a:pt x="1612" y="11137"/>
                </a:cubicBezTo>
                <a:cubicBezTo>
                  <a:pt x="1596" y="11154"/>
                  <a:pt x="1579" y="11170"/>
                  <a:pt x="1563" y="11187"/>
                </a:cubicBezTo>
                <a:cubicBezTo>
                  <a:pt x="1563" y="11195"/>
                  <a:pt x="1563" y="11204"/>
                  <a:pt x="1563" y="11212"/>
                </a:cubicBezTo>
                <a:cubicBezTo>
                  <a:pt x="1703" y="11188"/>
                  <a:pt x="1779" y="11242"/>
                  <a:pt x="1687" y="11410"/>
                </a:cubicBezTo>
                <a:cubicBezTo>
                  <a:pt x="1643" y="11489"/>
                  <a:pt x="1562" y="11501"/>
                  <a:pt x="1488" y="11534"/>
                </a:cubicBezTo>
              </a:path>
              <a:path w="2804" h="2059">
                <a:moveTo>
                  <a:pt x="1116" y="11981"/>
                </a:moveTo>
                <a:cubicBezTo>
                  <a:pt x="1347" y="11873"/>
                  <a:pt x="1571" y="11745"/>
                  <a:pt x="1811" y="11658"/>
                </a:cubicBezTo>
                <a:cubicBezTo>
                  <a:pt x="1819" y="11658"/>
                  <a:pt x="1828" y="11658"/>
                  <a:pt x="1836" y="11658"/>
                </a:cubicBezTo>
              </a:path>
              <a:path w="2804" h="2059">
                <a:moveTo>
                  <a:pt x="1191" y="12129"/>
                </a:moveTo>
                <a:cubicBezTo>
                  <a:pt x="1243" y="12129"/>
                  <a:pt x="1252" y="12117"/>
                  <a:pt x="1290" y="12080"/>
                </a:cubicBezTo>
                <a:cubicBezTo>
                  <a:pt x="1465" y="12221"/>
                  <a:pt x="1366" y="12334"/>
                  <a:pt x="1240" y="12502"/>
                </a:cubicBezTo>
                <a:cubicBezTo>
                  <a:pt x="1167" y="12594"/>
                  <a:pt x="1164" y="12606"/>
                  <a:pt x="1116" y="12650"/>
                </a:cubicBezTo>
                <a:cubicBezTo>
                  <a:pt x="1091" y="12551"/>
                  <a:pt x="1147" y="12480"/>
                  <a:pt x="1265" y="12452"/>
                </a:cubicBezTo>
                <a:cubicBezTo>
                  <a:pt x="1335" y="12436"/>
                  <a:pt x="1385" y="12572"/>
                  <a:pt x="1439" y="12526"/>
                </a:cubicBezTo>
                <a:cubicBezTo>
                  <a:pt x="1455" y="12501"/>
                  <a:pt x="1472" y="12477"/>
                  <a:pt x="1488" y="12452"/>
                </a:cubicBezTo>
              </a:path>
              <a:path w="2804" h="2059">
                <a:moveTo>
                  <a:pt x="1712" y="12030"/>
                </a:moveTo>
                <a:cubicBezTo>
                  <a:pt x="1631" y="12175"/>
                  <a:pt x="1562" y="12294"/>
                  <a:pt x="1662" y="12427"/>
                </a:cubicBezTo>
                <a:cubicBezTo>
                  <a:pt x="1778" y="12369"/>
                  <a:pt x="2004" y="12204"/>
                  <a:pt x="1811" y="12055"/>
                </a:cubicBezTo>
                <a:cubicBezTo>
                  <a:pt x="1722" y="12033"/>
                  <a:pt x="1697" y="12017"/>
                  <a:pt x="1662" y="12080"/>
                </a:cubicBezTo>
              </a:path>
              <a:path w="2804" h="2059">
                <a:moveTo>
                  <a:pt x="2084" y="11509"/>
                </a:moveTo>
                <a:cubicBezTo>
                  <a:pt x="2084" y="11597"/>
                  <a:pt x="2115" y="11673"/>
                  <a:pt x="2133" y="11757"/>
                </a:cubicBezTo>
                <a:cubicBezTo>
                  <a:pt x="2133" y="11765"/>
                  <a:pt x="2133" y="11774"/>
                  <a:pt x="2133" y="11782"/>
                </a:cubicBezTo>
              </a:path>
              <a:path w="2804" h="2059">
                <a:moveTo>
                  <a:pt x="2133" y="11559"/>
                </a:moveTo>
                <a:cubicBezTo>
                  <a:pt x="2118" y="11617"/>
                  <a:pt x="2070" y="11667"/>
                  <a:pt x="2059" y="11733"/>
                </a:cubicBezTo>
                <a:cubicBezTo>
                  <a:pt x="2059" y="11741"/>
                  <a:pt x="2059" y="11749"/>
                  <a:pt x="2059" y="11757"/>
                </a:cubicBezTo>
              </a:path>
              <a:path w="2804" h="2059">
                <a:moveTo>
                  <a:pt x="2108" y="11757"/>
                </a:moveTo>
                <a:cubicBezTo>
                  <a:pt x="2128" y="11697"/>
                  <a:pt x="2177" y="11573"/>
                  <a:pt x="2232" y="11534"/>
                </a:cubicBezTo>
                <a:cubicBezTo>
                  <a:pt x="2240" y="11534"/>
                  <a:pt x="2249" y="11534"/>
                  <a:pt x="2257" y="11534"/>
                </a:cubicBezTo>
              </a:path>
              <a:path w="2804" h="2059">
                <a:moveTo>
                  <a:pt x="2456" y="11658"/>
                </a:moveTo>
                <a:cubicBezTo>
                  <a:pt x="2410" y="11673"/>
                  <a:pt x="2424" y="11707"/>
                  <a:pt x="2406" y="11782"/>
                </a:cubicBezTo>
                <a:cubicBezTo>
                  <a:pt x="2456" y="11782"/>
                  <a:pt x="2505" y="11782"/>
                  <a:pt x="2555" y="11782"/>
                </a:cubicBezTo>
                <a:cubicBezTo>
                  <a:pt x="2552" y="11802"/>
                  <a:pt x="2507" y="12082"/>
                  <a:pt x="2431" y="12030"/>
                </a:cubicBezTo>
                <a:cubicBezTo>
                  <a:pt x="2423" y="12014"/>
                  <a:pt x="2414" y="11997"/>
                  <a:pt x="2406" y="11981"/>
                </a:cubicBezTo>
              </a:path>
              <a:path w="2804" h="2059">
                <a:moveTo>
                  <a:pt x="2307" y="11435"/>
                </a:moveTo>
                <a:cubicBezTo>
                  <a:pt x="2352" y="11390"/>
                  <a:pt x="2497" y="11337"/>
                  <a:pt x="2580" y="11311"/>
                </a:cubicBezTo>
                <a:cubicBezTo>
                  <a:pt x="2588" y="11311"/>
                  <a:pt x="2596" y="11311"/>
                  <a:pt x="2604" y="11311"/>
                </a:cubicBezTo>
              </a:path>
              <a:path w="2804" h="2059">
                <a:moveTo>
                  <a:pt x="2431" y="10864"/>
                </a:moveTo>
                <a:cubicBezTo>
                  <a:pt x="2392" y="10895"/>
                  <a:pt x="2335" y="10910"/>
                  <a:pt x="2332" y="10964"/>
                </a:cubicBezTo>
                <a:cubicBezTo>
                  <a:pt x="2332" y="11030"/>
                  <a:pt x="2332" y="11047"/>
                  <a:pt x="2332" y="11088"/>
                </a:cubicBezTo>
                <a:cubicBezTo>
                  <a:pt x="2360" y="11083"/>
                  <a:pt x="2522" y="11059"/>
                  <a:pt x="2480" y="11162"/>
                </a:cubicBezTo>
                <a:cubicBezTo>
                  <a:pt x="2466" y="11196"/>
                  <a:pt x="2406" y="11249"/>
                  <a:pt x="2381" y="11261"/>
                </a:cubicBezTo>
              </a:path>
              <a:path w="2804" h="2059">
                <a:moveTo>
                  <a:pt x="3225" y="11460"/>
                </a:moveTo>
                <a:cubicBezTo>
                  <a:pt x="3240" y="11610"/>
                  <a:pt x="3093" y="12012"/>
                  <a:pt x="3200" y="11906"/>
                </a:cubicBezTo>
                <a:cubicBezTo>
                  <a:pt x="3208" y="11881"/>
                  <a:pt x="3217" y="11857"/>
                  <a:pt x="3225" y="11832"/>
                </a:cubicBezTo>
              </a:path>
              <a:path w="2804" h="2059">
                <a:moveTo>
                  <a:pt x="3448" y="11509"/>
                </a:moveTo>
                <a:cubicBezTo>
                  <a:pt x="3404" y="11629"/>
                  <a:pt x="3387" y="11712"/>
                  <a:pt x="3423" y="11832"/>
                </a:cubicBezTo>
                <a:cubicBezTo>
                  <a:pt x="3484" y="11796"/>
                  <a:pt x="3697" y="11655"/>
                  <a:pt x="3572" y="11559"/>
                </a:cubicBezTo>
                <a:cubicBezTo>
                  <a:pt x="3514" y="11540"/>
                  <a:pt x="3508" y="11531"/>
                  <a:pt x="3473" y="11534"/>
                </a:cubicBezTo>
              </a:path>
              <a:path w="2804" h="2059">
                <a:moveTo>
                  <a:pt x="3770" y="11361"/>
                </a:moveTo>
                <a:cubicBezTo>
                  <a:pt x="3727" y="11492"/>
                  <a:pt x="3704" y="11607"/>
                  <a:pt x="3746" y="11733"/>
                </a:cubicBezTo>
                <a:cubicBezTo>
                  <a:pt x="3835" y="11703"/>
                  <a:pt x="3977" y="11593"/>
                  <a:pt x="3845" y="11509"/>
                </a:cubicBezTo>
                <a:cubicBezTo>
                  <a:pt x="3784" y="11489"/>
                  <a:pt x="3769" y="11492"/>
                  <a:pt x="3746" y="11460"/>
                </a:cubicBezTo>
              </a:path>
              <a:path w="2804" h="2059">
                <a:moveTo>
                  <a:pt x="3076" y="11336"/>
                </a:moveTo>
                <a:cubicBezTo>
                  <a:pt x="3262" y="11336"/>
                  <a:pt x="3420" y="11270"/>
                  <a:pt x="3597" y="11212"/>
                </a:cubicBezTo>
                <a:cubicBezTo>
                  <a:pt x="3677" y="11186"/>
                  <a:pt x="3730" y="11153"/>
                  <a:pt x="3795" y="11137"/>
                </a:cubicBezTo>
              </a:path>
              <a:path w="2804" h="2059">
                <a:moveTo>
                  <a:pt x="3125" y="10691"/>
                </a:moveTo>
                <a:cubicBezTo>
                  <a:pt x="3125" y="10770"/>
                  <a:pt x="3097" y="10839"/>
                  <a:pt x="3076" y="10914"/>
                </a:cubicBezTo>
                <a:cubicBezTo>
                  <a:pt x="3057" y="10982"/>
                  <a:pt x="3025" y="11078"/>
                  <a:pt x="3076" y="11112"/>
                </a:cubicBezTo>
                <a:cubicBezTo>
                  <a:pt x="3165" y="11172"/>
                  <a:pt x="3196" y="11176"/>
                  <a:pt x="3299" y="11137"/>
                </a:cubicBezTo>
                <a:cubicBezTo>
                  <a:pt x="3359" y="11114"/>
                  <a:pt x="3392" y="11100"/>
                  <a:pt x="3423" y="11038"/>
                </a:cubicBezTo>
                <a:cubicBezTo>
                  <a:pt x="3423" y="11013"/>
                  <a:pt x="3423" y="11005"/>
                  <a:pt x="3423" y="10988"/>
                </a:cubicBezTo>
                <a:cubicBezTo>
                  <a:pt x="3368" y="10956"/>
                  <a:pt x="3310" y="10950"/>
                  <a:pt x="3249" y="10988"/>
                </a:cubicBezTo>
                <a:cubicBezTo>
                  <a:pt x="3173" y="11035"/>
                  <a:pt x="3199" y="11126"/>
                  <a:pt x="3225" y="11187"/>
                </a:cubicBezTo>
              </a:path>
              <a:path w="2804" h="2059">
                <a:moveTo>
                  <a:pt x="3597" y="10592"/>
                </a:moveTo>
                <a:cubicBezTo>
                  <a:pt x="3506" y="10642"/>
                  <a:pt x="3499" y="10626"/>
                  <a:pt x="3473" y="10740"/>
                </a:cubicBezTo>
                <a:cubicBezTo>
                  <a:pt x="3473" y="10773"/>
                  <a:pt x="3473" y="10790"/>
                  <a:pt x="3473" y="10815"/>
                </a:cubicBezTo>
                <a:cubicBezTo>
                  <a:pt x="3556" y="10801"/>
                  <a:pt x="3616" y="10750"/>
                  <a:pt x="3696" y="10790"/>
                </a:cubicBezTo>
                <a:cubicBezTo>
                  <a:pt x="3806" y="10845"/>
                  <a:pt x="3704" y="10970"/>
                  <a:pt x="3646" y="11013"/>
                </a:cubicBezTo>
                <a:cubicBezTo>
                  <a:pt x="3575" y="11065"/>
                  <a:pt x="3562" y="11063"/>
                  <a:pt x="3497" y="1106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120" y="4643280"/>
            <a:ext cx="1125720" cy="625680"/>
          </a:xfrm>
          <a:custGeom>
            <a:avLst/>
            <a:gdLst/>
            <a:ahLst/>
            <a:rect l="l" t="t" r="r" b="b"/>
            <a:pathLst>
              <a:path w="3126" h="1738">
                <a:moveTo>
                  <a:pt x="1439" y="13320"/>
                </a:moveTo>
                <a:cubicBezTo>
                  <a:pt x="1426" y="13427"/>
                  <a:pt x="1400" y="13492"/>
                  <a:pt x="1364" y="13593"/>
                </a:cubicBezTo>
                <a:cubicBezTo>
                  <a:pt x="1467" y="13593"/>
                  <a:pt x="1477" y="13580"/>
                  <a:pt x="1588" y="13543"/>
                </a:cubicBezTo>
              </a:path>
              <a:path w="3126" h="1738">
                <a:moveTo>
                  <a:pt x="1612" y="13221"/>
                </a:moveTo>
                <a:cubicBezTo>
                  <a:pt x="1591" y="13371"/>
                  <a:pt x="1588" y="13514"/>
                  <a:pt x="1588" y="13667"/>
                </a:cubicBezTo>
                <a:cubicBezTo>
                  <a:pt x="1588" y="13692"/>
                  <a:pt x="1588" y="13717"/>
                  <a:pt x="1588" y="13742"/>
                </a:cubicBezTo>
              </a:path>
              <a:path w="3126" h="1738">
                <a:moveTo>
                  <a:pt x="1191" y="14015"/>
                </a:moveTo>
                <a:cubicBezTo>
                  <a:pt x="1374" y="13978"/>
                  <a:pt x="1550" y="13924"/>
                  <a:pt x="1736" y="13915"/>
                </a:cubicBezTo>
                <a:cubicBezTo>
                  <a:pt x="1744" y="13915"/>
                  <a:pt x="1753" y="13915"/>
                  <a:pt x="1761" y="13915"/>
                </a:cubicBezTo>
              </a:path>
              <a:path w="3126" h="1738">
                <a:moveTo>
                  <a:pt x="1191" y="14213"/>
                </a:moveTo>
                <a:cubicBezTo>
                  <a:pt x="1185" y="14324"/>
                  <a:pt x="1111" y="14554"/>
                  <a:pt x="1166" y="14635"/>
                </a:cubicBezTo>
                <a:cubicBezTo>
                  <a:pt x="1166" y="14627"/>
                  <a:pt x="1166" y="14618"/>
                  <a:pt x="1166" y="14610"/>
                </a:cubicBezTo>
              </a:path>
              <a:path w="3126" h="1738">
                <a:moveTo>
                  <a:pt x="1414" y="14213"/>
                </a:moveTo>
                <a:cubicBezTo>
                  <a:pt x="1387" y="14337"/>
                  <a:pt x="1390" y="14373"/>
                  <a:pt x="1439" y="14486"/>
                </a:cubicBezTo>
                <a:cubicBezTo>
                  <a:pt x="1558" y="14466"/>
                  <a:pt x="1692" y="14366"/>
                  <a:pt x="1612" y="14213"/>
                </a:cubicBezTo>
                <a:cubicBezTo>
                  <a:pt x="1561" y="14115"/>
                  <a:pt x="1461" y="14366"/>
                  <a:pt x="1563" y="14139"/>
                </a:cubicBezTo>
              </a:path>
              <a:path w="3126" h="1738">
                <a:moveTo>
                  <a:pt x="2158" y="13990"/>
                </a:moveTo>
                <a:cubicBezTo>
                  <a:pt x="2178" y="14127"/>
                  <a:pt x="2164" y="14225"/>
                  <a:pt x="2133" y="14362"/>
                </a:cubicBezTo>
              </a:path>
              <a:path w="3126" h="1738">
                <a:moveTo>
                  <a:pt x="2456" y="13965"/>
                </a:moveTo>
                <a:cubicBezTo>
                  <a:pt x="2444" y="14051"/>
                  <a:pt x="2431" y="14125"/>
                  <a:pt x="2431" y="14213"/>
                </a:cubicBezTo>
                <a:cubicBezTo>
                  <a:pt x="2496" y="14185"/>
                  <a:pt x="2678" y="14109"/>
                  <a:pt x="2530" y="14039"/>
                </a:cubicBezTo>
                <a:cubicBezTo>
                  <a:pt x="2505" y="14031"/>
                  <a:pt x="2481" y="14023"/>
                  <a:pt x="2456" y="14015"/>
                </a:cubicBezTo>
              </a:path>
              <a:path w="3126" h="1738">
                <a:moveTo>
                  <a:pt x="2803" y="13643"/>
                </a:moveTo>
                <a:cubicBezTo>
                  <a:pt x="2888" y="13643"/>
                  <a:pt x="2943" y="13624"/>
                  <a:pt x="2952" y="13643"/>
                </a:cubicBezTo>
              </a:path>
              <a:path w="3126" h="1738">
                <a:moveTo>
                  <a:pt x="3746" y="13643"/>
                </a:moveTo>
                <a:cubicBezTo>
                  <a:pt x="3706" y="13772"/>
                  <a:pt x="3673" y="13841"/>
                  <a:pt x="3696" y="13965"/>
                </a:cubicBezTo>
                <a:cubicBezTo>
                  <a:pt x="3780" y="13952"/>
                  <a:pt x="4044" y="13853"/>
                  <a:pt x="3894" y="13717"/>
                </a:cubicBezTo>
                <a:cubicBezTo>
                  <a:pt x="3820" y="13698"/>
                  <a:pt x="3813" y="13690"/>
                  <a:pt x="3770" y="13692"/>
                </a:cubicBezTo>
              </a:path>
              <a:path w="3126" h="1738">
                <a:moveTo>
                  <a:pt x="4018" y="13543"/>
                </a:moveTo>
                <a:cubicBezTo>
                  <a:pt x="3999" y="13702"/>
                  <a:pt x="3987" y="13773"/>
                  <a:pt x="4043" y="13915"/>
                </a:cubicBezTo>
                <a:cubicBezTo>
                  <a:pt x="4142" y="13866"/>
                  <a:pt x="4400" y="13732"/>
                  <a:pt x="4192" y="13618"/>
                </a:cubicBezTo>
                <a:cubicBezTo>
                  <a:pt x="4076" y="13595"/>
                  <a:pt x="4043" y="13588"/>
                  <a:pt x="3969" y="13568"/>
                </a:cubicBezTo>
              </a:path>
              <a:path w="3126" h="1738">
                <a:moveTo>
                  <a:pt x="2257" y="13841"/>
                </a:moveTo>
                <a:cubicBezTo>
                  <a:pt x="2319" y="13739"/>
                  <a:pt x="2435" y="13752"/>
                  <a:pt x="2530" y="13692"/>
                </a:cubicBezTo>
                <a:cubicBezTo>
                  <a:pt x="2530" y="13684"/>
                  <a:pt x="2530" y="13675"/>
                  <a:pt x="2530" y="13667"/>
                </a:cubicBezTo>
              </a:path>
              <a:path w="3126" h="1738">
                <a:moveTo>
                  <a:pt x="2208" y="13246"/>
                </a:moveTo>
                <a:cubicBezTo>
                  <a:pt x="2215" y="13349"/>
                  <a:pt x="2233" y="13442"/>
                  <a:pt x="2257" y="13543"/>
                </a:cubicBezTo>
              </a:path>
              <a:path w="3126" h="1738">
                <a:moveTo>
                  <a:pt x="2332" y="13221"/>
                </a:moveTo>
                <a:cubicBezTo>
                  <a:pt x="2320" y="13358"/>
                  <a:pt x="2286" y="13423"/>
                  <a:pt x="2381" y="13519"/>
                </a:cubicBezTo>
                <a:cubicBezTo>
                  <a:pt x="2468" y="13397"/>
                  <a:pt x="2555" y="13289"/>
                  <a:pt x="2356" y="13246"/>
                </a:cubicBezTo>
                <a:cubicBezTo>
                  <a:pt x="2340" y="13246"/>
                  <a:pt x="2323" y="13246"/>
                  <a:pt x="2307" y="13246"/>
                </a:cubicBezTo>
              </a:path>
              <a:path w="3126" h="1738">
                <a:moveTo>
                  <a:pt x="3225" y="13097"/>
                </a:moveTo>
                <a:cubicBezTo>
                  <a:pt x="3225" y="13155"/>
                  <a:pt x="3225" y="13180"/>
                  <a:pt x="3225" y="13221"/>
                </a:cubicBezTo>
                <a:cubicBezTo>
                  <a:pt x="3366" y="13200"/>
                  <a:pt x="3406" y="13189"/>
                  <a:pt x="3448" y="13072"/>
                </a:cubicBezTo>
              </a:path>
              <a:path w="3126" h="1738">
                <a:moveTo>
                  <a:pt x="3646" y="12898"/>
                </a:moveTo>
                <a:cubicBezTo>
                  <a:pt x="3577" y="13037"/>
                  <a:pt x="3592" y="13133"/>
                  <a:pt x="3646" y="13271"/>
                </a:cubicBezTo>
                <a:cubicBezTo>
                  <a:pt x="3737" y="13217"/>
                  <a:pt x="3924" y="13065"/>
                  <a:pt x="3770" y="12948"/>
                </a:cubicBezTo>
                <a:cubicBezTo>
                  <a:pt x="3686" y="12927"/>
                  <a:pt x="3667" y="12912"/>
                  <a:pt x="3621" y="129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00" y="3375000"/>
            <a:ext cx="1027080" cy="839880"/>
          </a:xfrm>
          <a:custGeom>
            <a:avLst/>
            <a:gdLst/>
            <a:ahLst/>
            <a:rect l="l" t="t" r="r" b="b"/>
            <a:pathLst>
              <a:path w="2853" h="2333">
                <a:moveTo>
                  <a:pt x="2480" y="11708"/>
                </a:moveTo>
                <a:cubicBezTo>
                  <a:pt x="2522" y="11666"/>
                  <a:pt x="2554" y="11629"/>
                  <a:pt x="2604" y="11609"/>
                </a:cubicBezTo>
              </a:path>
              <a:path w="2853" h="2333">
                <a:moveTo>
                  <a:pt x="2853" y="11435"/>
                </a:moveTo>
                <a:cubicBezTo>
                  <a:pt x="2914" y="11422"/>
                  <a:pt x="2928" y="11403"/>
                  <a:pt x="2977" y="11361"/>
                </a:cubicBezTo>
              </a:path>
              <a:path w="2853" h="2333">
                <a:moveTo>
                  <a:pt x="2778" y="11559"/>
                </a:moveTo>
                <a:cubicBezTo>
                  <a:pt x="2871" y="11550"/>
                  <a:pt x="2926" y="11515"/>
                  <a:pt x="3001" y="11485"/>
                </a:cubicBezTo>
              </a:path>
              <a:path w="2853" h="2333">
                <a:moveTo>
                  <a:pt x="347" y="9376"/>
                </a:moveTo>
                <a:cubicBezTo>
                  <a:pt x="321" y="9529"/>
                  <a:pt x="232" y="9588"/>
                  <a:pt x="149" y="9699"/>
                </a:cubicBezTo>
                <a:cubicBezTo>
                  <a:pt x="149" y="9707"/>
                  <a:pt x="149" y="9715"/>
                  <a:pt x="149" y="972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0280" y="3724200"/>
            <a:ext cx="598680" cy="249480"/>
          </a:xfrm>
          <a:custGeom>
            <a:avLst/>
            <a:gdLst/>
            <a:ahLst/>
            <a:rect l="l" t="t" r="r" b="b"/>
            <a:pathLst>
              <a:path w="1663" h="695">
                <a:moveTo>
                  <a:pt x="9971" y="10492"/>
                </a:moveTo>
                <a:cubicBezTo>
                  <a:pt x="9921" y="10492"/>
                  <a:pt x="9889" y="10510"/>
                  <a:pt x="9847" y="10542"/>
                </a:cubicBezTo>
                <a:cubicBezTo>
                  <a:pt x="9772" y="10599"/>
                  <a:pt x="9736" y="10671"/>
                  <a:pt x="9723" y="10765"/>
                </a:cubicBezTo>
                <a:cubicBezTo>
                  <a:pt x="9712" y="10843"/>
                  <a:pt x="9719" y="10945"/>
                  <a:pt x="9798" y="10988"/>
                </a:cubicBezTo>
                <a:cubicBezTo>
                  <a:pt x="9919" y="11054"/>
                  <a:pt x="9987" y="11033"/>
                  <a:pt x="10096" y="10964"/>
                </a:cubicBezTo>
                <a:cubicBezTo>
                  <a:pt x="10188" y="10906"/>
                  <a:pt x="10251" y="10832"/>
                  <a:pt x="10220" y="10716"/>
                </a:cubicBezTo>
                <a:cubicBezTo>
                  <a:pt x="10201" y="10646"/>
                  <a:pt x="10154" y="10602"/>
                  <a:pt x="10096" y="10567"/>
                </a:cubicBezTo>
                <a:cubicBezTo>
                  <a:pt x="10064" y="10547"/>
                  <a:pt x="10003" y="10528"/>
                  <a:pt x="9971" y="10517"/>
                </a:cubicBezTo>
                <a:cubicBezTo>
                  <a:pt x="9963" y="10517"/>
                  <a:pt x="9955" y="10517"/>
                  <a:pt x="9947" y="10517"/>
                </a:cubicBezTo>
              </a:path>
              <a:path w="1663" h="695">
                <a:moveTo>
                  <a:pt x="10443" y="10914"/>
                </a:moveTo>
                <a:cubicBezTo>
                  <a:pt x="10393" y="10939"/>
                  <a:pt x="10401" y="10954"/>
                  <a:pt x="10393" y="11013"/>
                </a:cubicBezTo>
                <a:cubicBezTo>
                  <a:pt x="10422" y="10963"/>
                  <a:pt x="10448" y="10954"/>
                  <a:pt x="10418" y="10939"/>
                </a:cubicBezTo>
              </a:path>
              <a:path w="1663" h="695">
                <a:moveTo>
                  <a:pt x="10716" y="10393"/>
                </a:moveTo>
                <a:cubicBezTo>
                  <a:pt x="10750" y="10411"/>
                  <a:pt x="10697" y="10461"/>
                  <a:pt x="10691" y="10517"/>
                </a:cubicBezTo>
                <a:cubicBezTo>
                  <a:pt x="10684" y="10582"/>
                  <a:pt x="10654" y="10867"/>
                  <a:pt x="10716" y="10914"/>
                </a:cubicBezTo>
                <a:cubicBezTo>
                  <a:pt x="10781" y="10964"/>
                  <a:pt x="10831" y="10910"/>
                  <a:pt x="10889" y="10889"/>
                </a:cubicBezTo>
                <a:cubicBezTo>
                  <a:pt x="10938" y="10871"/>
                  <a:pt x="10958" y="10851"/>
                  <a:pt x="10964" y="10790"/>
                </a:cubicBezTo>
                <a:cubicBezTo>
                  <a:pt x="10964" y="10782"/>
                  <a:pt x="10964" y="10773"/>
                  <a:pt x="10964" y="10765"/>
                </a:cubicBezTo>
                <a:cubicBezTo>
                  <a:pt x="10949" y="10760"/>
                  <a:pt x="10894" y="10710"/>
                  <a:pt x="10864" y="10740"/>
                </a:cubicBezTo>
                <a:cubicBezTo>
                  <a:pt x="10838" y="10766"/>
                  <a:pt x="10819" y="10808"/>
                  <a:pt x="10815" y="10864"/>
                </a:cubicBezTo>
                <a:cubicBezTo>
                  <a:pt x="10815" y="10897"/>
                  <a:pt x="10815" y="10914"/>
                  <a:pt x="10815" y="10939"/>
                </a:cubicBezTo>
              </a:path>
              <a:path w="1663" h="695">
                <a:moveTo>
                  <a:pt x="11361" y="10344"/>
                </a:moveTo>
                <a:cubicBezTo>
                  <a:pt x="11286" y="10358"/>
                  <a:pt x="11211" y="10398"/>
                  <a:pt x="11137" y="10418"/>
                </a:cubicBezTo>
                <a:cubicBezTo>
                  <a:pt x="11070" y="10436"/>
                  <a:pt x="11088" y="10471"/>
                  <a:pt x="11088" y="10542"/>
                </a:cubicBezTo>
                <a:cubicBezTo>
                  <a:pt x="11088" y="10587"/>
                  <a:pt x="11084" y="10600"/>
                  <a:pt x="11112" y="10616"/>
                </a:cubicBezTo>
                <a:cubicBezTo>
                  <a:pt x="11140" y="10561"/>
                  <a:pt x="11174" y="10567"/>
                  <a:pt x="11237" y="10567"/>
                </a:cubicBezTo>
                <a:cubicBezTo>
                  <a:pt x="11278" y="10567"/>
                  <a:pt x="11342" y="10600"/>
                  <a:pt x="11361" y="10641"/>
                </a:cubicBezTo>
                <a:cubicBezTo>
                  <a:pt x="11405" y="10736"/>
                  <a:pt x="11378" y="10800"/>
                  <a:pt x="11336" y="10889"/>
                </a:cubicBezTo>
                <a:cubicBezTo>
                  <a:pt x="11295" y="10974"/>
                  <a:pt x="11267" y="10917"/>
                  <a:pt x="11212" y="10964"/>
                </a:cubicBezTo>
                <a:cubicBezTo>
                  <a:pt x="11173" y="10997"/>
                  <a:pt x="11129" y="10994"/>
                  <a:pt x="11088" y="10964"/>
                </a:cubicBezTo>
                <a:cubicBezTo>
                  <a:pt x="11084" y="10961"/>
                  <a:pt x="11045" y="10878"/>
                  <a:pt x="11063" y="10864"/>
                </a:cubicBezTo>
                <a:cubicBezTo>
                  <a:pt x="11088" y="10864"/>
                  <a:pt x="11096" y="10864"/>
                  <a:pt x="11088" y="108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240" y="3697200"/>
            <a:ext cx="2795760" cy="1312920"/>
          </a:xfrm>
          <a:custGeom>
            <a:avLst/>
            <a:gdLst/>
            <a:ahLst/>
            <a:rect l="l" t="t" r="r" b="b"/>
            <a:pathLst>
              <a:path w="7765" h="3647">
                <a:moveTo>
                  <a:pt x="15007" y="10492"/>
                </a:moveTo>
                <a:cubicBezTo>
                  <a:pt x="14888" y="10591"/>
                  <a:pt x="14785" y="10701"/>
                  <a:pt x="14759" y="10864"/>
                </a:cubicBezTo>
                <a:cubicBezTo>
                  <a:pt x="14759" y="10897"/>
                  <a:pt x="14759" y="10931"/>
                  <a:pt x="14759" y="10964"/>
                </a:cubicBezTo>
                <a:cubicBezTo>
                  <a:pt x="14878" y="11013"/>
                  <a:pt x="14960" y="10976"/>
                  <a:pt x="15032" y="10864"/>
                </a:cubicBezTo>
                <a:cubicBezTo>
                  <a:pt x="15100" y="10758"/>
                  <a:pt x="15103" y="10646"/>
                  <a:pt x="15032" y="10542"/>
                </a:cubicBezTo>
                <a:cubicBezTo>
                  <a:pt x="15007" y="10517"/>
                  <a:pt x="14999" y="10509"/>
                  <a:pt x="14982" y="10492"/>
                </a:cubicBezTo>
              </a:path>
              <a:path w="7765" h="3647">
                <a:moveTo>
                  <a:pt x="15429" y="10492"/>
                </a:moveTo>
                <a:cubicBezTo>
                  <a:pt x="15429" y="10581"/>
                  <a:pt x="15395" y="10651"/>
                  <a:pt x="15503" y="10666"/>
                </a:cubicBezTo>
                <a:cubicBezTo>
                  <a:pt x="15564" y="10675"/>
                  <a:pt x="15638" y="10666"/>
                  <a:pt x="15701" y="10666"/>
                </a:cubicBezTo>
              </a:path>
              <a:path w="7765" h="3647">
                <a:moveTo>
                  <a:pt x="15701" y="10368"/>
                </a:moveTo>
                <a:cubicBezTo>
                  <a:pt x="15701" y="10479"/>
                  <a:pt x="15676" y="10855"/>
                  <a:pt x="15726" y="10840"/>
                </a:cubicBezTo>
              </a:path>
              <a:path w="7765" h="3647">
                <a:moveTo>
                  <a:pt x="16098" y="10393"/>
                </a:moveTo>
                <a:cubicBezTo>
                  <a:pt x="16063" y="10534"/>
                  <a:pt x="16028" y="10642"/>
                  <a:pt x="16024" y="10790"/>
                </a:cubicBezTo>
                <a:cubicBezTo>
                  <a:pt x="16024" y="10815"/>
                  <a:pt x="16024" y="10839"/>
                  <a:pt x="16024" y="10864"/>
                </a:cubicBezTo>
                <a:cubicBezTo>
                  <a:pt x="16167" y="10849"/>
                  <a:pt x="16297" y="10844"/>
                  <a:pt x="16321" y="10666"/>
                </a:cubicBezTo>
                <a:cubicBezTo>
                  <a:pt x="16338" y="10541"/>
                  <a:pt x="16307" y="10395"/>
                  <a:pt x="16197" y="10319"/>
                </a:cubicBezTo>
                <a:cubicBezTo>
                  <a:pt x="16160" y="10293"/>
                  <a:pt x="16132" y="10350"/>
                  <a:pt x="16123" y="10368"/>
                </a:cubicBezTo>
              </a:path>
              <a:path w="7765" h="3647">
                <a:moveTo>
                  <a:pt x="19745" y="10790"/>
                </a:moveTo>
                <a:cubicBezTo>
                  <a:pt x="19612" y="10802"/>
                  <a:pt x="19571" y="10854"/>
                  <a:pt x="19521" y="10988"/>
                </a:cubicBezTo>
                <a:cubicBezTo>
                  <a:pt x="19485" y="11085"/>
                  <a:pt x="19447" y="11159"/>
                  <a:pt x="19447" y="11261"/>
                </a:cubicBezTo>
                <a:cubicBezTo>
                  <a:pt x="19447" y="11355"/>
                  <a:pt x="19631" y="11370"/>
                  <a:pt x="19695" y="11361"/>
                </a:cubicBezTo>
                <a:cubicBezTo>
                  <a:pt x="19787" y="11349"/>
                  <a:pt x="19853" y="11289"/>
                  <a:pt x="19893" y="11212"/>
                </a:cubicBezTo>
                <a:cubicBezTo>
                  <a:pt x="19926" y="11148"/>
                  <a:pt x="19943" y="11109"/>
                  <a:pt x="19943" y="11038"/>
                </a:cubicBezTo>
                <a:cubicBezTo>
                  <a:pt x="19943" y="10985"/>
                  <a:pt x="19916" y="10945"/>
                  <a:pt x="19869" y="10914"/>
                </a:cubicBezTo>
                <a:cubicBezTo>
                  <a:pt x="19803" y="10871"/>
                  <a:pt x="19829" y="10885"/>
                  <a:pt x="19769" y="10864"/>
                </a:cubicBezTo>
                <a:cubicBezTo>
                  <a:pt x="19696" y="10839"/>
                  <a:pt x="19731" y="10815"/>
                  <a:pt x="19645" y="10815"/>
                </a:cubicBezTo>
              </a:path>
              <a:path w="7765" h="3647">
                <a:moveTo>
                  <a:pt x="20141" y="11261"/>
                </a:moveTo>
                <a:cubicBezTo>
                  <a:pt x="20065" y="11204"/>
                  <a:pt x="20078" y="11278"/>
                  <a:pt x="20092" y="11336"/>
                </a:cubicBezTo>
                <a:cubicBezTo>
                  <a:pt x="20163" y="11250"/>
                  <a:pt x="20135" y="11317"/>
                  <a:pt x="20117" y="11261"/>
                </a:cubicBezTo>
              </a:path>
              <a:path w="7765" h="3647">
                <a:moveTo>
                  <a:pt x="20439" y="10815"/>
                </a:moveTo>
                <a:cubicBezTo>
                  <a:pt x="20433" y="10861"/>
                  <a:pt x="20423" y="10895"/>
                  <a:pt x="20414" y="10939"/>
                </a:cubicBezTo>
                <a:cubicBezTo>
                  <a:pt x="20465" y="10944"/>
                  <a:pt x="20619" y="11000"/>
                  <a:pt x="20662" y="10964"/>
                </a:cubicBezTo>
                <a:cubicBezTo>
                  <a:pt x="20662" y="10956"/>
                  <a:pt x="20662" y="10947"/>
                  <a:pt x="20662" y="10939"/>
                </a:cubicBezTo>
              </a:path>
              <a:path w="7765" h="3647">
                <a:moveTo>
                  <a:pt x="20662" y="10666"/>
                </a:moveTo>
                <a:cubicBezTo>
                  <a:pt x="20683" y="10814"/>
                  <a:pt x="20730" y="10959"/>
                  <a:pt x="20712" y="11112"/>
                </a:cubicBezTo>
                <a:cubicBezTo>
                  <a:pt x="20707" y="11152"/>
                  <a:pt x="20648" y="11205"/>
                  <a:pt x="20712" y="11162"/>
                </a:cubicBezTo>
              </a:path>
              <a:path w="7765" h="3647">
                <a:moveTo>
                  <a:pt x="20985" y="10740"/>
                </a:moveTo>
                <a:cubicBezTo>
                  <a:pt x="21018" y="10692"/>
                  <a:pt x="21157" y="10697"/>
                  <a:pt x="21208" y="10765"/>
                </a:cubicBezTo>
                <a:cubicBezTo>
                  <a:pt x="21303" y="10893"/>
                  <a:pt x="21240" y="11097"/>
                  <a:pt x="21084" y="11137"/>
                </a:cubicBezTo>
                <a:cubicBezTo>
                  <a:pt x="20975" y="11137"/>
                  <a:pt x="20948" y="11142"/>
                  <a:pt x="20886" y="11112"/>
                </a:cubicBezTo>
                <a:cubicBezTo>
                  <a:pt x="20917" y="11034"/>
                  <a:pt x="21015" y="10979"/>
                  <a:pt x="21109" y="11013"/>
                </a:cubicBezTo>
                <a:cubicBezTo>
                  <a:pt x="21152" y="11029"/>
                  <a:pt x="21208" y="11137"/>
                  <a:pt x="21208" y="11088"/>
                </a:cubicBezTo>
              </a:path>
              <a:path w="7765" h="3647">
                <a:moveTo>
                  <a:pt x="21406" y="10666"/>
                </a:moveTo>
                <a:cubicBezTo>
                  <a:pt x="21389" y="10738"/>
                  <a:pt x="21372" y="10803"/>
                  <a:pt x="21382" y="10889"/>
                </a:cubicBezTo>
                <a:cubicBezTo>
                  <a:pt x="21391" y="10962"/>
                  <a:pt x="21413" y="11166"/>
                  <a:pt x="21506" y="11187"/>
                </a:cubicBezTo>
                <a:cubicBezTo>
                  <a:pt x="21613" y="11211"/>
                  <a:pt x="21743" y="11145"/>
                  <a:pt x="21828" y="11088"/>
                </a:cubicBezTo>
                <a:cubicBezTo>
                  <a:pt x="21882" y="11052"/>
                  <a:pt x="21878" y="10995"/>
                  <a:pt x="21878" y="10939"/>
                </a:cubicBezTo>
                <a:cubicBezTo>
                  <a:pt x="21805" y="10915"/>
                  <a:pt x="21713" y="10882"/>
                  <a:pt x="21654" y="10964"/>
                </a:cubicBezTo>
                <a:cubicBezTo>
                  <a:pt x="21602" y="11038"/>
                  <a:pt x="21640" y="11115"/>
                  <a:pt x="21654" y="11187"/>
                </a:cubicBezTo>
              </a:path>
              <a:path w="7765" h="3647">
                <a:moveTo>
                  <a:pt x="19745" y="11658"/>
                </a:moveTo>
                <a:cubicBezTo>
                  <a:pt x="19708" y="11602"/>
                  <a:pt x="19598" y="11656"/>
                  <a:pt x="19546" y="11708"/>
                </a:cubicBezTo>
                <a:cubicBezTo>
                  <a:pt x="19474" y="11780"/>
                  <a:pt x="19357" y="11949"/>
                  <a:pt x="19372" y="12055"/>
                </a:cubicBezTo>
                <a:cubicBezTo>
                  <a:pt x="19387" y="12168"/>
                  <a:pt x="19622" y="12153"/>
                  <a:pt x="19695" y="12129"/>
                </a:cubicBezTo>
                <a:cubicBezTo>
                  <a:pt x="19848" y="12078"/>
                  <a:pt x="19886" y="11951"/>
                  <a:pt x="19844" y="11807"/>
                </a:cubicBezTo>
                <a:cubicBezTo>
                  <a:pt x="19824" y="11738"/>
                  <a:pt x="19723" y="11648"/>
                  <a:pt x="19645" y="11683"/>
                </a:cubicBezTo>
                <a:cubicBezTo>
                  <a:pt x="19645" y="11691"/>
                  <a:pt x="19645" y="11700"/>
                  <a:pt x="19645" y="11708"/>
                </a:cubicBezTo>
              </a:path>
              <a:path w="7765" h="3647">
                <a:moveTo>
                  <a:pt x="20241" y="12005"/>
                </a:moveTo>
                <a:cubicBezTo>
                  <a:pt x="20210" y="12025"/>
                  <a:pt x="20216" y="12031"/>
                  <a:pt x="20216" y="12080"/>
                </a:cubicBezTo>
                <a:cubicBezTo>
                  <a:pt x="20275" y="12040"/>
                  <a:pt x="20265" y="12048"/>
                  <a:pt x="20265" y="11981"/>
                </a:cubicBezTo>
              </a:path>
              <a:path w="7765" h="3647">
                <a:moveTo>
                  <a:pt x="20563" y="11584"/>
                </a:moveTo>
                <a:cubicBezTo>
                  <a:pt x="20547" y="11692"/>
                  <a:pt x="20485" y="11823"/>
                  <a:pt x="20489" y="11931"/>
                </a:cubicBezTo>
                <a:cubicBezTo>
                  <a:pt x="20492" y="12030"/>
                  <a:pt x="20632" y="12083"/>
                  <a:pt x="20712" y="12080"/>
                </a:cubicBezTo>
                <a:cubicBezTo>
                  <a:pt x="20769" y="12078"/>
                  <a:pt x="20857" y="11981"/>
                  <a:pt x="20886" y="11931"/>
                </a:cubicBezTo>
                <a:cubicBezTo>
                  <a:pt x="20915" y="11881"/>
                  <a:pt x="20876" y="11826"/>
                  <a:pt x="20836" y="11807"/>
                </a:cubicBezTo>
                <a:cubicBezTo>
                  <a:pt x="20758" y="11770"/>
                  <a:pt x="20688" y="11814"/>
                  <a:pt x="20662" y="11906"/>
                </a:cubicBezTo>
                <a:cubicBezTo>
                  <a:pt x="20656" y="11927"/>
                  <a:pt x="20678" y="12105"/>
                  <a:pt x="20712" y="12105"/>
                </a:cubicBezTo>
                <a:cubicBezTo>
                  <a:pt x="20712" y="12097"/>
                  <a:pt x="20712" y="12088"/>
                  <a:pt x="20712" y="12080"/>
                </a:cubicBezTo>
              </a:path>
              <a:path w="7765" h="3647">
                <a:moveTo>
                  <a:pt x="21233" y="11509"/>
                </a:moveTo>
                <a:cubicBezTo>
                  <a:pt x="21175" y="11509"/>
                  <a:pt x="21117" y="11509"/>
                  <a:pt x="21059" y="11509"/>
                </a:cubicBezTo>
                <a:cubicBezTo>
                  <a:pt x="21059" y="11567"/>
                  <a:pt x="21059" y="11625"/>
                  <a:pt x="21059" y="11683"/>
                </a:cubicBezTo>
                <a:cubicBezTo>
                  <a:pt x="21137" y="11683"/>
                  <a:pt x="21205" y="11631"/>
                  <a:pt x="21282" y="11633"/>
                </a:cubicBezTo>
                <a:cubicBezTo>
                  <a:pt x="21382" y="11636"/>
                  <a:pt x="21487" y="11727"/>
                  <a:pt x="21406" y="11832"/>
                </a:cubicBezTo>
                <a:cubicBezTo>
                  <a:pt x="21371" y="11878"/>
                  <a:pt x="21224" y="11977"/>
                  <a:pt x="21158" y="11956"/>
                </a:cubicBezTo>
                <a:cubicBezTo>
                  <a:pt x="21150" y="11948"/>
                  <a:pt x="21142" y="11939"/>
                  <a:pt x="21134" y="11931"/>
                </a:cubicBezTo>
              </a:path>
              <a:path w="7765" h="3647">
                <a:moveTo>
                  <a:pt x="19645" y="12427"/>
                </a:moveTo>
                <a:cubicBezTo>
                  <a:pt x="19619" y="12345"/>
                  <a:pt x="19505" y="12553"/>
                  <a:pt x="19496" y="12576"/>
                </a:cubicBezTo>
                <a:cubicBezTo>
                  <a:pt x="19444" y="12705"/>
                  <a:pt x="19436" y="12886"/>
                  <a:pt x="19596" y="12923"/>
                </a:cubicBezTo>
                <a:cubicBezTo>
                  <a:pt x="19719" y="12952"/>
                  <a:pt x="19858" y="12804"/>
                  <a:pt x="19893" y="12700"/>
                </a:cubicBezTo>
                <a:cubicBezTo>
                  <a:pt x="19934" y="12576"/>
                  <a:pt x="19758" y="12471"/>
                  <a:pt x="19670" y="12427"/>
                </a:cubicBezTo>
                <a:cubicBezTo>
                  <a:pt x="19634" y="12409"/>
                  <a:pt x="19628" y="12431"/>
                  <a:pt x="19621" y="12452"/>
                </a:cubicBezTo>
              </a:path>
              <a:path w="7765" h="3647">
                <a:moveTo>
                  <a:pt x="20315" y="12725"/>
                </a:moveTo>
                <a:cubicBezTo>
                  <a:pt x="20304" y="12767"/>
                  <a:pt x="20239" y="12822"/>
                  <a:pt x="20265" y="12874"/>
                </a:cubicBezTo>
                <a:cubicBezTo>
                  <a:pt x="20282" y="12908"/>
                  <a:pt x="20356" y="12836"/>
                  <a:pt x="20365" y="12824"/>
                </a:cubicBezTo>
                <a:cubicBezTo>
                  <a:pt x="20324" y="12804"/>
                  <a:pt x="20308" y="12806"/>
                  <a:pt x="20315" y="12774"/>
                </a:cubicBezTo>
              </a:path>
              <a:path w="7765" h="3647">
                <a:moveTo>
                  <a:pt x="20662" y="12427"/>
                </a:moveTo>
                <a:cubicBezTo>
                  <a:pt x="20662" y="12376"/>
                  <a:pt x="20645" y="12476"/>
                  <a:pt x="20638" y="12526"/>
                </a:cubicBezTo>
                <a:cubicBezTo>
                  <a:pt x="20621" y="12642"/>
                  <a:pt x="20789" y="12601"/>
                  <a:pt x="20861" y="12601"/>
                </a:cubicBezTo>
                <a:cubicBezTo>
                  <a:pt x="20907" y="12601"/>
                  <a:pt x="20934" y="12589"/>
                  <a:pt x="20960" y="12551"/>
                </a:cubicBezTo>
              </a:path>
              <a:path w="7765" h="3647">
                <a:moveTo>
                  <a:pt x="20886" y="12278"/>
                </a:moveTo>
                <a:cubicBezTo>
                  <a:pt x="20886" y="12411"/>
                  <a:pt x="20907" y="12541"/>
                  <a:pt x="20910" y="12675"/>
                </a:cubicBezTo>
                <a:cubicBezTo>
                  <a:pt x="20911" y="12725"/>
                  <a:pt x="20910" y="12824"/>
                  <a:pt x="20910" y="12774"/>
                </a:cubicBezTo>
              </a:path>
              <a:path w="7765" h="3647">
                <a:moveTo>
                  <a:pt x="21183" y="12254"/>
                </a:moveTo>
                <a:cubicBezTo>
                  <a:pt x="21194" y="12220"/>
                  <a:pt x="21287" y="12195"/>
                  <a:pt x="21307" y="12254"/>
                </a:cubicBezTo>
                <a:cubicBezTo>
                  <a:pt x="21337" y="12344"/>
                  <a:pt x="21250" y="12425"/>
                  <a:pt x="21183" y="12452"/>
                </a:cubicBezTo>
                <a:cubicBezTo>
                  <a:pt x="21275" y="12439"/>
                  <a:pt x="21396" y="12394"/>
                  <a:pt x="21456" y="12502"/>
                </a:cubicBezTo>
                <a:cubicBezTo>
                  <a:pt x="21552" y="12673"/>
                  <a:pt x="21348" y="12714"/>
                  <a:pt x="21233" y="12750"/>
                </a:cubicBezTo>
              </a:path>
              <a:path w="7765" h="3647">
                <a:moveTo>
                  <a:pt x="19819" y="13146"/>
                </a:moveTo>
                <a:cubicBezTo>
                  <a:pt x="19791" y="13091"/>
                  <a:pt x="19704" y="13066"/>
                  <a:pt x="19645" y="13122"/>
                </a:cubicBezTo>
                <a:cubicBezTo>
                  <a:pt x="19529" y="13232"/>
                  <a:pt x="19478" y="13413"/>
                  <a:pt x="19496" y="13568"/>
                </a:cubicBezTo>
                <a:cubicBezTo>
                  <a:pt x="19510" y="13687"/>
                  <a:pt x="19617" y="13706"/>
                  <a:pt x="19720" y="13692"/>
                </a:cubicBezTo>
                <a:cubicBezTo>
                  <a:pt x="19866" y="13672"/>
                  <a:pt x="19943" y="13533"/>
                  <a:pt x="19943" y="13395"/>
                </a:cubicBezTo>
                <a:cubicBezTo>
                  <a:pt x="19943" y="13286"/>
                  <a:pt x="19881" y="13175"/>
                  <a:pt x="19794" y="13122"/>
                </a:cubicBezTo>
                <a:cubicBezTo>
                  <a:pt x="19734" y="13086"/>
                  <a:pt x="19708" y="13111"/>
                  <a:pt x="19645" y="13122"/>
                </a:cubicBezTo>
              </a:path>
              <a:path w="7765" h="3647">
                <a:moveTo>
                  <a:pt x="20216" y="13618"/>
                </a:moveTo>
                <a:cubicBezTo>
                  <a:pt x="20216" y="13653"/>
                  <a:pt x="20211" y="13670"/>
                  <a:pt x="20191" y="13692"/>
                </a:cubicBezTo>
                <a:cubicBezTo>
                  <a:pt x="20234" y="13706"/>
                  <a:pt x="20346" y="13711"/>
                  <a:pt x="20315" y="13618"/>
                </a:cubicBezTo>
                <a:cubicBezTo>
                  <a:pt x="20307" y="13610"/>
                  <a:pt x="20298" y="13601"/>
                  <a:pt x="20290" y="13593"/>
                </a:cubicBezTo>
              </a:path>
              <a:path w="7765" h="3647">
                <a:moveTo>
                  <a:pt x="20811" y="13097"/>
                </a:moveTo>
                <a:cubicBezTo>
                  <a:pt x="20825" y="13179"/>
                  <a:pt x="20816" y="13214"/>
                  <a:pt x="20811" y="13295"/>
                </a:cubicBezTo>
                <a:cubicBezTo>
                  <a:pt x="20803" y="13420"/>
                  <a:pt x="20940" y="13358"/>
                  <a:pt x="21010" y="13345"/>
                </a:cubicBezTo>
                <a:cubicBezTo>
                  <a:pt x="21018" y="13345"/>
                  <a:pt x="21026" y="13345"/>
                  <a:pt x="21034" y="13345"/>
                </a:cubicBezTo>
              </a:path>
              <a:path w="7765" h="3647">
                <a:moveTo>
                  <a:pt x="21010" y="13047"/>
                </a:moveTo>
                <a:cubicBezTo>
                  <a:pt x="21010" y="13174"/>
                  <a:pt x="21015" y="13319"/>
                  <a:pt x="21034" y="13444"/>
                </a:cubicBezTo>
                <a:cubicBezTo>
                  <a:pt x="21047" y="13529"/>
                  <a:pt x="21043" y="13585"/>
                  <a:pt x="21084" y="13519"/>
                </a:cubicBezTo>
              </a:path>
              <a:path w="7765" h="3647">
                <a:moveTo>
                  <a:pt x="21481" y="12998"/>
                </a:moveTo>
                <a:cubicBezTo>
                  <a:pt x="21344" y="13032"/>
                  <a:pt x="21341" y="13140"/>
                  <a:pt x="21307" y="13271"/>
                </a:cubicBezTo>
                <a:cubicBezTo>
                  <a:pt x="21277" y="13387"/>
                  <a:pt x="21270" y="13543"/>
                  <a:pt x="21431" y="13543"/>
                </a:cubicBezTo>
                <a:cubicBezTo>
                  <a:pt x="21593" y="13543"/>
                  <a:pt x="21640" y="13349"/>
                  <a:pt x="21630" y="13221"/>
                </a:cubicBezTo>
                <a:cubicBezTo>
                  <a:pt x="21622" y="13121"/>
                  <a:pt x="21542" y="13012"/>
                  <a:pt x="21456" y="12998"/>
                </a:cubicBezTo>
                <a:cubicBezTo>
                  <a:pt x="21421" y="12998"/>
                  <a:pt x="21404" y="13002"/>
                  <a:pt x="21382" y="13022"/>
                </a:cubicBezTo>
              </a:path>
              <a:path w="7765" h="3647">
                <a:moveTo>
                  <a:pt x="21828" y="11534"/>
                </a:moveTo>
                <a:cubicBezTo>
                  <a:pt x="21836" y="11534"/>
                  <a:pt x="21845" y="11534"/>
                  <a:pt x="21853" y="11534"/>
                </a:cubicBezTo>
                <a:cubicBezTo>
                  <a:pt x="21853" y="11464"/>
                  <a:pt x="21821" y="11464"/>
                  <a:pt x="21754" y="11460"/>
                </a:cubicBezTo>
                <a:cubicBezTo>
                  <a:pt x="21661" y="11455"/>
                  <a:pt x="21635" y="11577"/>
                  <a:pt x="21605" y="11658"/>
                </a:cubicBezTo>
                <a:cubicBezTo>
                  <a:pt x="21580" y="11727"/>
                  <a:pt x="21561" y="11792"/>
                  <a:pt x="21605" y="11857"/>
                </a:cubicBezTo>
                <a:cubicBezTo>
                  <a:pt x="21652" y="11926"/>
                  <a:pt x="21799" y="11872"/>
                  <a:pt x="21853" y="11832"/>
                </a:cubicBezTo>
                <a:cubicBezTo>
                  <a:pt x="21928" y="11777"/>
                  <a:pt x="21911" y="11707"/>
                  <a:pt x="21878" y="11633"/>
                </a:cubicBezTo>
                <a:cubicBezTo>
                  <a:pt x="21851" y="11573"/>
                  <a:pt x="21821" y="11541"/>
                  <a:pt x="21754" y="11534"/>
                </a:cubicBezTo>
                <a:cubicBezTo>
                  <a:pt x="21746" y="11534"/>
                  <a:pt x="21737" y="11534"/>
                  <a:pt x="21729" y="11534"/>
                </a:cubicBezTo>
              </a:path>
              <a:path w="7765" h="3647">
                <a:moveTo>
                  <a:pt x="21853" y="12254"/>
                </a:moveTo>
                <a:cubicBezTo>
                  <a:pt x="21840" y="12214"/>
                  <a:pt x="21805" y="12229"/>
                  <a:pt x="21754" y="12229"/>
                </a:cubicBezTo>
                <a:cubicBezTo>
                  <a:pt x="21719" y="12229"/>
                  <a:pt x="21637" y="12333"/>
                  <a:pt x="21630" y="12353"/>
                </a:cubicBezTo>
                <a:cubicBezTo>
                  <a:pt x="21613" y="12400"/>
                  <a:pt x="21581" y="12557"/>
                  <a:pt x="21630" y="12601"/>
                </a:cubicBezTo>
                <a:cubicBezTo>
                  <a:pt x="21703" y="12667"/>
                  <a:pt x="21840" y="12617"/>
                  <a:pt x="21903" y="12576"/>
                </a:cubicBezTo>
                <a:cubicBezTo>
                  <a:pt x="21996" y="12516"/>
                  <a:pt x="21995" y="12469"/>
                  <a:pt x="21952" y="12378"/>
                </a:cubicBezTo>
                <a:cubicBezTo>
                  <a:pt x="21929" y="12330"/>
                  <a:pt x="21900" y="12294"/>
                  <a:pt x="21853" y="12278"/>
                </a:cubicBezTo>
                <a:cubicBezTo>
                  <a:pt x="21845" y="12278"/>
                  <a:pt x="21836" y="12278"/>
                  <a:pt x="21828" y="12278"/>
                </a:cubicBezTo>
              </a:path>
              <a:path w="7765" h="3647">
                <a:moveTo>
                  <a:pt x="22027" y="13122"/>
                </a:moveTo>
                <a:cubicBezTo>
                  <a:pt x="21974" y="13080"/>
                  <a:pt x="21946" y="13072"/>
                  <a:pt x="21878" y="13072"/>
                </a:cubicBezTo>
                <a:cubicBezTo>
                  <a:pt x="21810" y="13072"/>
                  <a:pt x="21790" y="13086"/>
                  <a:pt x="21754" y="13146"/>
                </a:cubicBezTo>
                <a:cubicBezTo>
                  <a:pt x="21720" y="13204"/>
                  <a:pt x="21685" y="13275"/>
                  <a:pt x="21704" y="13345"/>
                </a:cubicBezTo>
                <a:cubicBezTo>
                  <a:pt x="21735" y="13458"/>
                  <a:pt x="21737" y="13459"/>
                  <a:pt x="21853" y="13519"/>
                </a:cubicBezTo>
                <a:cubicBezTo>
                  <a:pt x="21935" y="13561"/>
                  <a:pt x="21993" y="13523"/>
                  <a:pt x="22051" y="13469"/>
                </a:cubicBezTo>
                <a:cubicBezTo>
                  <a:pt x="22101" y="13423"/>
                  <a:pt x="22125" y="13337"/>
                  <a:pt x="22101" y="13271"/>
                </a:cubicBezTo>
                <a:cubicBezTo>
                  <a:pt x="22079" y="13209"/>
                  <a:pt x="22023" y="13160"/>
                  <a:pt x="21977" y="13122"/>
                </a:cubicBezTo>
                <a:cubicBezTo>
                  <a:pt x="21942" y="13093"/>
                  <a:pt x="21917" y="13079"/>
                  <a:pt x="21903" y="13122"/>
                </a:cubicBezTo>
              </a:path>
              <a:path w="7765" h="3647">
                <a:moveTo>
                  <a:pt x="16644" y="10344"/>
                </a:moveTo>
                <a:cubicBezTo>
                  <a:pt x="16704" y="10337"/>
                  <a:pt x="16758" y="10322"/>
                  <a:pt x="16818" y="10319"/>
                </a:cubicBezTo>
                <a:cubicBezTo>
                  <a:pt x="16987" y="10312"/>
                  <a:pt x="17149" y="10313"/>
                  <a:pt x="17314" y="10294"/>
                </a:cubicBezTo>
                <a:cubicBezTo>
                  <a:pt x="17412" y="10283"/>
                  <a:pt x="17513" y="10273"/>
                  <a:pt x="17611" y="10269"/>
                </a:cubicBezTo>
                <a:cubicBezTo>
                  <a:pt x="17701" y="10265"/>
                  <a:pt x="17708" y="10301"/>
                  <a:pt x="17785" y="10319"/>
                </a:cubicBezTo>
                <a:cubicBezTo>
                  <a:pt x="17845" y="10333"/>
                  <a:pt x="17896" y="10341"/>
                  <a:pt x="17959" y="10344"/>
                </a:cubicBezTo>
                <a:cubicBezTo>
                  <a:pt x="18044" y="10348"/>
                  <a:pt x="18155" y="10312"/>
                  <a:pt x="18231" y="10319"/>
                </a:cubicBezTo>
                <a:cubicBezTo>
                  <a:pt x="18303" y="10326"/>
                  <a:pt x="18370" y="10319"/>
                  <a:pt x="18455" y="10319"/>
                </a:cubicBezTo>
                <a:cubicBezTo>
                  <a:pt x="18562" y="10319"/>
                  <a:pt x="18670" y="10319"/>
                  <a:pt x="18777" y="10319"/>
                </a:cubicBezTo>
              </a:path>
              <a:path w="7765" h="3647">
                <a:moveTo>
                  <a:pt x="19571" y="10418"/>
                </a:moveTo>
                <a:cubicBezTo>
                  <a:pt x="19574" y="10428"/>
                  <a:pt x="19594" y="10450"/>
                  <a:pt x="19596" y="10492"/>
                </a:cubicBezTo>
                <a:cubicBezTo>
                  <a:pt x="19598" y="10542"/>
                  <a:pt x="19619" y="10628"/>
                  <a:pt x="19621" y="10641"/>
                </a:cubicBezTo>
                <a:cubicBezTo>
                  <a:pt x="19680" y="11107"/>
                  <a:pt x="19644" y="11681"/>
                  <a:pt x="19596" y="12129"/>
                </a:cubicBezTo>
                <a:cubicBezTo>
                  <a:pt x="19586" y="12218"/>
                  <a:pt x="19613" y="12297"/>
                  <a:pt x="19621" y="12378"/>
                </a:cubicBezTo>
                <a:cubicBezTo>
                  <a:pt x="19643" y="12591"/>
                  <a:pt x="19622" y="12811"/>
                  <a:pt x="19645" y="13022"/>
                </a:cubicBezTo>
                <a:cubicBezTo>
                  <a:pt x="19656" y="13121"/>
                  <a:pt x="19659" y="13223"/>
                  <a:pt x="19670" y="13320"/>
                </a:cubicBezTo>
                <a:cubicBezTo>
                  <a:pt x="19680" y="13407"/>
                  <a:pt x="19676" y="13485"/>
                  <a:pt x="19695" y="13568"/>
                </a:cubicBezTo>
                <a:cubicBezTo>
                  <a:pt x="19707" y="13618"/>
                  <a:pt x="19715" y="13665"/>
                  <a:pt x="19720" y="13717"/>
                </a:cubicBezTo>
                <a:cubicBezTo>
                  <a:pt x="19722" y="13737"/>
                  <a:pt x="19731" y="13920"/>
                  <a:pt x="19745" y="13891"/>
                </a:cubicBezTo>
                <a:cubicBezTo>
                  <a:pt x="19763" y="13854"/>
                  <a:pt x="19740" y="13857"/>
                  <a:pt x="19745" y="13816"/>
                </a:cubicBezTo>
              </a:path>
              <a:path w="7765" h="3647">
                <a:moveTo>
                  <a:pt x="18802" y="12055"/>
                </a:moveTo>
                <a:cubicBezTo>
                  <a:pt x="18930" y="12004"/>
                  <a:pt x="19063" y="11983"/>
                  <a:pt x="19199" y="11956"/>
                </a:cubicBezTo>
                <a:cubicBezTo>
                  <a:pt x="19184" y="11971"/>
                  <a:pt x="18942" y="12001"/>
                  <a:pt x="18852" y="12030"/>
                </a:cubicBezTo>
                <a:cubicBezTo>
                  <a:pt x="18752" y="12062"/>
                  <a:pt x="19073" y="12006"/>
                  <a:pt x="19075" y="12005"/>
                </a:cubicBezTo>
                <a:cubicBezTo>
                  <a:pt x="19115" y="11985"/>
                  <a:pt x="19141" y="11977"/>
                  <a:pt x="19100" y="11981"/>
                </a:cubicBezTo>
              </a:path>
              <a:path w="7765" h="3647">
                <a:moveTo>
                  <a:pt x="18951" y="11906"/>
                </a:moveTo>
                <a:cubicBezTo>
                  <a:pt x="19007" y="11930"/>
                  <a:pt x="19014" y="11922"/>
                  <a:pt x="19075" y="11931"/>
                </a:cubicBezTo>
                <a:cubicBezTo>
                  <a:pt x="19153" y="11943"/>
                  <a:pt x="19241" y="11943"/>
                  <a:pt x="19323" y="11956"/>
                </a:cubicBezTo>
                <a:cubicBezTo>
                  <a:pt x="19428" y="11972"/>
                  <a:pt x="19466" y="11960"/>
                  <a:pt x="19571" y="11956"/>
                </a:cubicBezTo>
                <a:cubicBezTo>
                  <a:pt x="19664" y="11953"/>
                  <a:pt x="19758" y="11938"/>
                  <a:pt x="19844" y="11931"/>
                </a:cubicBezTo>
                <a:cubicBezTo>
                  <a:pt x="19953" y="11922"/>
                  <a:pt x="20060" y="11918"/>
                  <a:pt x="20166" y="11906"/>
                </a:cubicBezTo>
                <a:cubicBezTo>
                  <a:pt x="20663" y="11851"/>
                  <a:pt x="21182" y="11924"/>
                  <a:pt x="21679" y="11881"/>
                </a:cubicBezTo>
                <a:cubicBezTo>
                  <a:pt x="21802" y="11870"/>
                  <a:pt x="21929" y="11861"/>
                  <a:pt x="22051" y="11857"/>
                </a:cubicBezTo>
                <a:cubicBezTo>
                  <a:pt x="22160" y="11854"/>
                  <a:pt x="22291" y="11851"/>
                  <a:pt x="22399" y="11832"/>
                </a:cubicBezTo>
                <a:cubicBezTo>
                  <a:pt x="22439" y="11825"/>
                  <a:pt x="22461" y="11814"/>
                  <a:pt x="22498" y="11807"/>
                </a:cubicBezTo>
                <a:cubicBezTo>
                  <a:pt x="22506" y="11807"/>
                  <a:pt x="22515" y="11807"/>
                  <a:pt x="22523" y="11807"/>
                </a:cubicBezTo>
              </a:path>
              <a:path w="7765" h="3647">
                <a:moveTo>
                  <a:pt x="20538" y="10492"/>
                </a:moveTo>
                <a:cubicBezTo>
                  <a:pt x="20558" y="10588"/>
                  <a:pt x="20599" y="10693"/>
                  <a:pt x="20613" y="10790"/>
                </a:cubicBezTo>
                <a:cubicBezTo>
                  <a:pt x="20627" y="10888"/>
                  <a:pt x="20651" y="10990"/>
                  <a:pt x="20662" y="11088"/>
                </a:cubicBezTo>
                <a:cubicBezTo>
                  <a:pt x="20673" y="11186"/>
                  <a:pt x="20678" y="11293"/>
                  <a:pt x="20687" y="11385"/>
                </a:cubicBezTo>
                <a:cubicBezTo>
                  <a:pt x="20701" y="11533"/>
                  <a:pt x="20698" y="11685"/>
                  <a:pt x="20712" y="11832"/>
                </a:cubicBezTo>
                <a:cubicBezTo>
                  <a:pt x="20720" y="11912"/>
                  <a:pt x="20720" y="11978"/>
                  <a:pt x="20737" y="12055"/>
                </a:cubicBezTo>
                <a:cubicBezTo>
                  <a:pt x="20752" y="12123"/>
                  <a:pt x="20760" y="12182"/>
                  <a:pt x="20762" y="12254"/>
                </a:cubicBezTo>
                <a:cubicBezTo>
                  <a:pt x="20765" y="12357"/>
                  <a:pt x="20775" y="12451"/>
                  <a:pt x="20786" y="12551"/>
                </a:cubicBezTo>
                <a:cubicBezTo>
                  <a:pt x="20797" y="12655"/>
                  <a:pt x="20803" y="12775"/>
                  <a:pt x="20811" y="12874"/>
                </a:cubicBezTo>
                <a:cubicBezTo>
                  <a:pt x="20817" y="12949"/>
                  <a:pt x="20830" y="13025"/>
                  <a:pt x="20836" y="13097"/>
                </a:cubicBezTo>
                <a:cubicBezTo>
                  <a:pt x="20845" y="13204"/>
                  <a:pt x="20852" y="13318"/>
                  <a:pt x="20861" y="13419"/>
                </a:cubicBezTo>
                <a:cubicBezTo>
                  <a:pt x="20867" y="13487"/>
                  <a:pt x="20879" y="13555"/>
                  <a:pt x="20886" y="13618"/>
                </a:cubicBezTo>
                <a:cubicBezTo>
                  <a:pt x="20892" y="13676"/>
                  <a:pt x="20904" y="13737"/>
                  <a:pt x="20910" y="13791"/>
                </a:cubicBezTo>
                <a:cubicBezTo>
                  <a:pt x="20915" y="13833"/>
                  <a:pt x="20932" y="13880"/>
                  <a:pt x="20935" y="13891"/>
                </a:cubicBezTo>
                <a:cubicBezTo>
                  <a:pt x="20935" y="13899"/>
                  <a:pt x="20935" y="13907"/>
                  <a:pt x="20935" y="13915"/>
                </a:cubicBezTo>
              </a:path>
              <a:path w="7765" h="3647">
                <a:moveTo>
                  <a:pt x="19224" y="13543"/>
                </a:moveTo>
                <a:cubicBezTo>
                  <a:pt x="19359" y="13543"/>
                  <a:pt x="19488" y="13528"/>
                  <a:pt x="19621" y="13519"/>
                </a:cubicBezTo>
                <a:cubicBezTo>
                  <a:pt x="19854" y="13504"/>
                  <a:pt x="20085" y="13529"/>
                  <a:pt x="20315" y="13543"/>
                </a:cubicBezTo>
                <a:cubicBezTo>
                  <a:pt x="20524" y="13555"/>
                  <a:pt x="20729" y="13532"/>
                  <a:pt x="20935" y="13519"/>
                </a:cubicBezTo>
                <a:cubicBezTo>
                  <a:pt x="21125" y="13507"/>
                  <a:pt x="21322" y="13552"/>
                  <a:pt x="21506" y="13543"/>
                </a:cubicBezTo>
                <a:cubicBezTo>
                  <a:pt x="21686" y="13534"/>
                  <a:pt x="21870" y="13500"/>
                  <a:pt x="22051" y="13494"/>
                </a:cubicBezTo>
                <a:cubicBezTo>
                  <a:pt x="22177" y="13490"/>
                  <a:pt x="22295" y="13469"/>
                  <a:pt x="22423" y="13469"/>
                </a:cubicBezTo>
                <a:cubicBezTo>
                  <a:pt x="22431" y="13469"/>
                  <a:pt x="22440" y="13469"/>
                  <a:pt x="22448" y="13469"/>
                </a:cubicBezTo>
              </a:path>
              <a:path w="7765" h="3647">
                <a:moveTo>
                  <a:pt x="19075" y="11088"/>
                </a:moveTo>
                <a:cubicBezTo>
                  <a:pt x="19274" y="11080"/>
                  <a:pt x="19471" y="11057"/>
                  <a:pt x="19670" y="11038"/>
                </a:cubicBezTo>
                <a:cubicBezTo>
                  <a:pt x="19978" y="11008"/>
                  <a:pt x="20281" y="11006"/>
                  <a:pt x="20588" y="10964"/>
                </a:cubicBezTo>
                <a:cubicBezTo>
                  <a:pt x="20787" y="10937"/>
                  <a:pt x="20987" y="10923"/>
                  <a:pt x="21183" y="10889"/>
                </a:cubicBezTo>
                <a:cubicBezTo>
                  <a:pt x="21341" y="10861"/>
                  <a:pt x="21500" y="10835"/>
                  <a:pt x="21654" y="10790"/>
                </a:cubicBezTo>
                <a:cubicBezTo>
                  <a:pt x="21732" y="10767"/>
                  <a:pt x="21798" y="10765"/>
                  <a:pt x="21878" y="1076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49920" y="5295960"/>
            <a:ext cx="277920" cy="222120"/>
          </a:xfrm>
          <a:custGeom>
            <a:avLst/>
            <a:gdLst/>
            <a:ahLst/>
            <a:rect l="l" t="t" r="r" b="b"/>
            <a:pathLst>
              <a:path w="770" h="621">
                <a:moveTo>
                  <a:pt x="16321" y="14784"/>
                </a:moveTo>
                <a:cubicBezTo>
                  <a:pt x="16321" y="14694"/>
                  <a:pt x="16232" y="14770"/>
                  <a:pt x="16173" y="14808"/>
                </a:cubicBezTo>
                <a:cubicBezTo>
                  <a:pt x="16038" y="14895"/>
                  <a:pt x="15947" y="15072"/>
                  <a:pt x="15999" y="15230"/>
                </a:cubicBezTo>
                <a:cubicBezTo>
                  <a:pt x="16059" y="15413"/>
                  <a:pt x="16309" y="15295"/>
                  <a:pt x="16396" y="15205"/>
                </a:cubicBezTo>
                <a:cubicBezTo>
                  <a:pt x="16520" y="15077"/>
                  <a:pt x="16502" y="14967"/>
                  <a:pt x="16421" y="14833"/>
                </a:cubicBezTo>
                <a:cubicBezTo>
                  <a:pt x="16367" y="14744"/>
                  <a:pt x="16264" y="14701"/>
                  <a:pt x="16197" y="14734"/>
                </a:cubicBezTo>
              </a:path>
              <a:path w="770" h="621">
                <a:moveTo>
                  <a:pt x="16743" y="15180"/>
                </a:moveTo>
                <a:cubicBezTo>
                  <a:pt x="16720" y="15211"/>
                  <a:pt x="16717" y="15223"/>
                  <a:pt x="16694" y="15255"/>
                </a:cubicBezTo>
                <a:cubicBezTo>
                  <a:pt x="16740" y="15231"/>
                  <a:pt x="16652" y="15260"/>
                  <a:pt x="16694" y="15230"/>
                </a:cubicBezTo>
                <a:cubicBezTo>
                  <a:pt x="16702" y="15222"/>
                  <a:pt x="16710" y="15213"/>
                  <a:pt x="16718" y="152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43760" y="5259240"/>
            <a:ext cx="492120" cy="206640"/>
          </a:xfrm>
          <a:custGeom>
            <a:avLst/>
            <a:gdLst/>
            <a:ahLst/>
            <a:rect l="l" t="t" r="r" b="b"/>
            <a:pathLst>
              <a:path w="1365" h="571">
                <a:moveTo>
                  <a:pt x="17066" y="14684"/>
                </a:moveTo>
                <a:cubicBezTo>
                  <a:pt x="17066" y="14827"/>
                  <a:pt x="17038" y="15000"/>
                  <a:pt x="17090" y="15131"/>
                </a:cubicBezTo>
                <a:cubicBezTo>
                  <a:pt x="17124" y="15217"/>
                  <a:pt x="17320" y="15198"/>
                  <a:pt x="17388" y="15156"/>
                </a:cubicBezTo>
                <a:cubicBezTo>
                  <a:pt x="17481" y="15099"/>
                  <a:pt x="17442" y="15011"/>
                  <a:pt x="17388" y="14957"/>
                </a:cubicBezTo>
                <a:cubicBezTo>
                  <a:pt x="17359" y="14967"/>
                  <a:pt x="17120" y="15155"/>
                  <a:pt x="17239" y="15180"/>
                </a:cubicBezTo>
                <a:cubicBezTo>
                  <a:pt x="17256" y="15172"/>
                  <a:pt x="17272" y="15164"/>
                  <a:pt x="17289" y="15156"/>
                </a:cubicBezTo>
              </a:path>
              <a:path w="1365" h="571">
                <a:moveTo>
                  <a:pt x="17835" y="14610"/>
                </a:moveTo>
                <a:cubicBezTo>
                  <a:pt x="17762" y="14610"/>
                  <a:pt x="17696" y="14642"/>
                  <a:pt x="17636" y="14660"/>
                </a:cubicBezTo>
                <a:cubicBezTo>
                  <a:pt x="17587" y="14675"/>
                  <a:pt x="17611" y="14778"/>
                  <a:pt x="17611" y="14833"/>
                </a:cubicBezTo>
                <a:cubicBezTo>
                  <a:pt x="17721" y="14833"/>
                  <a:pt x="17878" y="14793"/>
                  <a:pt x="17959" y="14883"/>
                </a:cubicBezTo>
                <a:cubicBezTo>
                  <a:pt x="18089" y="15027"/>
                  <a:pt x="17821" y="15116"/>
                  <a:pt x="17735" y="15131"/>
                </a:cubicBezTo>
                <a:cubicBezTo>
                  <a:pt x="17677" y="15131"/>
                  <a:pt x="17653" y="15147"/>
                  <a:pt x="17661" y="15106"/>
                </a:cubicBezTo>
              </a:path>
              <a:path w="1365" h="571">
                <a:moveTo>
                  <a:pt x="18256" y="14610"/>
                </a:moveTo>
                <a:cubicBezTo>
                  <a:pt x="18167" y="14632"/>
                  <a:pt x="18158" y="14729"/>
                  <a:pt x="18132" y="14808"/>
                </a:cubicBezTo>
                <a:cubicBezTo>
                  <a:pt x="18106" y="14886"/>
                  <a:pt x="18097" y="15001"/>
                  <a:pt x="18182" y="15032"/>
                </a:cubicBezTo>
                <a:cubicBezTo>
                  <a:pt x="18288" y="15070"/>
                  <a:pt x="18358" y="15005"/>
                  <a:pt x="18405" y="14908"/>
                </a:cubicBezTo>
                <a:cubicBezTo>
                  <a:pt x="18441" y="14834"/>
                  <a:pt x="18439" y="14723"/>
                  <a:pt x="18380" y="14660"/>
                </a:cubicBezTo>
                <a:cubicBezTo>
                  <a:pt x="18337" y="14614"/>
                  <a:pt x="18264" y="14610"/>
                  <a:pt x="18207" y="14610"/>
                </a:cubicBezTo>
                <a:cubicBezTo>
                  <a:pt x="18190" y="14610"/>
                  <a:pt x="18174" y="14610"/>
                  <a:pt x="18157" y="146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28960" y="5688000"/>
            <a:ext cx="492120" cy="536760"/>
          </a:xfrm>
          <a:custGeom>
            <a:avLst/>
            <a:gdLst/>
            <a:ahLst/>
            <a:rect l="l" t="t" r="r" b="b"/>
            <a:pathLst>
              <a:path w="1365" h="1489">
                <a:moveTo>
                  <a:pt x="9500" y="15801"/>
                </a:moveTo>
                <a:cubicBezTo>
                  <a:pt x="9492" y="15826"/>
                  <a:pt x="9483" y="15850"/>
                  <a:pt x="9475" y="15875"/>
                </a:cubicBezTo>
              </a:path>
              <a:path w="1365" h="1489">
                <a:moveTo>
                  <a:pt x="8161" y="16942"/>
                </a:moveTo>
                <a:cubicBezTo>
                  <a:pt x="8265" y="17090"/>
                  <a:pt x="8228" y="17141"/>
                  <a:pt x="8136" y="1728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87720" y="5545080"/>
            <a:ext cx="893520" cy="277920"/>
          </a:xfrm>
          <a:custGeom>
            <a:avLst/>
            <a:gdLst/>
            <a:ahLst/>
            <a:rect l="l" t="t" r="r" b="b"/>
            <a:pathLst>
              <a:path w="2482" h="770">
                <a:moveTo>
                  <a:pt x="6325" y="15528"/>
                </a:moveTo>
                <a:cubicBezTo>
                  <a:pt x="6380" y="15500"/>
                  <a:pt x="6283" y="15492"/>
                  <a:pt x="6251" y="15503"/>
                </a:cubicBezTo>
                <a:cubicBezTo>
                  <a:pt x="6183" y="15526"/>
                  <a:pt x="6120" y="15572"/>
                  <a:pt x="6102" y="15652"/>
                </a:cubicBezTo>
                <a:cubicBezTo>
                  <a:pt x="6086" y="15723"/>
                  <a:pt x="6051" y="15901"/>
                  <a:pt x="6127" y="15949"/>
                </a:cubicBezTo>
                <a:cubicBezTo>
                  <a:pt x="6252" y="16028"/>
                  <a:pt x="6380" y="15990"/>
                  <a:pt x="6499" y="15925"/>
                </a:cubicBezTo>
                <a:cubicBezTo>
                  <a:pt x="6560" y="15891"/>
                  <a:pt x="6670" y="15759"/>
                  <a:pt x="6648" y="15677"/>
                </a:cubicBezTo>
                <a:cubicBezTo>
                  <a:pt x="6630" y="15612"/>
                  <a:pt x="6512" y="15520"/>
                  <a:pt x="6449" y="15503"/>
                </a:cubicBezTo>
                <a:cubicBezTo>
                  <a:pt x="6398" y="15490"/>
                  <a:pt x="6325" y="15499"/>
                  <a:pt x="6300" y="15553"/>
                </a:cubicBezTo>
                <a:cubicBezTo>
                  <a:pt x="6300" y="15561"/>
                  <a:pt x="6300" y="15569"/>
                  <a:pt x="6300" y="15577"/>
                </a:cubicBezTo>
              </a:path>
              <a:path w="2482" h="770">
                <a:moveTo>
                  <a:pt x="6871" y="15925"/>
                </a:moveTo>
                <a:cubicBezTo>
                  <a:pt x="6828" y="15903"/>
                  <a:pt x="6834" y="15897"/>
                  <a:pt x="6821" y="15949"/>
                </a:cubicBezTo>
                <a:cubicBezTo>
                  <a:pt x="6860" y="15975"/>
                  <a:pt x="6971" y="15906"/>
                  <a:pt x="6896" y="15875"/>
                </a:cubicBezTo>
                <a:cubicBezTo>
                  <a:pt x="6879" y="15875"/>
                  <a:pt x="6863" y="15875"/>
                  <a:pt x="6846" y="15875"/>
                </a:cubicBezTo>
              </a:path>
              <a:path w="2482" h="770">
                <a:moveTo>
                  <a:pt x="7119" y="15528"/>
                </a:moveTo>
                <a:cubicBezTo>
                  <a:pt x="7073" y="15513"/>
                  <a:pt x="7108" y="15469"/>
                  <a:pt x="7094" y="15503"/>
                </a:cubicBezTo>
                <a:cubicBezTo>
                  <a:pt x="7073" y="15554"/>
                  <a:pt x="6997" y="15686"/>
                  <a:pt x="7069" y="15726"/>
                </a:cubicBezTo>
                <a:cubicBezTo>
                  <a:pt x="7163" y="15778"/>
                  <a:pt x="7249" y="15717"/>
                  <a:pt x="7342" y="15701"/>
                </a:cubicBezTo>
              </a:path>
              <a:path w="2482" h="770">
                <a:moveTo>
                  <a:pt x="7268" y="15429"/>
                </a:moveTo>
                <a:cubicBezTo>
                  <a:pt x="7282" y="15606"/>
                  <a:pt x="7289" y="15750"/>
                  <a:pt x="7268" y="15925"/>
                </a:cubicBezTo>
                <a:cubicBezTo>
                  <a:pt x="7268" y="15949"/>
                  <a:pt x="7268" y="15957"/>
                  <a:pt x="7293" y="15949"/>
                </a:cubicBezTo>
              </a:path>
              <a:path w="2482" h="770">
                <a:moveTo>
                  <a:pt x="7665" y="15478"/>
                </a:moveTo>
                <a:cubicBezTo>
                  <a:pt x="7607" y="15440"/>
                  <a:pt x="7551" y="15667"/>
                  <a:pt x="7541" y="15726"/>
                </a:cubicBezTo>
                <a:cubicBezTo>
                  <a:pt x="7541" y="15839"/>
                  <a:pt x="7535" y="15870"/>
                  <a:pt x="7590" y="15925"/>
                </a:cubicBezTo>
                <a:cubicBezTo>
                  <a:pt x="7749" y="15891"/>
                  <a:pt x="7895" y="15826"/>
                  <a:pt x="7863" y="15627"/>
                </a:cubicBezTo>
                <a:cubicBezTo>
                  <a:pt x="7842" y="15499"/>
                  <a:pt x="7785" y="15481"/>
                  <a:pt x="7689" y="15429"/>
                </a:cubicBezTo>
              </a:path>
              <a:path w="2482" h="770">
                <a:moveTo>
                  <a:pt x="8136" y="15404"/>
                </a:moveTo>
                <a:cubicBezTo>
                  <a:pt x="8003" y="15404"/>
                  <a:pt x="7943" y="15460"/>
                  <a:pt x="7913" y="15602"/>
                </a:cubicBezTo>
                <a:cubicBezTo>
                  <a:pt x="7879" y="15764"/>
                  <a:pt x="7966" y="15914"/>
                  <a:pt x="8136" y="15850"/>
                </a:cubicBezTo>
                <a:cubicBezTo>
                  <a:pt x="8337" y="15774"/>
                  <a:pt x="8373" y="15630"/>
                  <a:pt x="8285" y="15453"/>
                </a:cubicBezTo>
                <a:cubicBezTo>
                  <a:pt x="8253" y="15390"/>
                  <a:pt x="8024" y="15370"/>
                  <a:pt x="8086" y="15404"/>
                </a:cubicBezTo>
                <a:cubicBezTo>
                  <a:pt x="8111" y="15412"/>
                  <a:pt x="8136" y="15421"/>
                  <a:pt x="8161" y="15429"/>
                </a:cubicBezTo>
              </a:path>
              <a:path w="2482" h="770">
                <a:moveTo>
                  <a:pt x="8533" y="15850"/>
                </a:moveTo>
                <a:cubicBezTo>
                  <a:pt x="8543" y="15932"/>
                  <a:pt x="8601" y="16140"/>
                  <a:pt x="8458" y="16173"/>
                </a:cubicBezTo>
                <a:cubicBezTo>
                  <a:pt x="8417" y="16165"/>
                  <a:pt x="8375" y="16156"/>
                  <a:pt x="8334" y="161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97160" y="5500800"/>
            <a:ext cx="874800" cy="258480"/>
          </a:xfrm>
          <a:custGeom>
            <a:avLst/>
            <a:gdLst/>
            <a:ahLst/>
            <a:rect l="l" t="t" r="r" b="b"/>
            <a:pathLst>
              <a:path w="2432" h="720">
                <a:moveTo>
                  <a:pt x="9103" y="15404"/>
                </a:moveTo>
                <a:cubicBezTo>
                  <a:pt x="9093" y="15361"/>
                  <a:pt x="9051" y="15319"/>
                  <a:pt x="9004" y="15379"/>
                </a:cubicBezTo>
                <a:cubicBezTo>
                  <a:pt x="8918" y="15489"/>
                  <a:pt x="8797" y="15730"/>
                  <a:pt x="8930" y="15850"/>
                </a:cubicBezTo>
                <a:cubicBezTo>
                  <a:pt x="9019" y="15931"/>
                  <a:pt x="9198" y="15858"/>
                  <a:pt x="9252" y="15776"/>
                </a:cubicBezTo>
                <a:cubicBezTo>
                  <a:pt x="9335" y="15651"/>
                  <a:pt x="9359" y="15458"/>
                  <a:pt x="9227" y="15354"/>
                </a:cubicBezTo>
                <a:cubicBezTo>
                  <a:pt x="9199" y="15332"/>
                  <a:pt x="9116" y="15311"/>
                  <a:pt x="9079" y="15304"/>
                </a:cubicBezTo>
              </a:path>
              <a:path w="2432" h="720">
                <a:moveTo>
                  <a:pt x="9624" y="15478"/>
                </a:moveTo>
                <a:cubicBezTo>
                  <a:pt x="9614" y="15537"/>
                  <a:pt x="9594" y="15594"/>
                  <a:pt x="9575" y="15652"/>
                </a:cubicBezTo>
                <a:cubicBezTo>
                  <a:pt x="9681" y="15670"/>
                  <a:pt x="9721" y="15655"/>
                  <a:pt x="9823" y="15627"/>
                </a:cubicBezTo>
                <a:cubicBezTo>
                  <a:pt x="9851" y="15627"/>
                  <a:pt x="9856" y="15624"/>
                  <a:pt x="9823" y="15602"/>
                </a:cubicBezTo>
              </a:path>
              <a:path w="2432" h="720">
                <a:moveTo>
                  <a:pt x="9723" y="15304"/>
                </a:moveTo>
                <a:cubicBezTo>
                  <a:pt x="9767" y="15291"/>
                  <a:pt x="9769" y="15551"/>
                  <a:pt x="9773" y="15627"/>
                </a:cubicBezTo>
                <a:cubicBezTo>
                  <a:pt x="9779" y="15730"/>
                  <a:pt x="9725" y="15998"/>
                  <a:pt x="9798" y="15925"/>
                </a:cubicBezTo>
                <a:cubicBezTo>
                  <a:pt x="9798" y="15917"/>
                  <a:pt x="9798" y="15908"/>
                  <a:pt x="9798" y="15900"/>
                </a:cubicBezTo>
              </a:path>
              <a:path w="2432" h="720">
                <a:moveTo>
                  <a:pt x="9922" y="15429"/>
                </a:moveTo>
                <a:cubicBezTo>
                  <a:pt x="10011" y="15393"/>
                  <a:pt x="10059" y="15352"/>
                  <a:pt x="10170" y="15404"/>
                </a:cubicBezTo>
                <a:cubicBezTo>
                  <a:pt x="10312" y="15470"/>
                  <a:pt x="10339" y="15599"/>
                  <a:pt x="10269" y="15726"/>
                </a:cubicBezTo>
                <a:cubicBezTo>
                  <a:pt x="10180" y="15886"/>
                  <a:pt x="10072" y="15841"/>
                  <a:pt x="9922" y="15825"/>
                </a:cubicBezTo>
                <a:cubicBezTo>
                  <a:pt x="9922" y="15737"/>
                  <a:pt x="9901" y="15754"/>
                  <a:pt x="10021" y="15751"/>
                </a:cubicBezTo>
                <a:cubicBezTo>
                  <a:pt x="10156" y="15747"/>
                  <a:pt x="10223" y="15789"/>
                  <a:pt x="10344" y="15825"/>
                </a:cubicBezTo>
              </a:path>
              <a:path w="2432" h="720">
                <a:moveTo>
                  <a:pt x="10517" y="15280"/>
                </a:moveTo>
                <a:cubicBezTo>
                  <a:pt x="10517" y="15400"/>
                  <a:pt x="10531" y="15510"/>
                  <a:pt x="10542" y="15627"/>
                </a:cubicBezTo>
                <a:cubicBezTo>
                  <a:pt x="10551" y="15720"/>
                  <a:pt x="10547" y="15792"/>
                  <a:pt x="10666" y="15776"/>
                </a:cubicBezTo>
                <a:cubicBezTo>
                  <a:pt x="10762" y="15763"/>
                  <a:pt x="10887" y="15682"/>
                  <a:pt x="10939" y="15602"/>
                </a:cubicBezTo>
                <a:cubicBezTo>
                  <a:pt x="10958" y="15545"/>
                  <a:pt x="10967" y="15538"/>
                  <a:pt x="10964" y="15503"/>
                </a:cubicBezTo>
                <a:cubicBezTo>
                  <a:pt x="10928" y="15494"/>
                  <a:pt x="10859" y="15450"/>
                  <a:pt x="10815" y="15478"/>
                </a:cubicBezTo>
                <a:cubicBezTo>
                  <a:pt x="10778" y="15502"/>
                  <a:pt x="10767" y="15612"/>
                  <a:pt x="10765" y="15652"/>
                </a:cubicBezTo>
                <a:cubicBezTo>
                  <a:pt x="10763" y="15702"/>
                  <a:pt x="10765" y="15801"/>
                  <a:pt x="10765" y="15751"/>
                </a:cubicBezTo>
              </a:path>
              <a:path w="2432" h="720">
                <a:moveTo>
                  <a:pt x="11237" y="15677"/>
                </a:moveTo>
                <a:cubicBezTo>
                  <a:pt x="11324" y="15764"/>
                  <a:pt x="11311" y="15846"/>
                  <a:pt x="11311" y="15974"/>
                </a:cubicBezTo>
                <a:cubicBezTo>
                  <a:pt x="11311" y="15999"/>
                  <a:pt x="11311" y="16007"/>
                  <a:pt x="11286" y="159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1880" y="5392800"/>
            <a:ext cx="830160" cy="277920"/>
          </a:xfrm>
          <a:custGeom>
            <a:avLst/>
            <a:gdLst/>
            <a:ahLst/>
            <a:rect l="l" t="t" r="r" b="b"/>
            <a:pathLst>
              <a:path w="2308" h="770">
                <a:moveTo>
                  <a:pt x="12030" y="15304"/>
                </a:moveTo>
                <a:cubicBezTo>
                  <a:pt x="12057" y="15269"/>
                  <a:pt x="12055" y="15274"/>
                  <a:pt x="12055" y="15230"/>
                </a:cubicBezTo>
                <a:cubicBezTo>
                  <a:pt x="11906" y="15230"/>
                  <a:pt x="11858" y="15336"/>
                  <a:pt x="11807" y="15478"/>
                </a:cubicBezTo>
                <a:cubicBezTo>
                  <a:pt x="11784" y="15594"/>
                  <a:pt x="11773" y="15627"/>
                  <a:pt x="11807" y="15701"/>
                </a:cubicBezTo>
                <a:cubicBezTo>
                  <a:pt x="11968" y="15759"/>
                  <a:pt x="12128" y="15729"/>
                  <a:pt x="12229" y="15553"/>
                </a:cubicBezTo>
                <a:cubicBezTo>
                  <a:pt x="12290" y="15447"/>
                  <a:pt x="12227" y="15265"/>
                  <a:pt x="12105" y="15230"/>
                </a:cubicBezTo>
                <a:cubicBezTo>
                  <a:pt x="11978" y="15193"/>
                  <a:pt x="11986" y="15236"/>
                  <a:pt x="12005" y="15304"/>
                </a:cubicBezTo>
              </a:path>
              <a:path w="2308" h="770">
                <a:moveTo>
                  <a:pt x="12526" y="15553"/>
                </a:moveTo>
                <a:cubicBezTo>
                  <a:pt x="12517" y="15560"/>
                  <a:pt x="12419" y="15695"/>
                  <a:pt x="12526" y="15677"/>
                </a:cubicBezTo>
                <a:cubicBezTo>
                  <a:pt x="12567" y="15670"/>
                  <a:pt x="12500" y="15637"/>
                  <a:pt x="12477" y="15602"/>
                </a:cubicBezTo>
              </a:path>
              <a:path w="2308" h="770">
                <a:moveTo>
                  <a:pt x="12725" y="15180"/>
                </a:moveTo>
                <a:cubicBezTo>
                  <a:pt x="12711" y="15252"/>
                  <a:pt x="12665" y="15334"/>
                  <a:pt x="12725" y="15404"/>
                </a:cubicBezTo>
                <a:cubicBezTo>
                  <a:pt x="12833" y="15531"/>
                  <a:pt x="12972" y="15370"/>
                  <a:pt x="13022" y="15304"/>
                </a:cubicBezTo>
              </a:path>
              <a:path w="2308" h="770">
                <a:moveTo>
                  <a:pt x="12923" y="15081"/>
                </a:moveTo>
                <a:cubicBezTo>
                  <a:pt x="12894" y="15262"/>
                  <a:pt x="12915" y="15421"/>
                  <a:pt x="12923" y="15602"/>
                </a:cubicBezTo>
                <a:cubicBezTo>
                  <a:pt x="12923" y="15610"/>
                  <a:pt x="12923" y="15619"/>
                  <a:pt x="12923" y="15627"/>
                </a:cubicBezTo>
              </a:path>
              <a:path w="2308" h="770">
                <a:moveTo>
                  <a:pt x="13122" y="15106"/>
                </a:moveTo>
                <a:cubicBezTo>
                  <a:pt x="13148" y="15071"/>
                  <a:pt x="13279" y="14997"/>
                  <a:pt x="13345" y="15032"/>
                </a:cubicBezTo>
                <a:cubicBezTo>
                  <a:pt x="13448" y="15086"/>
                  <a:pt x="13296" y="15222"/>
                  <a:pt x="13271" y="15255"/>
                </a:cubicBezTo>
                <a:cubicBezTo>
                  <a:pt x="13263" y="15263"/>
                  <a:pt x="13254" y="15272"/>
                  <a:pt x="13246" y="15280"/>
                </a:cubicBezTo>
                <a:cubicBezTo>
                  <a:pt x="13336" y="15262"/>
                  <a:pt x="13490" y="15264"/>
                  <a:pt x="13494" y="15404"/>
                </a:cubicBezTo>
                <a:cubicBezTo>
                  <a:pt x="13497" y="15495"/>
                  <a:pt x="13304" y="15651"/>
                  <a:pt x="13221" y="15577"/>
                </a:cubicBezTo>
                <a:cubicBezTo>
                  <a:pt x="13221" y="15561"/>
                  <a:pt x="13221" y="15544"/>
                  <a:pt x="13221" y="15528"/>
                </a:cubicBezTo>
              </a:path>
              <a:path w="2308" h="770">
                <a:moveTo>
                  <a:pt x="13717" y="15007"/>
                </a:moveTo>
                <a:cubicBezTo>
                  <a:pt x="13635" y="15028"/>
                  <a:pt x="13626" y="15155"/>
                  <a:pt x="13618" y="15230"/>
                </a:cubicBezTo>
                <a:cubicBezTo>
                  <a:pt x="13608" y="15327"/>
                  <a:pt x="13669" y="15540"/>
                  <a:pt x="13816" y="15503"/>
                </a:cubicBezTo>
                <a:cubicBezTo>
                  <a:pt x="13972" y="15463"/>
                  <a:pt x="14120" y="15317"/>
                  <a:pt x="14064" y="15156"/>
                </a:cubicBezTo>
                <a:cubicBezTo>
                  <a:pt x="14021" y="15034"/>
                  <a:pt x="13848" y="14979"/>
                  <a:pt x="13742" y="15007"/>
                </a:cubicBezTo>
                <a:cubicBezTo>
                  <a:pt x="13725" y="15015"/>
                  <a:pt x="13709" y="15024"/>
                  <a:pt x="13692" y="1503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4760" y="6116760"/>
            <a:ext cx="874440" cy="179280"/>
          </a:xfrm>
          <a:custGeom>
            <a:avLst/>
            <a:gdLst/>
            <a:ahLst/>
            <a:rect l="l" t="t" r="r" b="b"/>
            <a:pathLst>
              <a:path w="2432" h="497">
                <a:moveTo>
                  <a:pt x="10964" y="17140"/>
                </a:moveTo>
                <a:cubicBezTo>
                  <a:pt x="10952" y="17323"/>
                  <a:pt x="10937" y="17383"/>
                  <a:pt x="10790" y="17487"/>
                </a:cubicBezTo>
              </a:path>
              <a:path w="2432" h="497">
                <a:moveTo>
                  <a:pt x="13171" y="16991"/>
                </a:moveTo>
                <a:cubicBezTo>
                  <a:pt x="13221" y="17091"/>
                  <a:pt x="13278" y="17262"/>
                  <a:pt x="13097" y="17289"/>
                </a:cubicBezTo>
                <a:cubicBezTo>
                  <a:pt x="13064" y="17281"/>
                  <a:pt x="13031" y="17272"/>
                  <a:pt x="12998" y="172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73200" y="5875200"/>
            <a:ext cx="322560" cy="482760"/>
          </a:xfrm>
          <a:custGeom>
            <a:avLst/>
            <a:gdLst/>
            <a:ahLst/>
            <a:rect l="l" t="t" r="r" b="b"/>
            <a:pathLst>
              <a:path w="894" h="1341">
                <a:moveTo>
                  <a:pt x="7218" y="16421"/>
                </a:moveTo>
                <a:cubicBezTo>
                  <a:pt x="7180" y="16474"/>
                  <a:pt x="7134" y="16535"/>
                  <a:pt x="7119" y="16594"/>
                </a:cubicBezTo>
                <a:cubicBezTo>
                  <a:pt x="7209" y="16610"/>
                  <a:pt x="7294" y="16594"/>
                  <a:pt x="7392" y="16594"/>
                </a:cubicBezTo>
              </a:path>
              <a:path w="894" h="1341">
                <a:moveTo>
                  <a:pt x="7417" y="16321"/>
                </a:moveTo>
                <a:cubicBezTo>
                  <a:pt x="7392" y="16458"/>
                  <a:pt x="7327" y="16657"/>
                  <a:pt x="7342" y="16793"/>
                </a:cubicBezTo>
                <a:cubicBezTo>
                  <a:pt x="7350" y="16801"/>
                  <a:pt x="7359" y="16810"/>
                  <a:pt x="7367" y="16818"/>
                </a:cubicBezTo>
              </a:path>
              <a:path w="894" h="1341">
                <a:moveTo>
                  <a:pt x="6871" y="17016"/>
                </a:moveTo>
                <a:cubicBezTo>
                  <a:pt x="7089" y="16972"/>
                  <a:pt x="7318" y="16933"/>
                  <a:pt x="7541" y="16917"/>
                </a:cubicBezTo>
                <a:cubicBezTo>
                  <a:pt x="7613" y="16912"/>
                  <a:pt x="7691" y="16917"/>
                  <a:pt x="7764" y="16917"/>
                </a:cubicBezTo>
              </a:path>
              <a:path w="894" h="1341">
                <a:moveTo>
                  <a:pt x="7094" y="17140"/>
                </a:moveTo>
                <a:cubicBezTo>
                  <a:pt x="7114" y="17298"/>
                  <a:pt x="7087" y="17406"/>
                  <a:pt x="7069" y="17562"/>
                </a:cubicBezTo>
                <a:cubicBezTo>
                  <a:pt x="7057" y="17670"/>
                  <a:pt x="7053" y="17666"/>
                  <a:pt x="7119" y="17611"/>
                </a:cubicBezTo>
              </a:path>
              <a:path w="894" h="1341">
                <a:moveTo>
                  <a:pt x="7491" y="17239"/>
                </a:moveTo>
                <a:cubicBezTo>
                  <a:pt x="7428" y="17323"/>
                  <a:pt x="7403" y="17378"/>
                  <a:pt x="7367" y="17487"/>
                </a:cubicBezTo>
                <a:cubicBezTo>
                  <a:pt x="7345" y="17554"/>
                  <a:pt x="7333" y="17572"/>
                  <a:pt x="7367" y="17611"/>
                </a:cubicBezTo>
                <a:cubicBezTo>
                  <a:pt x="7510" y="17611"/>
                  <a:pt x="7592" y="17597"/>
                  <a:pt x="7640" y="17438"/>
                </a:cubicBezTo>
                <a:cubicBezTo>
                  <a:pt x="7676" y="17318"/>
                  <a:pt x="7581" y="17295"/>
                  <a:pt x="7491" y="17289"/>
                </a:cubicBezTo>
                <a:cubicBezTo>
                  <a:pt x="7466" y="17289"/>
                  <a:pt x="7458" y="17289"/>
                  <a:pt x="7466" y="172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71880" y="5919840"/>
            <a:ext cx="1563480" cy="268200"/>
          </a:xfrm>
          <a:custGeom>
            <a:avLst/>
            <a:gdLst/>
            <a:ahLst/>
            <a:rect l="l" t="t" r="r" b="b"/>
            <a:pathLst>
              <a:path w="4342" h="745">
                <a:moveTo>
                  <a:pt x="8830" y="16818"/>
                </a:moveTo>
                <a:cubicBezTo>
                  <a:pt x="8766" y="16796"/>
                  <a:pt x="8835" y="16726"/>
                  <a:pt x="8682" y="16743"/>
                </a:cubicBezTo>
                <a:cubicBezTo>
                  <a:pt x="8539" y="16759"/>
                  <a:pt x="8525" y="17021"/>
                  <a:pt x="8558" y="17115"/>
                </a:cubicBezTo>
                <a:cubicBezTo>
                  <a:pt x="8609" y="17260"/>
                  <a:pt x="8838" y="17166"/>
                  <a:pt x="8880" y="17066"/>
                </a:cubicBezTo>
                <a:cubicBezTo>
                  <a:pt x="8904" y="17008"/>
                  <a:pt x="8860" y="16816"/>
                  <a:pt x="8806" y="16793"/>
                </a:cubicBezTo>
                <a:cubicBezTo>
                  <a:pt x="8720" y="16757"/>
                  <a:pt x="8709" y="16787"/>
                  <a:pt x="8756" y="16842"/>
                </a:cubicBezTo>
              </a:path>
              <a:path w="4342" h="745">
                <a:moveTo>
                  <a:pt x="9128" y="17066"/>
                </a:moveTo>
                <a:cubicBezTo>
                  <a:pt x="9150" y="17115"/>
                  <a:pt x="9153" y="17117"/>
                  <a:pt x="9153" y="17165"/>
                </a:cubicBezTo>
              </a:path>
              <a:path w="4342" h="745">
                <a:moveTo>
                  <a:pt x="9451" y="16768"/>
                </a:moveTo>
                <a:cubicBezTo>
                  <a:pt x="9420" y="16810"/>
                  <a:pt x="9384" y="16885"/>
                  <a:pt x="9401" y="16942"/>
                </a:cubicBezTo>
                <a:cubicBezTo>
                  <a:pt x="9428" y="17034"/>
                  <a:pt x="9656" y="16935"/>
                  <a:pt x="9699" y="16917"/>
                </a:cubicBezTo>
              </a:path>
              <a:path w="4342" h="745">
                <a:moveTo>
                  <a:pt x="9649" y="16694"/>
                </a:moveTo>
                <a:cubicBezTo>
                  <a:pt x="9649" y="16781"/>
                  <a:pt x="9606" y="17117"/>
                  <a:pt x="9674" y="17140"/>
                </a:cubicBezTo>
              </a:path>
              <a:path w="4342" h="745">
                <a:moveTo>
                  <a:pt x="9922" y="16718"/>
                </a:moveTo>
                <a:cubicBezTo>
                  <a:pt x="10010" y="16743"/>
                  <a:pt x="10181" y="16819"/>
                  <a:pt x="10170" y="16942"/>
                </a:cubicBezTo>
                <a:cubicBezTo>
                  <a:pt x="10155" y="17107"/>
                  <a:pt x="9964" y="17107"/>
                  <a:pt x="9847" y="17115"/>
                </a:cubicBezTo>
                <a:cubicBezTo>
                  <a:pt x="9859" y="17017"/>
                  <a:pt x="9927" y="16932"/>
                  <a:pt x="10046" y="16966"/>
                </a:cubicBezTo>
                <a:cubicBezTo>
                  <a:pt x="10170" y="17002"/>
                  <a:pt x="10110" y="17080"/>
                  <a:pt x="10220" y="17066"/>
                </a:cubicBezTo>
              </a:path>
              <a:path w="4342" h="745">
                <a:moveTo>
                  <a:pt x="10368" y="16669"/>
                </a:moveTo>
                <a:cubicBezTo>
                  <a:pt x="10368" y="16766"/>
                  <a:pt x="10355" y="16847"/>
                  <a:pt x="10344" y="16942"/>
                </a:cubicBezTo>
                <a:cubicBezTo>
                  <a:pt x="10333" y="17035"/>
                  <a:pt x="10398" y="17092"/>
                  <a:pt x="10492" y="17090"/>
                </a:cubicBezTo>
                <a:cubicBezTo>
                  <a:pt x="10634" y="17087"/>
                  <a:pt x="10724" y="17040"/>
                  <a:pt x="10765" y="16917"/>
                </a:cubicBezTo>
                <a:cubicBezTo>
                  <a:pt x="10664" y="16898"/>
                  <a:pt x="10567" y="16925"/>
                  <a:pt x="10567" y="17066"/>
                </a:cubicBezTo>
                <a:cubicBezTo>
                  <a:pt x="10586" y="17123"/>
                  <a:pt x="10577" y="17148"/>
                  <a:pt x="10616" y="17140"/>
                </a:cubicBezTo>
              </a:path>
              <a:path w="4342" h="745">
                <a:moveTo>
                  <a:pt x="11385" y="16718"/>
                </a:moveTo>
                <a:cubicBezTo>
                  <a:pt x="11385" y="16617"/>
                  <a:pt x="11324" y="16684"/>
                  <a:pt x="11261" y="16768"/>
                </a:cubicBezTo>
                <a:cubicBezTo>
                  <a:pt x="11161" y="16900"/>
                  <a:pt x="11090" y="17008"/>
                  <a:pt x="11137" y="17165"/>
                </a:cubicBezTo>
                <a:cubicBezTo>
                  <a:pt x="11296" y="17153"/>
                  <a:pt x="11392" y="17125"/>
                  <a:pt x="11460" y="16966"/>
                </a:cubicBezTo>
                <a:cubicBezTo>
                  <a:pt x="11502" y="16869"/>
                  <a:pt x="11451" y="16771"/>
                  <a:pt x="11361" y="16718"/>
                </a:cubicBezTo>
                <a:cubicBezTo>
                  <a:pt x="11328" y="16718"/>
                  <a:pt x="11319" y="16726"/>
                  <a:pt x="11336" y="16768"/>
                </a:cubicBezTo>
              </a:path>
              <a:path w="4342" h="745">
                <a:moveTo>
                  <a:pt x="11807" y="16942"/>
                </a:moveTo>
                <a:cubicBezTo>
                  <a:pt x="11790" y="16964"/>
                  <a:pt x="11720" y="17142"/>
                  <a:pt x="11807" y="17041"/>
                </a:cubicBezTo>
                <a:cubicBezTo>
                  <a:pt x="11848" y="16993"/>
                  <a:pt x="11634" y="17016"/>
                  <a:pt x="11733" y="17016"/>
                </a:cubicBezTo>
              </a:path>
              <a:path w="4342" h="745">
                <a:moveTo>
                  <a:pt x="12055" y="16594"/>
                </a:moveTo>
                <a:cubicBezTo>
                  <a:pt x="12055" y="16669"/>
                  <a:pt x="12055" y="16743"/>
                  <a:pt x="12055" y="16818"/>
                </a:cubicBezTo>
                <a:cubicBezTo>
                  <a:pt x="12133" y="16818"/>
                  <a:pt x="12358" y="16858"/>
                  <a:pt x="12402" y="16768"/>
                </a:cubicBezTo>
                <a:cubicBezTo>
                  <a:pt x="12402" y="16751"/>
                  <a:pt x="12402" y="16735"/>
                  <a:pt x="12402" y="16718"/>
                </a:cubicBezTo>
              </a:path>
              <a:path w="4342" h="745">
                <a:moveTo>
                  <a:pt x="12328" y="16470"/>
                </a:moveTo>
                <a:cubicBezTo>
                  <a:pt x="12328" y="16566"/>
                  <a:pt x="12277" y="17016"/>
                  <a:pt x="12353" y="17041"/>
                </a:cubicBezTo>
              </a:path>
              <a:path w="4342" h="745">
                <a:moveTo>
                  <a:pt x="12601" y="16470"/>
                </a:moveTo>
                <a:cubicBezTo>
                  <a:pt x="12542" y="16470"/>
                  <a:pt x="12666" y="16441"/>
                  <a:pt x="12725" y="16446"/>
                </a:cubicBezTo>
                <a:cubicBezTo>
                  <a:pt x="12741" y="16454"/>
                  <a:pt x="12758" y="16462"/>
                  <a:pt x="12774" y="16470"/>
                </a:cubicBezTo>
                <a:cubicBezTo>
                  <a:pt x="12741" y="16589"/>
                  <a:pt x="12687" y="16609"/>
                  <a:pt x="12626" y="16669"/>
                </a:cubicBezTo>
                <a:cubicBezTo>
                  <a:pt x="12634" y="16669"/>
                  <a:pt x="12642" y="16669"/>
                  <a:pt x="12650" y="16669"/>
                </a:cubicBezTo>
                <a:cubicBezTo>
                  <a:pt x="12766" y="16681"/>
                  <a:pt x="12874" y="16693"/>
                  <a:pt x="12874" y="16842"/>
                </a:cubicBezTo>
                <a:cubicBezTo>
                  <a:pt x="12874" y="16987"/>
                  <a:pt x="12697" y="16979"/>
                  <a:pt x="12601" y="16991"/>
                </a:cubicBezTo>
                <a:cubicBezTo>
                  <a:pt x="12609" y="16991"/>
                  <a:pt x="12618" y="16991"/>
                  <a:pt x="12626" y="169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30840" y="5803920"/>
            <a:ext cx="330120" cy="447480"/>
          </a:xfrm>
          <a:custGeom>
            <a:avLst/>
            <a:gdLst/>
            <a:ahLst/>
            <a:rect l="l" t="t" r="r" b="b"/>
            <a:pathLst>
              <a:path w="919" h="1241">
                <a:moveTo>
                  <a:pt x="13444" y="16197"/>
                </a:moveTo>
                <a:cubicBezTo>
                  <a:pt x="13444" y="16317"/>
                  <a:pt x="13431" y="16544"/>
                  <a:pt x="13469" y="16570"/>
                </a:cubicBezTo>
              </a:path>
              <a:path w="919" h="1241">
                <a:moveTo>
                  <a:pt x="13593" y="16197"/>
                </a:moveTo>
                <a:cubicBezTo>
                  <a:pt x="13670" y="16121"/>
                  <a:pt x="13736" y="16103"/>
                  <a:pt x="13841" y="16148"/>
                </a:cubicBezTo>
                <a:cubicBezTo>
                  <a:pt x="13812" y="16236"/>
                  <a:pt x="13816" y="16277"/>
                  <a:pt x="13742" y="16321"/>
                </a:cubicBezTo>
                <a:cubicBezTo>
                  <a:pt x="13733" y="16339"/>
                  <a:pt x="13801" y="16341"/>
                  <a:pt x="13891" y="16396"/>
                </a:cubicBezTo>
                <a:cubicBezTo>
                  <a:pt x="14030" y="16481"/>
                  <a:pt x="13951" y="16573"/>
                  <a:pt x="13816" y="16594"/>
                </a:cubicBezTo>
                <a:cubicBezTo>
                  <a:pt x="13738" y="16606"/>
                  <a:pt x="13650" y="16564"/>
                  <a:pt x="13742" y="16619"/>
                </a:cubicBezTo>
              </a:path>
              <a:path w="919" h="1241">
                <a:moveTo>
                  <a:pt x="13419" y="16793"/>
                </a:moveTo>
                <a:cubicBezTo>
                  <a:pt x="13595" y="16768"/>
                  <a:pt x="13760" y="16710"/>
                  <a:pt x="13940" y="16694"/>
                </a:cubicBezTo>
                <a:cubicBezTo>
                  <a:pt x="13992" y="16690"/>
                  <a:pt x="14098" y="16672"/>
                  <a:pt x="14114" y="16718"/>
                </a:cubicBezTo>
              </a:path>
              <a:path w="919" h="1241">
                <a:moveTo>
                  <a:pt x="13593" y="16991"/>
                </a:moveTo>
                <a:cubicBezTo>
                  <a:pt x="13758" y="16973"/>
                  <a:pt x="13772" y="17124"/>
                  <a:pt x="13692" y="17264"/>
                </a:cubicBezTo>
                <a:cubicBezTo>
                  <a:pt x="13649" y="17339"/>
                  <a:pt x="13562" y="17389"/>
                  <a:pt x="13494" y="17338"/>
                </a:cubicBezTo>
                <a:cubicBezTo>
                  <a:pt x="13507" y="17248"/>
                  <a:pt x="13569" y="17224"/>
                  <a:pt x="13667" y="17239"/>
                </a:cubicBezTo>
                <a:cubicBezTo>
                  <a:pt x="13750" y="17251"/>
                  <a:pt x="13761" y="17305"/>
                  <a:pt x="13816" y="17338"/>
                </a:cubicBezTo>
              </a:path>
              <a:path w="919" h="1241">
                <a:moveTo>
                  <a:pt x="14163" y="16942"/>
                </a:moveTo>
                <a:cubicBezTo>
                  <a:pt x="14065" y="17025"/>
                  <a:pt x="14034" y="17133"/>
                  <a:pt x="14015" y="17264"/>
                </a:cubicBezTo>
                <a:cubicBezTo>
                  <a:pt x="14116" y="17311"/>
                  <a:pt x="14313" y="17378"/>
                  <a:pt x="14337" y="17190"/>
                </a:cubicBezTo>
                <a:cubicBezTo>
                  <a:pt x="14354" y="17060"/>
                  <a:pt x="14278" y="17021"/>
                  <a:pt x="14188" y="169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45080" y="2741760"/>
            <a:ext cx="2206800" cy="88920"/>
          </a:xfrm>
          <a:custGeom>
            <a:avLst/>
            <a:gdLst/>
            <a:ahLst/>
            <a:rect l="l" t="t" r="r" b="b"/>
            <a:pathLst>
              <a:path w="6127" h="249">
                <a:moveTo>
                  <a:pt x="15404" y="7863"/>
                </a:moveTo>
                <a:cubicBezTo>
                  <a:pt x="15477" y="7848"/>
                  <a:pt x="15549" y="7822"/>
                  <a:pt x="15627" y="7813"/>
                </a:cubicBezTo>
                <a:cubicBezTo>
                  <a:pt x="15767" y="7797"/>
                  <a:pt x="15907" y="7789"/>
                  <a:pt x="16049" y="7789"/>
                </a:cubicBezTo>
                <a:cubicBezTo>
                  <a:pt x="16232" y="7789"/>
                  <a:pt x="16410" y="7764"/>
                  <a:pt x="16594" y="7764"/>
                </a:cubicBezTo>
                <a:cubicBezTo>
                  <a:pt x="16771" y="7764"/>
                  <a:pt x="16939" y="7786"/>
                  <a:pt x="17115" y="7789"/>
                </a:cubicBezTo>
                <a:cubicBezTo>
                  <a:pt x="17303" y="7793"/>
                  <a:pt x="17475" y="7778"/>
                  <a:pt x="17661" y="7789"/>
                </a:cubicBezTo>
                <a:cubicBezTo>
                  <a:pt x="17870" y="7802"/>
                  <a:pt x="18073" y="7768"/>
                  <a:pt x="18281" y="7764"/>
                </a:cubicBezTo>
                <a:cubicBezTo>
                  <a:pt x="18459" y="7761"/>
                  <a:pt x="18650" y="7758"/>
                  <a:pt x="18827" y="7739"/>
                </a:cubicBezTo>
                <a:cubicBezTo>
                  <a:pt x="19025" y="7717"/>
                  <a:pt x="19224" y="7708"/>
                  <a:pt x="19422" y="7689"/>
                </a:cubicBezTo>
                <a:cubicBezTo>
                  <a:pt x="19647" y="7667"/>
                  <a:pt x="19866" y="7665"/>
                  <a:pt x="20092" y="7665"/>
                </a:cubicBezTo>
                <a:cubicBezTo>
                  <a:pt x="20285" y="7665"/>
                  <a:pt x="20470" y="7644"/>
                  <a:pt x="20662" y="7640"/>
                </a:cubicBezTo>
                <a:cubicBezTo>
                  <a:pt x="20814" y="7637"/>
                  <a:pt x="20957" y="7618"/>
                  <a:pt x="21109" y="7615"/>
                </a:cubicBezTo>
                <a:cubicBezTo>
                  <a:pt x="21249" y="7613"/>
                  <a:pt x="21390" y="7615"/>
                  <a:pt x="21530" y="76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7920" y="5680080"/>
            <a:ext cx="2948040" cy="766800"/>
          </a:xfrm>
          <a:custGeom>
            <a:avLst/>
            <a:gdLst/>
            <a:ahLst/>
            <a:rect l="l" t="t" r="r" b="b"/>
            <a:pathLst>
              <a:path w="8186" h="2134">
                <a:moveTo>
                  <a:pt x="14709" y="17363"/>
                </a:moveTo>
                <a:cubicBezTo>
                  <a:pt x="14698" y="17214"/>
                  <a:pt x="14686" y="17070"/>
                  <a:pt x="14684" y="16917"/>
                </a:cubicBezTo>
                <a:cubicBezTo>
                  <a:pt x="14681" y="16665"/>
                  <a:pt x="14709" y="16396"/>
                  <a:pt x="14660" y="16148"/>
                </a:cubicBezTo>
                <a:cubicBezTo>
                  <a:pt x="14647" y="16082"/>
                  <a:pt x="14624" y="16014"/>
                  <a:pt x="14610" y="15949"/>
                </a:cubicBezTo>
                <a:cubicBezTo>
                  <a:pt x="14263" y="15949"/>
                  <a:pt x="13917" y="15949"/>
                  <a:pt x="13593" y="15875"/>
                </a:cubicBezTo>
                <a:cubicBezTo>
                  <a:pt x="13501" y="15854"/>
                  <a:pt x="13415" y="15816"/>
                  <a:pt x="13320" y="15801"/>
                </a:cubicBezTo>
                <a:cubicBezTo>
                  <a:pt x="13194" y="15781"/>
                  <a:pt x="13078" y="15780"/>
                  <a:pt x="12948" y="15776"/>
                </a:cubicBezTo>
                <a:cubicBezTo>
                  <a:pt x="12660" y="15768"/>
                  <a:pt x="12387" y="15809"/>
                  <a:pt x="12105" y="15825"/>
                </a:cubicBezTo>
                <a:cubicBezTo>
                  <a:pt x="11986" y="15832"/>
                  <a:pt x="11874" y="15835"/>
                  <a:pt x="11757" y="15850"/>
                </a:cubicBezTo>
                <a:cubicBezTo>
                  <a:pt x="11633" y="15866"/>
                  <a:pt x="11509" y="15895"/>
                  <a:pt x="11385" y="15925"/>
                </a:cubicBezTo>
                <a:cubicBezTo>
                  <a:pt x="11267" y="15953"/>
                  <a:pt x="11157" y="15988"/>
                  <a:pt x="11038" y="15999"/>
                </a:cubicBezTo>
                <a:cubicBezTo>
                  <a:pt x="10862" y="16016"/>
                  <a:pt x="10664" y="16017"/>
                  <a:pt x="10492" y="16024"/>
                </a:cubicBezTo>
                <a:cubicBezTo>
                  <a:pt x="10335" y="16031"/>
                  <a:pt x="10169" y="16024"/>
                  <a:pt x="10021" y="16024"/>
                </a:cubicBezTo>
                <a:cubicBezTo>
                  <a:pt x="9912" y="16024"/>
                  <a:pt x="9800" y="16043"/>
                  <a:pt x="9699" y="16049"/>
                </a:cubicBezTo>
                <a:cubicBezTo>
                  <a:pt x="9540" y="16058"/>
                  <a:pt x="9383" y="16040"/>
                  <a:pt x="9227" y="16024"/>
                </a:cubicBezTo>
                <a:cubicBezTo>
                  <a:pt x="9081" y="16009"/>
                  <a:pt x="8927" y="15982"/>
                  <a:pt x="8781" y="15974"/>
                </a:cubicBezTo>
                <a:cubicBezTo>
                  <a:pt x="8673" y="15968"/>
                  <a:pt x="8564" y="15948"/>
                  <a:pt x="8458" y="15949"/>
                </a:cubicBezTo>
                <a:cubicBezTo>
                  <a:pt x="8293" y="15951"/>
                  <a:pt x="8151" y="15976"/>
                  <a:pt x="7987" y="15974"/>
                </a:cubicBezTo>
                <a:cubicBezTo>
                  <a:pt x="7860" y="15972"/>
                  <a:pt x="7736" y="15993"/>
                  <a:pt x="7615" y="15999"/>
                </a:cubicBezTo>
                <a:cubicBezTo>
                  <a:pt x="7437" y="16007"/>
                  <a:pt x="7268" y="15982"/>
                  <a:pt x="7094" y="15974"/>
                </a:cubicBezTo>
                <a:cubicBezTo>
                  <a:pt x="6966" y="15968"/>
                  <a:pt x="6869" y="15993"/>
                  <a:pt x="6747" y="16024"/>
                </a:cubicBezTo>
                <a:cubicBezTo>
                  <a:pt x="6674" y="16042"/>
                  <a:pt x="6582" y="16039"/>
                  <a:pt x="6548" y="16098"/>
                </a:cubicBezTo>
                <a:cubicBezTo>
                  <a:pt x="6503" y="16175"/>
                  <a:pt x="6520" y="16303"/>
                  <a:pt x="6524" y="16396"/>
                </a:cubicBezTo>
                <a:cubicBezTo>
                  <a:pt x="6531" y="16584"/>
                  <a:pt x="6567" y="16776"/>
                  <a:pt x="6573" y="16966"/>
                </a:cubicBezTo>
                <a:cubicBezTo>
                  <a:pt x="6581" y="17201"/>
                  <a:pt x="6491" y="17589"/>
                  <a:pt x="6623" y="17785"/>
                </a:cubicBezTo>
                <a:cubicBezTo>
                  <a:pt x="6666" y="17848"/>
                  <a:pt x="6676" y="17833"/>
                  <a:pt x="6747" y="17859"/>
                </a:cubicBezTo>
                <a:cubicBezTo>
                  <a:pt x="6861" y="17901"/>
                  <a:pt x="6929" y="17862"/>
                  <a:pt x="7045" y="17859"/>
                </a:cubicBezTo>
                <a:cubicBezTo>
                  <a:pt x="7176" y="17855"/>
                  <a:pt x="7293" y="17873"/>
                  <a:pt x="7417" y="17884"/>
                </a:cubicBezTo>
                <a:cubicBezTo>
                  <a:pt x="7512" y="17892"/>
                  <a:pt x="7597" y="17904"/>
                  <a:pt x="7689" y="17909"/>
                </a:cubicBezTo>
                <a:cubicBezTo>
                  <a:pt x="8302" y="17943"/>
                  <a:pt x="8915" y="17884"/>
                  <a:pt x="9525" y="17884"/>
                </a:cubicBezTo>
                <a:cubicBezTo>
                  <a:pt x="9916" y="17884"/>
                  <a:pt x="10303" y="17864"/>
                  <a:pt x="10691" y="17859"/>
                </a:cubicBezTo>
                <a:cubicBezTo>
                  <a:pt x="10834" y="17857"/>
                  <a:pt x="10973" y="17888"/>
                  <a:pt x="11112" y="17884"/>
                </a:cubicBezTo>
                <a:cubicBezTo>
                  <a:pt x="11239" y="17880"/>
                  <a:pt x="11356" y="17861"/>
                  <a:pt x="11485" y="17859"/>
                </a:cubicBezTo>
                <a:cubicBezTo>
                  <a:pt x="11597" y="17858"/>
                  <a:pt x="11703" y="17887"/>
                  <a:pt x="11807" y="17884"/>
                </a:cubicBezTo>
                <a:cubicBezTo>
                  <a:pt x="11903" y="17881"/>
                  <a:pt x="11986" y="17862"/>
                  <a:pt x="12080" y="17859"/>
                </a:cubicBezTo>
                <a:cubicBezTo>
                  <a:pt x="12278" y="17853"/>
                  <a:pt x="12478" y="17831"/>
                  <a:pt x="12675" y="17835"/>
                </a:cubicBezTo>
                <a:cubicBezTo>
                  <a:pt x="12837" y="17839"/>
                  <a:pt x="13005" y="17859"/>
                  <a:pt x="13171" y="17859"/>
                </a:cubicBezTo>
                <a:cubicBezTo>
                  <a:pt x="13461" y="17859"/>
                  <a:pt x="13792" y="17893"/>
                  <a:pt x="14064" y="17884"/>
                </a:cubicBezTo>
                <a:cubicBezTo>
                  <a:pt x="14173" y="17881"/>
                  <a:pt x="14289" y="17838"/>
                  <a:pt x="14387" y="17810"/>
                </a:cubicBezTo>
                <a:cubicBezTo>
                  <a:pt x="14458" y="17790"/>
                  <a:pt x="14545" y="17785"/>
                  <a:pt x="14610" y="17760"/>
                </a:cubicBezTo>
                <a:cubicBezTo>
                  <a:pt x="14631" y="17752"/>
                  <a:pt x="14682" y="17712"/>
                  <a:pt x="14684" y="17711"/>
                </a:cubicBezTo>
                <a:cubicBezTo>
                  <a:pt x="14674" y="17667"/>
                  <a:pt x="14634" y="17656"/>
                  <a:pt x="14635" y="17611"/>
                </a:cubicBezTo>
                <a:cubicBezTo>
                  <a:pt x="14637" y="17521"/>
                  <a:pt x="14650" y="17430"/>
                  <a:pt x="14660" y="17338"/>
                </a:cubicBezTo>
                <a:cubicBezTo>
                  <a:pt x="14667" y="17280"/>
                  <a:pt x="14673" y="17245"/>
                  <a:pt x="14684" y="17190"/>
                </a:cubicBezTo>
                <a:cubicBezTo>
                  <a:pt x="14691" y="17154"/>
                  <a:pt x="14703" y="17127"/>
                  <a:pt x="14709" y="170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Students will order fractions an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Let’s Practic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greatest to le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7,      , 0.75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rder the following sets from least to grea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7,      , 0.6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19320" y="1981080"/>
                <a:ext cx="447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95480" y="1981080"/>
                <a:ext cx="381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95280" y="3962520"/>
                <a:ext cx="457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53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88920" y="2411280"/>
            <a:ext cx="7904160" cy="2571840"/>
          </a:xfrm>
          <a:custGeom>
            <a:avLst/>
            <a:gdLst/>
            <a:ahLst/>
            <a:rect l="l" t="t" r="r" b="b"/>
            <a:pathLst>
              <a:path w="21953" h="7145">
                <a:moveTo>
                  <a:pt x="3423" y="11187"/>
                </a:moveTo>
                <a:cubicBezTo>
                  <a:pt x="3431" y="11170"/>
                  <a:pt x="3440" y="11154"/>
                  <a:pt x="3448" y="11137"/>
                </a:cubicBezTo>
              </a:path>
              <a:path w="21953" h="7145">
                <a:moveTo>
                  <a:pt x="9227" y="6697"/>
                </a:moveTo>
                <a:cubicBezTo>
                  <a:pt x="9183" y="6772"/>
                  <a:pt x="9120" y="6836"/>
                  <a:pt x="9103" y="6921"/>
                </a:cubicBezTo>
              </a:path>
              <a:path w="21953" h="7145">
                <a:moveTo>
                  <a:pt x="248" y="8285"/>
                </a:moveTo>
                <a:cubicBezTo>
                  <a:pt x="387" y="8245"/>
                  <a:pt x="481" y="8228"/>
                  <a:pt x="620" y="8260"/>
                </a:cubicBezTo>
              </a:path>
              <a:path w="21953" h="7145">
                <a:moveTo>
                  <a:pt x="1215" y="8285"/>
                </a:moveTo>
                <a:cubicBezTo>
                  <a:pt x="1256" y="8278"/>
                  <a:pt x="1298" y="8267"/>
                  <a:pt x="1339" y="8260"/>
                </a:cubicBezTo>
              </a:path>
              <a:path w="21953" h="7145">
                <a:moveTo>
                  <a:pt x="17090" y="11832"/>
                </a:moveTo>
                <a:cubicBezTo>
                  <a:pt x="17107" y="11958"/>
                  <a:pt x="17125" y="12015"/>
                  <a:pt x="17090" y="12129"/>
                </a:cubicBezTo>
              </a:path>
              <a:path w="21953" h="7145">
                <a:moveTo>
                  <a:pt x="19596" y="11807"/>
                </a:moveTo>
                <a:cubicBezTo>
                  <a:pt x="19588" y="11981"/>
                  <a:pt x="19636" y="12017"/>
                  <a:pt x="19496" y="12030"/>
                </a:cubicBezTo>
              </a:path>
              <a:path w="21953" h="7145">
                <a:moveTo>
                  <a:pt x="20638" y="11658"/>
                </a:moveTo>
                <a:cubicBezTo>
                  <a:pt x="20638" y="11666"/>
                  <a:pt x="20638" y="11675"/>
                  <a:pt x="20638" y="11683"/>
                </a:cubicBezTo>
              </a:path>
              <a:path w="21953" h="7145">
                <a:moveTo>
                  <a:pt x="20638" y="11683"/>
                </a:moveTo>
                <a:lnTo>
                  <a:pt x="20638" y="11683"/>
                </a:lnTo>
              </a:path>
              <a:path w="21953" h="7145">
                <a:moveTo>
                  <a:pt x="22175" y="11534"/>
                </a:moveTo>
                <a:cubicBezTo>
                  <a:pt x="22175" y="11586"/>
                  <a:pt x="22176" y="11604"/>
                  <a:pt x="22200" y="11633"/>
                </a:cubicBezTo>
              </a:path>
              <a:path w="21953" h="7145">
                <a:moveTo>
                  <a:pt x="16966" y="13543"/>
                </a:moveTo>
                <a:cubicBezTo>
                  <a:pt x="16989" y="13700"/>
                  <a:pt x="16997" y="13741"/>
                  <a:pt x="16991" y="13841"/>
                </a:cubicBezTo>
              </a:path>
              <a:path w="21953" h="7145">
                <a:moveTo>
                  <a:pt x="19496" y="13221"/>
                </a:moveTo>
                <a:cubicBezTo>
                  <a:pt x="19489" y="13448"/>
                  <a:pt x="19520" y="13482"/>
                  <a:pt x="19372" y="13618"/>
                </a:cubicBezTo>
              </a:path>
              <a:path w="21953" h="7145">
                <a:moveTo>
                  <a:pt x="8409" y="9699"/>
                </a:moveTo>
                <a:cubicBezTo>
                  <a:pt x="8417" y="9699"/>
                  <a:pt x="8426" y="9699"/>
                  <a:pt x="8434" y="96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43120" y="3679920"/>
            <a:ext cx="411120" cy="204840"/>
          </a:xfrm>
          <a:custGeom>
            <a:avLst/>
            <a:gdLst/>
            <a:ahLst/>
            <a:rect l="l" t="t" r="r" b="b"/>
            <a:pathLst>
              <a:path w="1142" h="571">
                <a:moveTo>
                  <a:pt x="7541" y="10344"/>
                </a:moveTo>
                <a:cubicBezTo>
                  <a:pt x="7518" y="10275"/>
                  <a:pt x="7412" y="10379"/>
                  <a:pt x="7392" y="10418"/>
                </a:cubicBezTo>
                <a:cubicBezTo>
                  <a:pt x="7315" y="10564"/>
                  <a:pt x="7335" y="10634"/>
                  <a:pt x="7392" y="10765"/>
                </a:cubicBezTo>
                <a:cubicBezTo>
                  <a:pt x="7621" y="10742"/>
                  <a:pt x="7747" y="10596"/>
                  <a:pt x="7689" y="10319"/>
                </a:cubicBezTo>
                <a:cubicBezTo>
                  <a:pt x="7667" y="10213"/>
                  <a:pt x="7430" y="10282"/>
                  <a:pt x="7441" y="10319"/>
                </a:cubicBezTo>
                <a:cubicBezTo>
                  <a:pt x="7458" y="10335"/>
                  <a:pt x="7474" y="10352"/>
                  <a:pt x="7491" y="10368"/>
                </a:cubicBezTo>
              </a:path>
              <a:path w="1142" h="571">
                <a:moveTo>
                  <a:pt x="7913" y="10468"/>
                </a:moveTo>
                <a:cubicBezTo>
                  <a:pt x="7916" y="10489"/>
                  <a:pt x="7938" y="10630"/>
                  <a:pt x="7938" y="10567"/>
                </a:cubicBezTo>
              </a:path>
              <a:path w="1142" h="571">
                <a:moveTo>
                  <a:pt x="8260" y="10220"/>
                </a:moveTo>
                <a:cubicBezTo>
                  <a:pt x="8198" y="10245"/>
                  <a:pt x="8093" y="10273"/>
                  <a:pt x="8062" y="10344"/>
                </a:cubicBezTo>
                <a:cubicBezTo>
                  <a:pt x="8052" y="10366"/>
                  <a:pt x="8081" y="10396"/>
                  <a:pt x="8086" y="10418"/>
                </a:cubicBezTo>
                <a:cubicBezTo>
                  <a:pt x="8194" y="10396"/>
                  <a:pt x="8259" y="10315"/>
                  <a:pt x="8384" y="10344"/>
                </a:cubicBezTo>
                <a:cubicBezTo>
                  <a:pt x="8547" y="10382"/>
                  <a:pt x="8498" y="10609"/>
                  <a:pt x="8359" y="10641"/>
                </a:cubicBezTo>
                <a:cubicBezTo>
                  <a:pt x="8309" y="10641"/>
                  <a:pt x="8260" y="10641"/>
                  <a:pt x="8210" y="1064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97360" y="4098960"/>
            <a:ext cx="357480" cy="179280"/>
          </a:xfrm>
          <a:custGeom>
            <a:avLst/>
            <a:gdLst/>
            <a:ahLst/>
            <a:rect l="l" t="t" r="r" b="b"/>
            <a:pathLst>
              <a:path w="994" h="497">
                <a:moveTo>
                  <a:pt x="15900" y="11435"/>
                </a:moveTo>
                <a:cubicBezTo>
                  <a:pt x="15987" y="11347"/>
                  <a:pt x="16151" y="11343"/>
                  <a:pt x="16197" y="11509"/>
                </a:cubicBezTo>
                <a:cubicBezTo>
                  <a:pt x="16270" y="11770"/>
                  <a:pt x="16081" y="11910"/>
                  <a:pt x="15850" y="11857"/>
                </a:cubicBezTo>
                <a:cubicBezTo>
                  <a:pt x="15842" y="11849"/>
                  <a:pt x="15833" y="11840"/>
                  <a:pt x="15825" y="11832"/>
                </a:cubicBezTo>
                <a:cubicBezTo>
                  <a:pt x="15926" y="11731"/>
                  <a:pt x="16058" y="11670"/>
                  <a:pt x="16197" y="11782"/>
                </a:cubicBezTo>
                <a:cubicBezTo>
                  <a:pt x="16268" y="11839"/>
                  <a:pt x="16198" y="11843"/>
                  <a:pt x="16297" y="11857"/>
                </a:cubicBezTo>
              </a:path>
              <a:path w="994" h="497">
                <a:moveTo>
                  <a:pt x="16570" y="11410"/>
                </a:moveTo>
                <a:cubicBezTo>
                  <a:pt x="16492" y="11426"/>
                  <a:pt x="16414" y="11664"/>
                  <a:pt x="16495" y="11782"/>
                </a:cubicBezTo>
                <a:cubicBezTo>
                  <a:pt x="16528" y="11799"/>
                  <a:pt x="16561" y="11815"/>
                  <a:pt x="16594" y="11832"/>
                </a:cubicBezTo>
                <a:cubicBezTo>
                  <a:pt x="16712" y="11782"/>
                  <a:pt x="17005" y="11573"/>
                  <a:pt x="16743" y="11435"/>
                </a:cubicBezTo>
                <a:cubicBezTo>
                  <a:pt x="16631" y="11435"/>
                  <a:pt x="16599" y="11429"/>
                  <a:pt x="16545" y="114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86680" y="4106880"/>
            <a:ext cx="134640" cy="17928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17636" y="11410"/>
                </a:moveTo>
                <a:cubicBezTo>
                  <a:pt x="17486" y="11538"/>
                  <a:pt x="17479" y="11687"/>
                  <a:pt x="17462" y="11881"/>
                </a:cubicBezTo>
                <a:cubicBezTo>
                  <a:pt x="17624" y="11889"/>
                  <a:pt x="17944" y="11880"/>
                  <a:pt x="17810" y="11609"/>
                </a:cubicBezTo>
                <a:cubicBezTo>
                  <a:pt x="17742" y="11472"/>
                  <a:pt x="17668" y="11502"/>
                  <a:pt x="17562" y="1153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27880" y="4054320"/>
            <a:ext cx="438120" cy="196920"/>
          </a:xfrm>
          <a:custGeom>
            <a:avLst/>
            <a:gdLst/>
            <a:ahLst/>
            <a:rect l="l" t="t" r="r" b="b"/>
            <a:pathLst>
              <a:path w="1217" h="547">
                <a:moveTo>
                  <a:pt x="18132" y="11757"/>
                </a:moveTo>
                <a:cubicBezTo>
                  <a:pt x="18141" y="11784"/>
                  <a:pt x="18167" y="11796"/>
                  <a:pt x="18207" y="11782"/>
                </a:cubicBezTo>
                <a:cubicBezTo>
                  <a:pt x="18248" y="11766"/>
                  <a:pt x="18290" y="11749"/>
                  <a:pt x="18331" y="11733"/>
                </a:cubicBezTo>
              </a:path>
              <a:path w="1217" h="547">
                <a:moveTo>
                  <a:pt x="18455" y="11435"/>
                </a:moveTo>
                <a:cubicBezTo>
                  <a:pt x="18626" y="11435"/>
                  <a:pt x="18690" y="11434"/>
                  <a:pt x="18777" y="11609"/>
                </a:cubicBezTo>
                <a:cubicBezTo>
                  <a:pt x="18874" y="11804"/>
                  <a:pt x="18673" y="11801"/>
                  <a:pt x="18554" y="11782"/>
                </a:cubicBezTo>
                <a:cubicBezTo>
                  <a:pt x="18642" y="11661"/>
                  <a:pt x="18736" y="11745"/>
                  <a:pt x="18876" y="11733"/>
                </a:cubicBezTo>
                <a:cubicBezTo>
                  <a:pt x="18893" y="11725"/>
                  <a:pt x="18909" y="11716"/>
                  <a:pt x="18926" y="11708"/>
                </a:cubicBezTo>
              </a:path>
              <a:path w="1217" h="547">
                <a:moveTo>
                  <a:pt x="18951" y="11311"/>
                </a:moveTo>
                <a:cubicBezTo>
                  <a:pt x="19040" y="11302"/>
                  <a:pt x="19197" y="11247"/>
                  <a:pt x="19273" y="11261"/>
                </a:cubicBezTo>
                <a:cubicBezTo>
                  <a:pt x="19273" y="11269"/>
                  <a:pt x="19273" y="11278"/>
                  <a:pt x="19273" y="11286"/>
                </a:cubicBezTo>
                <a:cubicBezTo>
                  <a:pt x="19305" y="11414"/>
                  <a:pt x="19247" y="11616"/>
                  <a:pt x="19298" y="11733"/>
                </a:cubicBezTo>
                <a:cubicBezTo>
                  <a:pt x="19315" y="11741"/>
                  <a:pt x="19331" y="11749"/>
                  <a:pt x="19348" y="1175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80200" y="4062240"/>
            <a:ext cx="133560" cy="169920"/>
          </a:xfrm>
          <a:custGeom>
            <a:avLst/>
            <a:gdLst/>
            <a:ahLst/>
            <a:rect l="l" t="t" r="r" b="b"/>
            <a:pathLst>
              <a:path w="373" h="472">
                <a:moveTo>
                  <a:pt x="20092" y="11286"/>
                </a:moveTo>
                <a:cubicBezTo>
                  <a:pt x="19984" y="11456"/>
                  <a:pt x="19968" y="11513"/>
                  <a:pt x="19968" y="11708"/>
                </a:cubicBezTo>
                <a:cubicBezTo>
                  <a:pt x="20149" y="11758"/>
                  <a:pt x="20416" y="11726"/>
                  <a:pt x="20315" y="11435"/>
                </a:cubicBezTo>
                <a:cubicBezTo>
                  <a:pt x="20277" y="11326"/>
                  <a:pt x="20062" y="11288"/>
                  <a:pt x="20117" y="11336"/>
                </a:cubicBezTo>
                <a:cubicBezTo>
                  <a:pt x="20158" y="11361"/>
                  <a:pt x="20200" y="11385"/>
                  <a:pt x="20241" y="1141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00960" y="4037040"/>
            <a:ext cx="428760" cy="268200"/>
          </a:xfrm>
          <a:custGeom>
            <a:avLst/>
            <a:gdLst/>
            <a:ahLst/>
            <a:rect l="l" t="t" r="r" b="b"/>
            <a:pathLst>
              <a:path w="1192" h="745">
                <a:moveTo>
                  <a:pt x="20985" y="11237"/>
                </a:moveTo>
                <a:cubicBezTo>
                  <a:pt x="20939" y="11246"/>
                  <a:pt x="20841" y="11270"/>
                  <a:pt x="20836" y="11311"/>
                </a:cubicBezTo>
                <a:cubicBezTo>
                  <a:pt x="20830" y="11360"/>
                  <a:pt x="20836" y="11411"/>
                  <a:pt x="20836" y="11460"/>
                </a:cubicBezTo>
                <a:cubicBezTo>
                  <a:pt x="20922" y="11443"/>
                  <a:pt x="21009" y="11362"/>
                  <a:pt x="21084" y="11460"/>
                </a:cubicBezTo>
                <a:cubicBezTo>
                  <a:pt x="21181" y="11586"/>
                  <a:pt x="21103" y="11852"/>
                  <a:pt x="20910" y="11757"/>
                </a:cubicBezTo>
                <a:cubicBezTo>
                  <a:pt x="20910" y="11741"/>
                  <a:pt x="20910" y="11724"/>
                  <a:pt x="20910" y="11708"/>
                </a:cubicBezTo>
              </a:path>
              <a:path w="1192" h="745">
                <a:moveTo>
                  <a:pt x="21406" y="11733"/>
                </a:moveTo>
                <a:cubicBezTo>
                  <a:pt x="21421" y="11806"/>
                  <a:pt x="21449" y="11921"/>
                  <a:pt x="21431" y="11956"/>
                </a:cubicBezTo>
              </a:path>
              <a:path w="1192" h="745">
                <a:moveTo>
                  <a:pt x="21853" y="11212"/>
                </a:moveTo>
                <a:cubicBezTo>
                  <a:pt x="21713" y="11259"/>
                  <a:pt x="21550" y="11453"/>
                  <a:pt x="21654" y="11633"/>
                </a:cubicBezTo>
                <a:cubicBezTo>
                  <a:pt x="21757" y="11812"/>
                  <a:pt x="22106" y="11616"/>
                  <a:pt x="22027" y="11410"/>
                </a:cubicBezTo>
                <a:cubicBezTo>
                  <a:pt x="21934" y="11318"/>
                  <a:pt x="21910" y="11289"/>
                  <a:pt x="21828" y="1126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99280" y="3973680"/>
            <a:ext cx="160560" cy="19656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22498" y="11038"/>
                </a:moveTo>
                <a:cubicBezTo>
                  <a:pt x="22498" y="11177"/>
                  <a:pt x="22479" y="11325"/>
                  <a:pt x="22523" y="11460"/>
                </a:cubicBezTo>
                <a:cubicBezTo>
                  <a:pt x="22587" y="11659"/>
                  <a:pt x="22873" y="11539"/>
                  <a:pt x="22944" y="11410"/>
                </a:cubicBezTo>
                <a:cubicBezTo>
                  <a:pt x="22944" y="11385"/>
                  <a:pt x="22944" y="11361"/>
                  <a:pt x="22944" y="11336"/>
                </a:cubicBezTo>
                <a:cubicBezTo>
                  <a:pt x="22780" y="11335"/>
                  <a:pt x="22759" y="11420"/>
                  <a:pt x="22771" y="115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86680" y="4653000"/>
            <a:ext cx="142560" cy="2048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17587" y="12923"/>
                </a:moveTo>
                <a:cubicBezTo>
                  <a:pt x="17490" y="13116"/>
                  <a:pt x="17480" y="13228"/>
                  <a:pt x="17487" y="13444"/>
                </a:cubicBezTo>
                <a:cubicBezTo>
                  <a:pt x="17679" y="13462"/>
                  <a:pt x="18024" y="13338"/>
                  <a:pt x="17810" y="13047"/>
                </a:cubicBezTo>
                <a:cubicBezTo>
                  <a:pt x="17690" y="12884"/>
                  <a:pt x="17622" y="13057"/>
                  <a:pt x="17636" y="13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96160" y="4589640"/>
            <a:ext cx="554040" cy="214200"/>
          </a:xfrm>
          <a:custGeom>
            <a:avLst/>
            <a:gdLst/>
            <a:ahLst/>
            <a:rect l="l" t="t" r="r" b="b"/>
            <a:pathLst>
              <a:path w="1539" h="596">
                <a:moveTo>
                  <a:pt x="21803" y="12898"/>
                </a:moveTo>
                <a:cubicBezTo>
                  <a:pt x="21710" y="13061"/>
                  <a:pt x="21679" y="13117"/>
                  <a:pt x="21679" y="13295"/>
                </a:cubicBezTo>
                <a:cubicBezTo>
                  <a:pt x="21769" y="13306"/>
                  <a:pt x="22313" y="13252"/>
                  <a:pt x="22101" y="12998"/>
                </a:cubicBezTo>
                <a:cubicBezTo>
                  <a:pt x="21970" y="12954"/>
                  <a:pt x="21940" y="12938"/>
                  <a:pt x="21853" y="12948"/>
                </a:cubicBezTo>
              </a:path>
              <a:path w="1539" h="596">
                <a:moveTo>
                  <a:pt x="22374" y="13171"/>
                </a:moveTo>
                <a:cubicBezTo>
                  <a:pt x="22374" y="13196"/>
                  <a:pt x="22374" y="13204"/>
                  <a:pt x="22374" y="13221"/>
                </a:cubicBezTo>
              </a:path>
              <a:path w="1539" h="596">
                <a:moveTo>
                  <a:pt x="22622" y="12750"/>
                </a:moveTo>
                <a:cubicBezTo>
                  <a:pt x="22697" y="12806"/>
                  <a:pt x="22675" y="12970"/>
                  <a:pt x="22696" y="13072"/>
                </a:cubicBezTo>
                <a:cubicBezTo>
                  <a:pt x="22734" y="13260"/>
                  <a:pt x="22877" y="13300"/>
                  <a:pt x="23044" y="13196"/>
                </a:cubicBezTo>
                <a:cubicBezTo>
                  <a:pt x="23136" y="13104"/>
                  <a:pt x="23165" y="13080"/>
                  <a:pt x="23192" y="12998"/>
                </a:cubicBezTo>
                <a:cubicBezTo>
                  <a:pt x="23049" y="12935"/>
                  <a:pt x="22994" y="13044"/>
                  <a:pt x="22994" y="13196"/>
                </a:cubicBezTo>
                <a:cubicBezTo>
                  <a:pt x="23002" y="13221"/>
                  <a:pt x="23011" y="13246"/>
                  <a:pt x="23019" y="132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24840" y="4527720"/>
            <a:ext cx="231480" cy="1872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20241" y="12576"/>
                </a:moveTo>
                <a:cubicBezTo>
                  <a:pt x="20306" y="12687"/>
                  <a:pt x="20303" y="12841"/>
                  <a:pt x="20315" y="12973"/>
                </a:cubicBezTo>
              </a:path>
              <a:path w="646" h="522">
                <a:moveTo>
                  <a:pt x="20067" y="13097"/>
                </a:moveTo>
                <a:cubicBezTo>
                  <a:pt x="20284" y="13090"/>
                  <a:pt x="20496" y="13063"/>
                  <a:pt x="20712" y="130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69120" y="4857840"/>
            <a:ext cx="169920" cy="17928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20265" y="13543"/>
                </a:moveTo>
                <a:cubicBezTo>
                  <a:pt x="20449" y="13453"/>
                  <a:pt x="20517" y="13530"/>
                  <a:pt x="20662" y="13643"/>
                </a:cubicBezTo>
                <a:cubicBezTo>
                  <a:pt x="20574" y="13947"/>
                  <a:pt x="20506" y="13966"/>
                  <a:pt x="20191" y="13990"/>
                </a:cubicBezTo>
                <a:cubicBezTo>
                  <a:pt x="20245" y="13818"/>
                  <a:pt x="20382" y="13683"/>
                  <a:pt x="20588" y="13816"/>
                </a:cubicBezTo>
                <a:cubicBezTo>
                  <a:pt x="20631" y="13881"/>
                  <a:pt x="20643" y="13895"/>
                  <a:pt x="20662" y="139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07080" y="4581360"/>
            <a:ext cx="270000" cy="187560"/>
          </a:xfrm>
          <a:custGeom>
            <a:avLst/>
            <a:gdLst/>
            <a:ahLst/>
            <a:rect l="l" t="t" r="r" b="b"/>
            <a:pathLst>
              <a:path w="746" h="522">
                <a:moveTo>
                  <a:pt x="18380" y="12750"/>
                </a:moveTo>
                <a:cubicBezTo>
                  <a:pt x="18521" y="12803"/>
                  <a:pt x="18943" y="12985"/>
                  <a:pt x="18604" y="13171"/>
                </a:cubicBezTo>
                <a:cubicBezTo>
                  <a:pt x="18468" y="13194"/>
                  <a:pt x="18430" y="13208"/>
                  <a:pt x="18355" y="13146"/>
                </a:cubicBezTo>
                <a:cubicBezTo>
                  <a:pt x="18414" y="13064"/>
                  <a:pt x="18529" y="13082"/>
                  <a:pt x="18628" y="13022"/>
                </a:cubicBezTo>
              </a:path>
              <a:path w="746" h="522">
                <a:moveTo>
                  <a:pt x="18703" y="12750"/>
                </a:moveTo>
                <a:cubicBezTo>
                  <a:pt x="18823" y="12736"/>
                  <a:pt x="18927" y="12750"/>
                  <a:pt x="19050" y="12750"/>
                </a:cubicBezTo>
                <a:cubicBezTo>
                  <a:pt x="19058" y="12750"/>
                  <a:pt x="19067" y="12750"/>
                  <a:pt x="19075" y="12750"/>
                </a:cubicBezTo>
                <a:cubicBezTo>
                  <a:pt x="19118" y="12904"/>
                  <a:pt x="19084" y="13078"/>
                  <a:pt x="19075" y="132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54800" y="4500720"/>
            <a:ext cx="392040" cy="607680"/>
          </a:xfrm>
          <a:custGeom>
            <a:avLst/>
            <a:gdLst/>
            <a:ahLst/>
            <a:rect l="l" t="t" r="r" b="b"/>
            <a:pathLst>
              <a:path w="1092" h="1687">
                <a:moveTo>
                  <a:pt x="15825" y="12601"/>
                </a:moveTo>
                <a:cubicBezTo>
                  <a:pt x="15849" y="12506"/>
                  <a:pt x="16016" y="12457"/>
                  <a:pt x="16098" y="12526"/>
                </a:cubicBezTo>
                <a:cubicBezTo>
                  <a:pt x="16350" y="12736"/>
                  <a:pt x="15986" y="13107"/>
                  <a:pt x="15751" y="13097"/>
                </a:cubicBezTo>
                <a:cubicBezTo>
                  <a:pt x="15718" y="13072"/>
                  <a:pt x="15685" y="13047"/>
                  <a:pt x="15652" y="13022"/>
                </a:cubicBezTo>
                <a:cubicBezTo>
                  <a:pt x="15807" y="12855"/>
                  <a:pt x="15941" y="12830"/>
                  <a:pt x="16148" y="12973"/>
                </a:cubicBezTo>
                <a:cubicBezTo>
                  <a:pt x="16164" y="12989"/>
                  <a:pt x="16181" y="13006"/>
                  <a:pt x="16197" y="13022"/>
                </a:cubicBezTo>
              </a:path>
              <a:path w="1092" h="1687">
                <a:moveTo>
                  <a:pt x="15429" y="13395"/>
                </a:moveTo>
                <a:cubicBezTo>
                  <a:pt x="15756" y="13326"/>
                  <a:pt x="16109" y="13198"/>
                  <a:pt x="16446" y="13221"/>
                </a:cubicBezTo>
                <a:cubicBezTo>
                  <a:pt x="16506" y="13241"/>
                  <a:pt x="16541" y="13240"/>
                  <a:pt x="16495" y="13271"/>
                </a:cubicBezTo>
              </a:path>
              <a:path w="1092" h="1687">
                <a:moveTo>
                  <a:pt x="15701" y="13643"/>
                </a:moveTo>
                <a:cubicBezTo>
                  <a:pt x="15712" y="13818"/>
                  <a:pt x="15656" y="14025"/>
                  <a:pt x="15677" y="14188"/>
                </a:cubicBezTo>
                <a:cubicBezTo>
                  <a:pt x="15685" y="14163"/>
                  <a:pt x="15693" y="14139"/>
                  <a:pt x="15701" y="14114"/>
                </a:cubicBezTo>
              </a:path>
              <a:path w="1092" h="1687">
                <a:moveTo>
                  <a:pt x="16148" y="13692"/>
                </a:moveTo>
                <a:cubicBezTo>
                  <a:pt x="16072" y="13882"/>
                  <a:pt x="16057" y="13959"/>
                  <a:pt x="16073" y="14163"/>
                </a:cubicBezTo>
                <a:cubicBezTo>
                  <a:pt x="16217" y="14156"/>
                  <a:pt x="16617" y="14024"/>
                  <a:pt x="16470" y="13767"/>
                </a:cubicBezTo>
                <a:cubicBezTo>
                  <a:pt x="16428" y="13693"/>
                  <a:pt x="16208" y="13721"/>
                  <a:pt x="16197" y="137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2920" y="1625760"/>
            <a:ext cx="376200" cy="463320"/>
          </a:xfrm>
          <a:custGeom>
            <a:avLst/>
            <a:gdLst/>
            <a:ahLst/>
            <a:rect l="l" t="t" r="r" b="b"/>
            <a:pathLst>
              <a:path w="1043" h="1291">
                <a:moveTo>
                  <a:pt x="496" y="4812"/>
                </a:moveTo>
                <a:cubicBezTo>
                  <a:pt x="463" y="4852"/>
                  <a:pt x="319" y="5054"/>
                  <a:pt x="397" y="5110"/>
                </a:cubicBezTo>
                <a:cubicBezTo>
                  <a:pt x="469" y="5161"/>
                  <a:pt x="529" y="5043"/>
                  <a:pt x="546" y="5060"/>
                </a:cubicBezTo>
                <a:cubicBezTo>
                  <a:pt x="501" y="5212"/>
                  <a:pt x="460" y="5282"/>
                  <a:pt x="521" y="5432"/>
                </a:cubicBezTo>
                <a:cubicBezTo>
                  <a:pt x="654" y="5376"/>
                  <a:pt x="696" y="5351"/>
                  <a:pt x="719" y="5209"/>
                </a:cubicBezTo>
              </a:path>
              <a:path w="1043" h="1291">
                <a:moveTo>
                  <a:pt x="571" y="5011"/>
                </a:moveTo>
                <a:cubicBezTo>
                  <a:pt x="680" y="5024"/>
                  <a:pt x="791" y="5032"/>
                  <a:pt x="893" y="5060"/>
                </a:cubicBezTo>
              </a:path>
              <a:path w="1043" h="1291">
                <a:moveTo>
                  <a:pt x="719" y="4862"/>
                </a:moveTo>
                <a:cubicBezTo>
                  <a:pt x="733" y="4921"/>
                  <a:pt x="785" y="5243"/>
                  <a:pt x="843" y="5259"/>
                </a:cubicBezTo>
                <a:cubicBezTo>
                  <a:pt x="851" y="5251"/>
                  <a:pt x="860" y="5242"/>
                  <a:pt x="868" y="5234"/>
                </a:cubicBezTo>
              </a:path>
              <a:path w="1043" h="1291">
                <a:moveTo>
                  <a:pt x="992" y="4514"/>
                </a:moveTo>
                <a:cubicBezTo>
                  <a:pt x="1073" y="4547"/>
                  <a:pt x="1200" y="4646"/>
                  <a:pt x="1265" y="4713"/>
                </a:cubicBezTo>
                <a:cubicBezTo>
                  <a:pt x="1309" y="4778"/>
                  <a:pt x="1320" y="4792"/>
                  <a:pt x="1339" y="4837"/>
                </a:cubicBezTo>
              </a:path>
              <a:path w="1043" h="1291">
                <a:moveTo>
                  <a:pt x="744" y="5804"/>
                </a:moveTo>
                <a:cubicBezTo>
                  <a:pt x="937" y="5613"/>
                  <a:pt x="1155" y="5429"/>
                  <a:pt x="1315" y="5209"/>
                </a:cubicBezTo>
                <a:cubicBezTo>
                  <a:pt x="1347" y="5165"/>
                  <a:pt x="1502" y="4986"/>
                  <a:pt x="1389" y="498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11760" y="3724200"/>
            <a:ext cx="731520" cy="1071720"/>
          </a:xfrm>
          <a:custGeom>
            <a:avLst/>
            <a:gdLst/>
            <a:ahLst/>
            <a:rect l="l" t="t" r="r" b="b"/>
            <a:pathLst>
              <a:path w="2035" h="2977">
                <a:moveTo>
                  <a:pt x="11708" y="10468"/>
                </a:moveTo>
                <a:cubicBezTo>
                  <a:pt x="11865" y="10459"/>
                  <a:pt x="12169" y="10531"/>
                  <a:pt x="11981" y="10765"/>
                </a:cubicBezTo>
                <a:cubicBezTo>
                  <a:pt x="11879" y="10892"/>
                  <a:pt x="11754" y="10892"/>
                  <a:pt x="11658" y="10840"/>
                </a:cubicBezTo>
                <a:cubicBezTo>
                  <a:pt x="11863" y="10703"/>
                  <a:pt x="11850" y="10718"/>
                  <a:pt x="12055" y="10765"/>
                </a:cubicBezTo>
                <a:cubicBezTo>
                  <a:pt x="12080" y="10765"/>
                  <a:pt x="12104" y="10765"/>
                  <a:pt x="12129" y="10765"/>
                </a:cubicBezTo>
              </a:path>
              <a:path w="2035" h="2977">
                <a:moveTo>
                  <a:pt x="12229" y="10368"/>
                </a:moveTo>
                <a:cubicBezTo>
                  <a:pt x="12347" y="10368"/>
                  <a:pt x="12459" y="10352"/>
                  <a:pt x="12576" y="10344"/>
                </a:cubicBezTo>
                <a:cubicBezTo>
                  <a:pt x="12602" y="10471"/>
                  <a:pt x="12644" y="10786"/>
                  <a:pt x="12502" y="10889"/>
                </a:cubicBezTo>
                <a:cubicBezTo>
                  <a:pt x="12461" y="10897"/>
                  <a:pt x="12419" y="10906"/>
                  <a:pt x="12378" y="10914"/>
                </a:cubicBezTo>
              </a:path>
              <a:path w="2035" h="2977">
                <a:moveTo>
                  <a:pt x="11112" y="11509"/>
                </a:moveTo>
                <a:cubicBezTo>
                  <a:pt x="10972" y="11487"/>
                  <a:pt x="10879" y="11720"/>
                  <a:pt x="10864" y="11857"/>
                </a:cubicBezTo>
                <a:cubicBezTo>
                  <a:pt x="10872" y="11890"/>
                  <a:pt x="10881" y="11923"/>
                  <a:pt x="10889" y="11956"/>
                </a:cubicBezTo>
                <a:cubicBezTo>
                  <a:pt x="11078" y="11947"/>
                  <a:pt x="11382" y="11828"/>
                  <a:pt x="11212" y="11559"/>
                </a:cubicBezTo>
                <a:cubicBezTo>
                  <a:pt x="11150" y="11461"/>
                  <a:pt x="11050" y="11524"/>
                  <a:pt x="10988" y="11559"/>
                </a:cubicBezTo>
              </a:path>
              <a:path w="2035" h="2977">
                <a:moveTo>
                  <a:pt x="12055" y="12898"/>
                </a:moveTo>
                <a:cubicBezTo>
                  <a:pt x="11996" y="12928"/>
                  <a:pt x="11924" y="13022"/>
                  <a:pt x="11857" y="13072"/>
                </a:cubicBezTo>
                <a:cubicBezTo>
                  <a:pt x="11983" y="13120"/>
                  <a:pt x="12138" y="13056"/>
                  <a:pt x="12254" y="13146"/>
                </a:cubicBezTo>
                <a:cubicBezTo>
                  <a:pt x="12503" y="13337"/>
                  <a:pt x="12021" y="13240"/>
                  <a:pt x="11981" y="13221"/>
                </a:cubicBezTo>
              </a:path>
              <a:path w="2035" h="2977">
                <a:moveTo>
                  <a:pt x="12725" y="12774"/>
                </a:moveTo>
                <a:cubicBezTo>
                  <a:pt x="12590" y="12909"/>
                  <a:pt x="12596" y="12997"/>
                  <a:pt x="12675" y="13146"/>
                </a:cubicBezTo>
                <a:cubicBezTo>
                  <a:pt x="12798" y="13076"/>
                  <a:pt x="13088" y="12849"/>
                  <a:pt x="12799" y="12725"/>
                </a:cubicBezTo>
                <a:cubicBezTo>
                  <a:pt x="12749" y="12725"/>
                  <a:pt x="12700" y="12725"/>
                  <a:pt x="12650" y="12725"/>
                </a:cubicBezTo>
              </a:path>
              <a:path w="2035" h="2977">
                <a:moveTo>
                  <a:pt x="12526" y="12254"/>
                </a:moveTo>
                <a:cubicBezTo>
                  <a:pt x="12444" y="12382"/>
                  <a:pt x="12449" y="12394"/>
                  <a:pt x="12477" y="12551"/>
                </a:cubicBezTo>
                <a:cubicBezTo>
                  <a:pt x="12660" y="12530"/>
                  <a:pt x="12807" y="12502"/>
                  <a:pt x="12750" y="12278"/>
                </a:cubicBezTo>
                <a:cubicBezTo>
                  <a:pt x="12706" y="12106"/>
                  <a:pt x="12612" y="12187"/>
                  <a:pt x="12502" y="12229"/>
                </a:cubicBezTo>
              </a:path>
              <a:path w="2035" h="2977">
                <a:moveTo>
                  <a:pt x="12601" y="11509"/>
                </a:moveTo>
                <a:cubicBezTo>
                  <a:pt x="12534" y="11487"/>
                  <a:pt x="12516" y="11483"/>
                  <a:pt x="12477" y="11460"/>
                </a:cubicBezTo>
                <a:cubicBezTo>
                  <a:pt x="12431" y="11537"/>
                  <a:pt x="12294" y="11837"/>
                  <a:pt x="12502" y="11857"/>
                </a:cubicBezTo>
                <a:cubicBezTo>
                  <a:pt x="12718" y="11878"/>
                  <a:pt x="12948" y="11456"/>
                  <a:pt x="12725" y="11336"/>
                </a:cubicBezTo>
                <a:cubicBezTo>
                  <a:pt x="12684" y="11352"/>
                  <a:pt x="12642" y="11369"/>
                  <a:pt x="12601" y="113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7920" y="2419200"/>
            <a:ext cx="974880" cy="2421000"/>
          </a:xfrm>
          <a:custGeom>
            <a:avLst/>
            <a:gdLst/>
            <a:ahLst/>
            <a:rect l="l" t="t" r="r" b="b"/>
            <a:pathLst>
              <a:path w="2705" h="6723">
                <a:moveTo>
                  <a:pt x="9773" y="6747"/>
                </a:moveTo>
                <a:cubicBezTo>
                  <a:pt x="9801" y="6747"/>
                  <a:pt x="9812" y="6745"/>
                  <a:pt x="9823" y="6722"/>
                </a:cubicBezTo>
              </a:path>
              <a:path w="2705" h="6723">
                <a:moveTo>
                  <a:pt x="9773" y="6846"/>
                </a:moveTo>
                <a:cubicBezTo>
                  <a:pt x="9816" y="6846"/>
                  <a:pt x="9841" y="6840"/>
                  <a:pt x="9872" y="6821"/>
                </a:cubicBezTo>
              </a:path>
              <a:path w="2705" h="6723">
                <a:moveTo>
                  <a:pt x="11435" y="10840"/>
                </a:moveTo>
                <a:cubicBezTo>
                  <a:pt x="11435" y="10881"/>
                  <a:pt x="11427" y="10897"/>
                  <a:pt x="11460" y="10889"/>
                </a:cubicBezTo>
              </a:path>
              <a:path w="2705" h="6723">
                <a:moveTo>
                  <a:pt x="11559" y="11708"/>
                </a:moveTo>
                <a:lnTo>
                  <a:pt x="11559" y="11708"/>
                </a:lnTo>
                <a:lnTo>
                  <a:pt x="11559" y="11708"/>
                </a:lnTo>
              </a:path>
              <a:path w="2705" h="6723">
                <a:moveTo>
                  <a:pt x="11559" y="11708"/>
                </a:moveTo>
                <a:lnTo>
                  <a:pt x="11559" y="11708"/>
                </a:lnTo>
              </a:path>
              <a:path w="2705" h="6723">
                <a:moveTo>
                  <a:pt x="11559" y="12452"/>
                </a:moveTo>
                <a:cubicBezTo>
                  <a:pt x="11583" y="12500"/>
                  <a:pt x="11589" y="12517"/>
                  <a:pt x="11633" y="12502"/>
                </a:cubicBezTo>
              </a:path>
              <a:path w="2705" h="6723">
                <a:moveTo>
                  <a:pt x="11609" y="13395"/>
                </a:moveTo>
                <a:cubicBezTo>
                  <a:pt x="11609" y="13454"/>
                  <a:pt x="11618" y="13467"/>
                  <a:pt x="11683" y="13419"/>
                </a:cubicBezTo>
              </a:path>
              <a:path w="2705" h="6723">
                <a:moveTo>
                  <a:pt x="12030" y="12923"/>
                </a:moveTo>
                <a:cubicBezTo>
                  <a:pt x="12180" y="12869"/>
                  <a:pt x="12324" y="12816"/>
                  <a:pt x="12477" y="127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2200" y="2241720"/>
            <a:ext cx="304920" cy="339480"/>
          </a:xfrm>
          <a:custGeom>
            <a:avLst/>
            <a:gdLst/>
            <a:ahLst/>
            <a:rect l="l" t="t" r="r" b="b"/>
            <a:pathLst>
              <a:path w="844" h="944">
                <a:moveTo>
                  <a:pt x="9996" y="6300"/>
                </a:moveTo>
                <a:cubicBezTo>
                  <a:pt x="10005" y="6264"/>
                  <a:pt x="10086" y="6211"/>
                  <a:pt x="10071" y="6276"/>
                </a:cubicBezTo>
                <a:cubicBezTo>
                  <a:pt x="10049" y="6319"/>
                  <a:pt x="10045" y="6331"/>
                  <a:pt x="10021" y="6350"/>
                </a:cubicBezTo>
                <a:cubicBezTo>
                  <a:pt x="10122" y="6367"/>
                  <a:pt x="10180" y="6437"/>
                  <a:pt x="10071" y="6524"/>
                </a:cubicBezTo>
                <a:cubicBezTo>
                  <a:pt x="10019" y="6565"/>
                  <a:pt x="9941" y="6563"/>
                  <a:pt x="9897" y="6548"/>
                </a:cubicBezTo>
              </a:path>
              <a:path w="844" h="944">
                <a:moveTo>
                  <a:pt x="10244" y="6226"/>
                </a:moveTo>
                <a:cubicBezTo>
                  <a:pt x="10244" y="6305"/>
                  <a:pt x="10210" y="6449"/>
                  <a:pt x="10319" y="6474"/>
                </a:cubicBezTo>
                <a:cubicBezTo>
                  <a:pt x="10401" y="6493"/>
                  <a:pt x="10418" y="6449"/>
                  <a:pt x="10468" y="6400"/>
                </a:cubicBezTo>
                <a:cubicBezTo>
                  <a:pt x="10388" y="6465"/>
                  <a:pt x="10366" y="6475"/>
                  <a:pt x="10344" y="6573"/>
                </a:cubicBezTo>
              </a:path>
              <a:path w="844" h="944">
                <a:moveTo>
                  <a:pt x="10021" y="6722"/>
                </a:moveTo>
                <a:cubicBezTo>
                  <a:pt x="10162" y="6659"/>
                  <a:pt x="10286" y="6609"/>
                  <a:pt x="10443" y="6598"/>
                </a:cubicBezTo>
                <a:cubicBezTo>
                  <a:pt x="10451" y="6598"/>
                  <a:pt x="10460" y="6598"/>
                  <a:pt x="10468" y="6598"/>
                </a:cubicBezTo>
              </a:path>
              <a:path w="844" h="944">
                <a:moveTo>
                  <a:pt x="10195" y="6896"/>
                </a:moveTo>
                <a:cubicBezTo>
                  <a:pt x="10134" y="6982"/>
                  <a:pt x="9948" y="7129"/>
                  <a:pt x="10046" y="7169"/>
                </a:cubicBezTo>
                <a:cubicBezTo>
                  <a:pt x="10071" y="7161"/>
                  <a:pt x="10095" y="7152"/>
                  <a:pt x="10120" y="7144"/>
                </a:cubicBezTo>
              </a:path>
              <a:path w="844" h="944">
                <a:moveTo>
                  <a:pt x="10319" y="6945"/>
                </a:moveTo>
                <a:cubicBezTo>
                  <a:pt x="10309" y="6997"/>
                  <a:pt x="10279" y="7042"/>
                  <a:pt x="10269" y="7094"/>
                </a:cubicBezTo>
                <a:cubicBezTo>
                  <a:pt x="10336" y="7085"/>
                  <a:pt x="10533" y="7027"/>
                  <a:pt x="10393" y="6970"/>
                </a:cubicBezTo>
                <a:cubicBezTo>
                  <a:pt x="10368" y="6962"/>
                  <a:pt x="10344" y="6953"/>
                  <a:pt x="10319" y="6945"/>
                </a:cubicBezTo>
              </a:path>
              <a:path w="844" h="944">
                <a:moveTo>
                  <a:pt x="10616" y="6846"/>
                </a:moveTo>
                <a:cubicBezTo>
                  <a:pt x="10589" y="6903"/>
                  <a:pt x="10578" y="6927"/>
                  <a:pt x="10567" y="6970"/>
                </a:cubicBezTo>
                <a:cubicBezTo>
                  <a:pt x="10634" y="7015"/>
                  <a:pt x="10739" y="7056"/>
                  <a:pt x="10740" y="6921"/>
                </a:cubicBezTo>
                <a:cubicBezTo>
                  <a:pt x="10740" y="6816"/>
                  <a:pt x="10641" y="6863"/>
                  <a:pt x="10592" y="687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7760" y="3724200"/>
            <a:ext cx="554040" cy="1339920"/>
          </a:xfrm>
          <a:custGeom>
            <a:avLst/>
            <a:gdLst/>
            <a:ahLst/>
            <a:rect l="l" t="t" r="r" b="b"/>
            <a:pathLst>
              <a:path w="1539" h="3721">
                <a:moveTo>
                  <a:pt x="10840" y="10468"/>
                </a:moveTo>
                <a:cubicBezTo>
                  <a:pt x="10805" y="10604"/>
                  <a:pt x="10712" y="10813"/>
                  <a:pt x="10716" y="10964"/>
                </a:cubicBezTo>
                <a:cubicBezTo>
                  <a:pt x="10732" y="11013"/>
                  <a:pt x="10749" y="11063"/>
                  <a:pt x="10765" y="11112"/>
                </a:cubicBezTo>
                <a:cubicBezTo>
                  <a:pt x="11006" y="11059"/>
                  <a:pt x="11218" y="10880"/>
                  <a:pt x="11063" y="10592"/>
                </a:cubicBezTo>
                <a:cubicBezTo>
                  <a:pt x="11003" y="10480"/>
                  <a:pt x="10677" y="10543"/>
                  <a:pt x="10864" y="10567"/>
                </a:cubicBezTo>
              </a:path>
              <a:path w="1539" h="3721">
                <a:moveTo>
                  <a:pt x="11757" y="11261"/>
                </a:moveTo>
                <a:cubicBezTo>
                  <a:pt x="11915" y="11183"/>
                  <a:pt x="12146" y="11207"/>
                  <a:pt x="12204" y="11435"/>
                </a:cubicBezTo>
                <a:cubicBezTo>
                  <a:pt x="12263" y="11666"/>
                  <a:pt x="11999" y="11673"/>
                  <a:pt x="11857" y="11683"/>
                </a:cubicBezTo>
                <a:cubicBezTo>
                  <a:pt x="11985" y="11600"/>
                  <a:pt x="12149" y="11467"/>
                  <a:pt x="12254" y="11658"/>
                </a:cubicBezTo>
                <a:cubicBezTo>
                  <a:pt x="12254" y="11675"/>
                  <a:pt x="12254" y="11691"/>
                  <a:pt x="12254" y="11708"/>
                </a:cubicBezTo>
              </a:path>
              <a:path w="1539" h="3721">
                <a:moveTo>
                  <a:pt x="11162" y="12328"/>
                </a:moveTo>
                <a:cubicBezTo>
                  <a:pt x="11115" y="12312"/>
                  <a:pt x="11137" y="12284"/>
                  <a:pt x="11063" y="12328"/>
                </a:cubicBezTo>
                <a:cubicBezTo>
                  <a:pt x="10867" y="12445"/>
                  <a:pt x="10850" y="12611"/>
                  <a:pt x="10889" y="12799"/>
                </a:cubicBezTo>
                <a:cubicBezTo>
                  <a:pt x="11101" y="12738"/>
                  <a:pt x="11317" y="12657"/>
                  <a:pt x="11212" y="12378"/>
                </a:cubicBezTo>
                <a:cubicBezTo>
                  <a:pt x="11167" y="12259"/>
                  <a:pt x="11130" y="12314"/>
                  <a:pt x="11063" y="12328"/>
                </a:cubicBezTo>
              </a:path>
              <a:path w="1539" h="3721">
                <a:moveTo>
                  <a:pt x="11931" y="12129"/>
                </a:moveTo>
                <a:cubicBezTo>
                  <a:pt x="11854" y="12080"/>
                  <a:pt x="11887" y="12323"/>
                  <a:pt x="11881" y="12378"/>
                </a:cubicBezTo>
                <a:cubicBezTo>
                  <a:pt x="11862" y="12495"/>
                  <a:pt x="11840" y="12516"/>
                  <a:pt x="11881" y="12576"/>
                </a:cubicBezTo>
                <a:cubicBezTo>
                  <a:pt x="12106" y="12551"/>
                  <a:pt x="12191" y="12517"/>
                  <a:pt x="12254" y="12303"/>
                </a:cubicBezTo>
                <a:cubicBezTo>
                  <a:pt x="12176" y="12365"/>
                  <a:pt x="12166" y="12475"/>
                  <a:pt x="12129" y="12576"/>
                </a:cubicBezTo>
              </a:path>
              <a:path w="1539" h="3721">
                <a:moveTo>
                  <a:pt x="11212" y="13146"/>
                </a:moveTo>
                <a:cubicBezTo>
                  <a:pt x="11047" y="13146"/>
                  <a:pt x="10997" y="13282"/>
                  <a:pt x="10964" y="13444"/>
                </a:cubicBezTo>
                <a:cubicBezTo>
                  <a:pt x="10964" y="13578"/>
                  <a:pt x="10954" y="13617"/>
                  <a:pt x="11038" y="13667"/>
                </a:cubicBezTo>
                <a:cubicBezTo>
                  <a:pt x="11198" y="13563"/>
                  <a:pt x="11507" y="13335"/>
                  <a:pt x="11237" y="13122"/>
                </a:cubicBezTo>
                <a:cubicBezTo>
                  <a:pt x="11095" y="13010"/>
                  <a:pt x="11088" y="13201"/>
                  <a:pt x="11088" y="13246"/>
                </a:cubicBezTo>
              </a:path>
              <a:path w="1539" h="3721">
                <a:moveTo>
                  <a:pt x="11013" y="10344"/>
                </a:moveTo>
                <a:cubicBezTo>
                  <a:pt x="10983" y="10428"/>
                  <a:pt x="10969" y="10438"/>
                  <a:pt x="10988" y="10542"/>
                </a:cubicBezTo>
                <a:cubicBezTo>
                  <a:pt x="11007" y="10650"/>
                  <a:pt x="11020" y="10757"/>
                  <a:pt x="11038" y="10864"/>
                </a:cubicBezTo>
                <a:cubicBezTo>
                  <a:pt x="11055" y="10968"/>
                  <a:pt x="11063" y="11053"/>
                  <a:pt x="11063" y="11162"/>
                </a:cubicBezTo>
                <a:cubicBezTo>
                  <a:pt x="11063" y="11278"/>
                  <a:pt x="11069" y="11420"/>
                  <a:pt x="11088" y="11534"/>
                </a:cubicBezTo>
                <a:cubicBezTo>
                  <a:pt x="11105" y="11636"/>
                  <a:pt x="11112" y="11726"/>
                  <a:pt x="11112" y="11832"/>
                </a:cubicBezTo>
                <a:cubicBezTo>
                  <a:pt x="11112" y="11968"/>
                  <a:pt x="11129" y="12095"/>
                  <a:pt x="11137" y="12229"/>
                </a:cubicBezTo>
                <a:cubicBezTo>
                  <a:pt x="11147" y="12395"/>
                  <a:pt x="11149" y="12561"/>
                  <a:pt x="11162" y="12725"/>
                </a:cubicBezTo>
                <a:cubicBezTo>
                  <a:pt x="11172" y="12849"/>
                  <a:pt x="11191" y="12975"/>
                  <a:pt x="11212" y="13097"/>
                </a:cubicBezTo>
                <a:cubicBezTo>
                  <a:pt x="11239" y="13254"/>
                  <a:pt x="11254" y="13413"/>
                  <a:pt x="11286" y="13568"/>
                </a:cubicBezTo>
                <a:cubicBezTo>
                  <a:pt x="11314" y="13702"/>
                  <a:pt x="11328" y="13831"/>
                  <a:pt x="11361" y="13965"/>
                </a:cubicBezTo>
                <a:cubicBezTo>
                  <a:pt x="11384" y="14013"/>
                  <a:pt x="11392" y="14028"/>
                  <a:pt x="11385" y="140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67080" y="2320920"/>
            <a:ext cx="106200" cy="304920"/>
          </a:xfrm>
          <a:custGeom>
            <a:avLst/>
            <a:gdLst/>
            <a:ahLst/>
            <a:rect l="l" t="t" r="r" b="b"/>
            <a:pathLst>
              <a:path w="299" h="845">
                <a:moveTo>
                  <a:pt x="9376" y="6524"/>
                </a:moveTo>
                <a:cubicBezTo>
                  <a:pt x="9376" y="6565"/>
                  <a:pt x="9376" y="6573"/>
                  <a:pt x="9376" y="6598"/>
                </a:cubicBezTo>
                <a:cubicBezTo>
                  <a:pt x="9409" y="6598"/>
                  <a:pt x="9481" y="6593"/>
                  <a:pt x="9500" y="6573"/>
                </a:cubicBezTo>
                <a:cubicBezTo>
                  <a:pt x="9508" y="6557"/>
                  <a:pt x="9517" y="6540"/>
                  <a:pt x="9525" y="6524"/>
                </a:cubicBezTo>
              </a:path>
              <a:path w="299" h="845">
                <a:moveTo>
                  <a:pt x="9475" y="6449"/>
                </a:moveTo>
                <a:cubicBezTo>
                  <a:pt x="9491" y="6560"/>
                  <a:pt x="9500" y="6658"/>
                  <a:pt x="9500" y="6772"/>
                </a:cubicBezTo>
                <a:cubicBezTo>
                  <a:pt x="9500" y="6780"/>
                  <a:pt x="9500" y="6788"/>
                  <a:pt x="9500" y="6796"/>
                </a:cubicBezTo>
              </a:path>
              <a:path w="299" h="845">
                <a:moveTo>
                  <a:pt x="9351" y="6921"/>
                </a:moveTo>
                <a:cubicBezTo>
                  <a:pt x="9445" y="6902"/>
                  <a:pt x="9525" y="6853"/>
                  <a:pt x="9624" y="6846"/>
                </a:cubicBezTo>
                <a:cubicBezTo>
                  <a:pt x="9632" y="6846"/>
                  <a:pt x="9641" y="6846"/>
                  <a:pt x="9649" y="6846"/>
                </a:cubicBezTo>
              </a:path>
              <a:path w="299" h="845">
                <a:moveTo>
                  <a:pt x="9401" y="7069"/>
                </a:moveTo>
                <a:cubicBezTo>
                  <a:pt x="9401" y="7191"/>
                  <a:pt x="9457" y="7174"/>
                  <a:pt x="9550" y="7119"/>
                </a:cubicBezTo>
                <a:cubicBezTo>
                  <a:pt x="9573" y="7096"/>
                  <a:pt x="9581" y="7092"/>
                  <a:pt x="9575" y="7069"/>
                </a:cubicBezTo>
              </a:path>
              <a:path w="299" h="845">
                <a:moveTo>
                  <a:pt x="9550" y="7020"/>
                </a:moveTo>
                <a:cubicBezTo>
                  <a:pt x="9510" y="7060"/>
                  <a:pt x="9525" y="7164"/>
                  <a:pt x="9525" y="7243"/>
                </a:cubicBezTo>
                <a:cubicBezTo>
                  <a:pt x="9525" y="7268"/>
                  <a:pt x="9525" y="7276"/>
                  <a:pt x="9525" y="72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68800" y="2394000"/>
            <a:ext cx="36360" cy="79200"/>
          </a:xfrm>
          <a:custGeom>
            <a:avLst/>
            <a:gdLst/>
            <a:ahLst/>
            <a:rect l="l" t="t" r="r" b="b"/>
            <a:pathLst>
              <a:path w="100" h="224">
                <a:moveTo>
                  <a:pt x="9079" y="6648"/>
                </a:moveTo>
                <a:cubicBezTo>
                  <a:pt x="9088" y="6672"/>
                  <a:pt x="9148" y="6871"/>
                  <a:pt x="9153" y="6871"/>
                </a:cubicBezTo>
                <a:cubicBezTo>
                  <a:pt x="9161" y="6863"/>
                  <a:pt x="9170" y="6854"/>
                  <a:pt x="9178" y="6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67040" y="1731960"/>
            <a:ext cx="258840" cy="179280"/>
          </a:xfrm>
          <a:custGeom>
            <a:avLst/>
            <a:gdLst/>
            <a:ahLst/>
            <a:rect l="l" t="t" r="r" b="b"/>
            <a:pathLst>
              <a:path w="721" h="497">
                <a:moveTo>
                  <a:pt x="8260" y="4837"/>
                </a:moveTo>
                <a:cubicBezTo>
                  <a:pt x="8245" y="4792"/>
                  <a:pt x="8126" y="4795"/>
                  <a:pt x="8086" y="4837"/>
                </a:cubicBezTo>
                <a:cubicBezTo>
                  <a:pt x="7952" y="4976"/>
                  <a:pt x="7957" y="5137"/>
                  <a:pt x="7987" y="5308"/>
                </a:cubicBezTo>
                <a:cubicBezTo>
                  <a:pt x="8158" y="5298"/>
                  <a:pt x="8324" y="5283"/>
                  <a:pt x="8384" y="5085"/>
                </a:cubicBezTo>
                <a:cubicBezTo>
                  <a:pt x="8421" y="4961"/>
                  <a:pt x="8345" y="4874"/>
                  <a:pt x="8235" y="4837"/>
                </a:cubicBezTo>
                <a:cubicBezTo>
                  <a:pt x="8194" y="4837"/>
                  <a:pt x="8186" y="4837"/>
                  <a:pt x="8161" y="4837"/>
                </a:cubicBezTo>
              </a:path>
              <a:path w="721" h="497">
                <a:moveTo>
                  <a:pt x="8657" y="5135"/>
                </a:moveTo>
                <a:cubicBezTo>
                  <a:pt x="8657" y="5147"/>
                  <a:pt x="8657" y="5251"/>
                  <a:pt x="8657" y="5184"/>
                </a:cubicBezTo>
              </a:path>
              <a:path w="721" h="497">
                <a:moveTo>
                  <a:pt x="8632" y="5184"/>
                </a:moveTo>
                <a:cubicBezTo>
                  <a:pt x="8632" y="5159"/>
                  <a:pt x="8632" y="5151"/>
                  <a:pt x="8607" y="5159"/>
                </a:cubicBezTo>
                <a:cubicBezTo>
                  <a:pt x="8620" y="5199"/>
                  <a:pt x="8620" y="5199"/>
                  <a:pt x="8607" y="5159"/>
                </a:cubicBezTo>
              </a:path>
              <a:path w="721" h="497">
                <a:moveTo>
                  <a:pt x="8682" y="5159"/>
                </a:moveTo>
                <a:cubicBezTo>
                  <a:pt x="8630" y="5159"/>
                  <a:pt x="8621" y="5187"/>
                  <a:pt x="8607" y="5159"/>
                </a:cubicBezTo>
                <a:cubicBezTo>
                  <a:pt x="8559" y="5065"/>
                  <a:pt x="8512" y="5141"/>
                  <a:pt x="8533" y="5209"/>
                </a:cubicBezTo>
                <a:cubicBezTo>
                  <a:pt x="8558" y="5290"/>
                  <a:pt x="8604" y="5152"/>
                  <a:pt x="8607" y="5135"/>
                </a:cubicBezTo>
                <a:cubicBezTo>
                  <a:pt x="8551" y="5149"/>
                  <a:pt x="8558" y="5220"/>
                  <a:pt x="8558" y="5184"/>
                </a:cubicBezTo>
                <a:cubicBezTo>
                  <a:pt x="8571" y="5137"/>
                  <a:pt x="8529" y="5044"/>
                  <a:pt x="8508" y="5110"/>
                </a:cubicBezTo>
                <a:cubicBezTo>
                  <a:pt x="8488" y="5187"/>
                  <a:pt x="8464" y="5205"/>
                  <a:pt x="8508" y="5234"/>
                </a:cubicBezTo>
                <a:cubicBezTo>
                  <a:pt x="8527" y="5206"/>
                  <a:pt x="8559" y="5075"/>
                  <a:pt x="8533" y="5110"/>
                </a:cubicBezTo>
                <a:cubicBezTo>
                  <a:pt x="8533" y="5118"/>
                  <a:pt x="8533" y="5127"/>
                  <a:pt x="8533" y="51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1677960"/>
            <a:ext cx="295200" cy="206280"/>
          </a:xfrm>
          <a:custGeom>
            <a:avLst/>
            <a:gdLst/>
            <a:ahLst/>
            <a:rect l="l" t="t" r="r" b="b"/>
            <a:pathLst>
              <a:path w="819" h="572">
                <a:moveTo>
                  <a:pt x="8855" y="4762"/>
                </a:moveTo>
                <a:cubicBezTo>
                  <a:pt x="8872" y="4754"/>
                  <a:pt x="8888" y="4746"/>
                  <a:pt x="8905" y="4738"/>
                </a:cubicBezTo>
                <a:cubicBezTo>
                  <a:pt x="8905" y="4786"/>
                  <a:pt x="8852" y="4893"/>
                  <a:pt x="8855" y="4911"/>
                </a:cubicBezTo>
                <a:cubicBezTo>
                  <a:pt x="8863" y="4911"/>
                  <a:pt x="8872" y="4911"/>
                  <a:pt x="8880" y="4911"/>
                </a:cubicBezTo>
                <a:cubicBezTo>
                  <a:pt x="8911" y="4942"/>
                  <a:pt x="8989" y="4878"/>
                  <a:pt x="9004" y="4986"/>
                </a:cubicBezTo>
                <a:cubicBezTo>
                  <a:pt x="9021" y="5108"/>
                  <a:pt x="8963" y="5131"/>
                  <a:pt x="8880" y="5184"/>
                </a:cubicBezTo>
              </a:path>
              <a:path w="819" h="572">
                <a:moveTo>
                  <a:pt x="9153" y="4663"/>
                </a:moveTo>
                <a:cubicBezTo>
                  <a:pt x="9153" y="4763"/>
                  <a:pt x="9156" y="4841"/>
                  <a:pt x="9128" y="4936"/>
                </a:cubicBezTo>
                <a:cubicBezTo>
                  <a:pt x="9111" y="4992"/>
                  <a:pt x="9079" y="5098"/>
                  <a:pt x="9103" y="5159"/>
                </a:cubicBezTo>
                <a:cubicBezTo>
                  <a:pt x="9120" y="5203"/>
                  <a:pt x="9151" y="5231"/>
                  <a:pt x="9203" y="5234"/>
                </a:cubicBezTo>
                <a:cubicBezTo>
                  <a:pt x="9271" y="5237"/>
                  <a:pt x="9367" y="5244"/>
                  <a:pt x="9426" y="5209"/>
                </a:cubicBezTo>
                <a:cubicBezTo>
                  <a:pt x="9498" y="5166"/>
                  <a:pt x="9484" y="5093"/>
                  <a:pt x="9475" y="5035"/>
                </a:cubicBezTo>
                <a:cubicBezTo>
                  <a:pt x="9463" y="4956"/>
                  <a:pt x="9384" y="4984"/>
                  <a:pt x="9351" y="5035"/>
                </a:cubicBezTo>
                <a:cubicBezTo>
                  <a:pt x="9321" y="5082"/>
                  <a:pt x="9302" y="5088"/>
                  <a:pt x="9302" y="5159"/>
                </a:cubicBezTo>
                <a:cubicBezTo>
                  <a:pt x="9302" y="5184"/>
                  <a:pt x="9302" y="5192"/>
                  <a:pt x="9302" y="5209"/>
                </a:cubicBezTo>
              </a:path>
              <a:path w="819" h="572">
                <a:moveTo>
                  <a:pt x="8830" y="5209"/>
                </a:moveTo>
                <a:cubicBezTo>
                  <a:pt x="8830" y="5201"/>
                  <a:pt x="8830" y="5192"/>
                  <a:pt x="8830" y="5184"/>
                </a:cubicBezTo>
                <a:cubicBezTo>
                  <a:pt x="8781" y="5184"/>
                  <a:pt x="8776" y="5190"/>
                  <a:pt x="8756" y="5159"/>
                </a:cubicBezTo>
                <a:cubicBezTo>
                  <a:pt x="8728" y="5159"/>
                  <a:pt x="8717" y="5161"/>
                  <a:pt x="8706" y="5184"/>
                </a:cubicBezTo>
              </a:path>
              <a:path w="819" h="572">
                <a:moveTo>
                  <a:pt x="8682" y="4812"/>
                </a:moveTo>
                <a:cubicBezTo>
                  <a:pt x="8706" y="4812"/>
                  <a:pt x="8715" y="4812"/>
                  <a:pt x="8731" y="4812"/>
                </a:cubicBezTo>
                <a:cubicBezTo>
                  <a:pt x="8751" y="4783"/>
                  <a:pt x="8761" y="4791"/>
                  <a:pt x="8781" y="4762"/>
                </a:cubicBezTo>
                <a:cubicBezTo>
                  <a:pt x="8834" y="4762"/>
                  <a:pt x="8863" y="4756"/>
                  <a:pt x="8905" y="47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280" y="2759040"/>
            <a:ext cx="347760" cy="384120"/>
          </a:xfrm>
          <a:custGeom>
            <a:avLst/>
            <a:gdLst/>
            <a:ahLst/>
            <a:rect l="l" t="t" r="r" b="b"/>
            <a:pathLst>
              <a:path w="969" h="1067">
                <a:moveTo>
                  <a:pt x="347" y="7888"/>
                </a:moveTo>
                <a:cubicBezTo>
                  <a:pt x="358" y="7854"/>
                  <a:pt x="428" y="7815"/>
                  <a:pt x="471" y="7789"/>
                </a:cubicBezTo>
                <a:cubicBezTo>
                  <a:pt x="488" y="7781"/>
                  <a:pt x="504" y="7772"/>
                  <a:pt x="521" y="7764"/>
                </a:cubicBezTo>
                <a:cubicBezTo>
                  <a:pt x="540" y="7868"/>
                  <a:pt x="555" y="7853"/>
                  <a:pt x="471" y="7913"/>
                </a:cubicBezTo>
                <a:cubicBezTo>
                  <a:pt x="506" y="7939"/>
                  <a:pt x="567" y="7927"/>
                  <a:pt x="571" y="7962"/>
                </a:cubicBezTo>
                <a:cubicBezTo>
                  <a:pt x="584" y="8074"/>
                  <a:pt x="532" y="8072"/>
                  <a:pt x="446" y="8111"/>
                </a:cubicBezTo>
              </a:path>
              <a:path w="969" h="1067">
                <a:moveTo>
                  <a:pt x="347" y="8483"/>
                </a:moveTo>
                <a:cubicBezTo>
                  <a:pt x="347" y="8572"/>
                  <a:pt x="472" y="8580"/>
                  <a:pt x="546" y="8558"/>
                </a:cubicBezTo>
                <a:cubicBezTo>
                  <a:pt x="571" y="8541"/>
                  <a:pt x="595" y="8525"/>
                  <a:pt x="620" y="8508"/>
                </a:cubicBezTo>
              </a:path>
              <a:path w="969" h="1067">
                <a:moveTo>
                  <a:pt x="571" y="8434"/>
                </a:moveTo>
                <a:cubicBezTo>
                  <a:pt x="561" y="8536"/>
                  <a:pt x="564" y="8607"/>
                  <a:pt x="571" y="8706"/>
                </a:cubicBezTo>
                <a:cubicBezTo>
                  <a:pt x="571" y="8731"/>
                  <a:pt x="571" y="8739"/>
                  <a:pt x="571" y="8706"/>
                </a:cubicBezTo>
              </a:path>
              <a:path w="969" h="1067">
                <a:moveTo>
                  <a:pt x="769" y="8285"/>
                </a:moveTo>
                <a:cubicBezTo>
                  <a:pt x="798" y="8334"/>
                  <a:pt x="869" y="8361"/>
                  <a:pt x="893" y="8409"/>
                </a:cubicBezTo>
              </a:path>
              <a:path w="969" h="1067">
                <a:moveTo>
                  <a:pt x="1116" y="8260"/>
                </a:moveTo>
                <a:cubicBezTo>
                  <a:pt x="1200" y="8260"/>
                  <a:pt x="1210" y="8340"/>
                  <a:pt x="1166" y="8409"/>
                </a:cubicBezTo>
                <a:cubicBezTo>
                  <a:pt x="1113" y="8493"/>
                  <a:pt x="1062" y="8507"/>
                  <a:pt x="992" y="8483"/>
                </a:cubicBezTo>
                <a:cubicBezTo>
                  <a:pt x="1039" y="8402"/>
                  <a:pt x="1059" y="8392"/>
                  <a:pt x="1141" y="8458"/>
                </a:cubicBezTo>
                <a:cubicBezTo>
                  <a:pt x="1164" y="8481"/>
                  <a:pt x="1172" y="8485"/>
                  <a:pt x="1166" y="8508"/>
                </a:cubicBezTo>
              </a:path>
              <a:path w="969" h="1067">
                <a:moveTo>
                  <a:pt x="1265" y="8260"/>
                </a:moveTo>
                <a:cubicBezTo>
                  <a:pt x="1248" y="8260"/>
                  <a:pt x="1232" y="8260"/>
                  <a:pt x="1215" y="8260"/>
                </a:cubicBezTo>
                <a:cubicBezTo>
                  <a:pt x="1241" y="8269"/>
                  <a:pt x="1282" y="8344"/>
                  <a:pt x="1290" y="8359"/>
                </a:cubicBezTo>
                <a:cubicBezTo>
                  <a:pt x="1329" y="8436"/>
                  <a:pt x="1296" y="8452"/>
                  <a:pt x="1240" y="8508"/>
                </a:cubicBezTo>
              </a:path>
              <a:path w="969" h="1067">
                <a:moveTo>
                  <a:pt x="992" y="8186"/>
                </a:moveTo>
                <a:cubicBezTo>
                  <a:pt x="1052" y="8141"/>
                  <a:pt x="1138" y="8161"/>
                  <a:pt x="1215" y="8161"/>
                </a:cubicBezTo>
                <a:cubicBezTo>
                  <a:pt x="1232" y="8161"/>
                  <a:pt x="1248" y="8161"/>
                  <a:pt x="1265" y="8161"/>
                </a:cubicBezTo>
              </a:path>
              <a:path w="969" h="1067">
                <a:moveTo>
                  <a:pt x="967" y="7764"/>
                </a:moveTo>
                <a:cubicBezTo>
                  <a:pt x="985" y="7817"/>
                  <a:pt x="1024" y="7762"/>
                  <a:pt x="1067" y="7838"/>
                </a:cubicBezTo>
                <a:cubicBezTo>
                  <a:pt x="1115" y="7922"/>
                  <a:pt x="1080" y="8008"/>
                  <a:pt x="992" y="8037"/>
                </a:cubicBezTo>
                <a:cubicBezTo>
                  <a:pt x="967" y="8037"/>
                  <a:pt x="959" y="8037"/>
                  <a:pt x="943" y="8037"/>
                </a:cubicBezTo>
                <a:cubicBezTo>
                  <a:pt x="956" y="8011"/>
                  <a:pt x="997" y="7962"/>
                  <a:pt x="1042" y="7987"/>
                </a:cubicBezTo>
                <a:cubicBezTo>
                  <a:pt x="1097" y="8018"/>
                  <a:pt x="1034" y="8052"/>
                  <a:pt x="1091" y="8012"/>
                </a:cubicBezTo>
              </a:path>
              <a:path w="969" h="1067">
                <a:moveTo>
                  <a:pt x="1240" y="7665"/>
                </a:moveTo>
                <a:cubicBezTo>
                  <a:pt x="1228" y="7700"/>
                  <a:pt x="1215" y="7707"/>
                  <a:pt x="1191" y="7764"/>
                </a:cubicBezTo>
                <a:cubicBezTo>
                  <a:pt x="1169" y="7786"/>
                  <a:pt x="1160" y="7791"/>
                  <a:pt x="1166" y="7813"/>
                </a:cubicBezTo>
                <a:cubicBezTo>
                  <a:pt x="1205" y="7813"/>
                  <a:pt x="1235" y="7798"/>
                  <a:pt x="1240" y="7838"/>
                </a:cubicBezTo>
                <a:cubicBezTo>
                  <a:pt x="1247" y="7897"/>
                  <a:pt x="1196" y="7939"/>
                  <a:pt x="1166" y="7962"/>
                </a:cubicBezTo>
                <a:cubicBezTo>
                  <a:pt x="1158" y="7970"/>
                  <a:pt x="1149" y="7979"/>
                  <a:pt x="1141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1960" y="2732040"/>
            <a:ext cx="322200" cy="357120"/>
          </a:xfrm>
          <a:custGeom>
            <a:avLst/>
            <a:gdLst/>
            <a:ahLst/>
            <a:rect l="l" t="t" r="r" b="b"/>
            <a:pathLst>
              <a:path w="894" h="993">
                <a:moveTo>
                  <a:pt x="1563" y="8111"/>
                </a:moveTo>
                <a:cubicBezTo>
                  <a:pt x="1616" y="8111"/>
                  <a:pt x="1626" y="8105"/>
                  <a:pt x="1687" y="8086"/>
                </a:cubicBezTo>
              </a:path>
              <a:path w="894" h="993">
                <a:moveTo>
                  <a:pt x="1588" y="8186"/>
                </a:moveTo>
                <a:cubicBezTo>
                  <a:pt x="1637" y="8186"/>
                  <a:pt x="1687" y="8186"/>
                  <a:pt x="1736" y="8186"/>
                </a:cubicBezTo>
              </a:path>
              <a:path w="894" h="993">
                <a:moveTo>
                  <a:pt x="2084" y="8334"/>
                </a:moveTo>
                <a:cubicBezTo>
                  <a:pt x="2066" y="8405"/>
                  <a:pt x="2018" y="8484"/>
                  <a:pt x="1984" y="8558"/>
                </a:cubicBezTo>
                <a:cubicBezTo>
                  <a:pt x="2053" y="8577"/>
                  <a:pt x="2162" y="8575"/>
                  <a:pt x="2158" y="8458"/>
                </a:cubicBezTo>
                <a:cubicBezTo>
                  <a:pt x="2155" y="8375"/>
                  <a:pt x="2144" y="8349"/>
                  <a:pt x="2084" y="8334"/>
                </a:cubicBezTo>
              </a:path>
              <a:path w="894" h="993">
                <a:moveTo>
                  <a:pt x="2406" y="8235"/>
                </a:moveTo>
                <a:cubicBezTo>
                  <a:pt x="2363" y="8337"/>
                  <a:pt x="2297" y="8413"/>
                  <a:pt x="2282" y="8533"/>
                </a:cubicBezTo>
                <a:cubicBezTo>
                  <a:pt x="2282" y="8541"/>
                  <a:pt x="2282" y="8550"/>
                  <a:pt x="2282" y="8558"/>
                </a:cubicBezTo>
                <a:cubicBezTo>
                  <a:pt x="2407" y="8508"/>
                  <a:pt x="2516" y="8468"/>
                  <a:pt x="2431" y="8310"/>
                </a:cubicBezTo>
                <a:cubicBezTo>
                  <a:pt x="2412" y="8276"/>
                  <a:pt x="2387" y="8285"/>
                  <a:pt x="2356" y="8285"/>
                </a:cubicBezTo>
              </a:path>
              <a:path w="894" h="993">
                <a:moveTo>
                  <a:pt x="2009" y="8111"/>
                </a:moveTo>
                <a:cubicBezTo>
                  <a:pt x="2132" y="8093"/>
                  <a:pt x="2281" y="8056"/>
                  <a:pt x="2406" y="8086"/>
                </a:cubicBezTo>
                <a:cubicBezTo>
                  <a:pt x="2406" y="8094"/>
                  <a:pt x="2406" y="8103"/>
                  <a:pt x="2406" y="8111"/>
                </a:cubicBezTo>
              </a:path>
              <a:path w="894" h="993">
                <a:moveTo>
                  <a:pt x="1910" y="7640"/>
                </a:moveTo>
                <a:cubicBezTo>
                  <a:pt x="1999" y="7640"/>
                  <a:pt x="2063" y="7608"/>
                  <a:pt x="2059" y="7739"/>
                </a:cubicBezTo>
                <a:cubicBezTo>
                  <a:pt x="2056" y="7842"/>
                  <a:pt x="1984" y="8140"/>
                  <a:pt x="1984" y="8037"/>
                </a:cubicBezTo>
                <a:cubicBezTo>
                  <a:pt x="1984" y="8029"/>
                  <a:pt x="1984" y="8020"/>
                  <a:pt x="1984" y="8012"/>
                </a:cubicBezTo>
              </a:path>
              <a:path w="894" h="993">
                <a:moveTo>
                  <a:pt x="2356" y="7590"/>
                </a:moveTo>
                <a:cubicBezTo>
                  <a:pt x="2336" y="7594"/>
                  <a:pt x="2217" y="7606"/>
                  <a:pt x="2208" y="7615"/>
                </a:cubicBezTo>
                <a:cubicBezTo>
                  <a:pt x="2183" y="7641"/>
                  <a:pt x="2179" y="7705"/>
                  <a:pt x="2158" y="7739"/>
                </a:cubicBezTo>
                <a:cubicBezTo>
                  <a:pt x="2214" y="7739"/>
                  <a:pt x="2374" y="7706"/>
                  <a:pt x="2406" y="7764"/>
                </a:cubicBezTo>
                <a:cubicBezTo>
                  <a:pt x="2463" y="7866"/>
                  <a:pt x="2295" y="7961"/>
                  <a:pt x="2232" y="7987"/>
                </a:cubicBezTo>
                <a:cubicBezTo>
                  <a:pt x="2224" y="7987"/>
                  <a:pt x="2216" y="7987"/>
                  <a:pt x="2208" y="798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8200" y="2963880"/>
            <a:ext cx="6276960" cy="2081160"/>
          </a:xfrm>
          <a:custGeom>
            <a:avLst/>
            <a:gdLst/>
            <a:ahLst/>
            <a:rect l="l" t="t" r="r" b="b"/>
            <a:pathLst>
              <a:path w="17439" h="5781">
                <a:moveTo>
                  <a:pt x="868" y="8235"/>
                </a:moveTo>
                <a:cubicBezTo>
                  <a:pt x="827" y="8318"/>
                  <a:pt x="786" y="8401"/>
                  <a:pt x="744" y="8483"/>
                </a:cubicBezTo>
              </a:path>
              <a:path w="17439" h="5781">
                <a:moveTo>
                  <a:pt x="1935" y="8285"/>
                </a:moveTo>
                <a:cubicBezTo>
                  <a:pt x="1886" y="8382"/>
                  <a:pt x="1850" y="8501"/>
                  <a:pt x="1786" y="8607"/>
                </a:cubicBezTo>
              </a:path>
              <a:path w="17439" h="5781">
                <a:moveTo>
                  <a:pt x="6176" y="14015"/>
                </a:moveTo>
                <a:lnTo>
                  <a:pt x="6176" y="14015"/>
                </a:lnTo>
              </a:path>
              <a:path w="17439" h="5781">
                <a:moveTo>
                  <a:pt x="18157" y="13246"/>
                </a:moveTo>
                <a:cubicBezTo>
                  <a:pt x="18165" y="13262"/>
                  <a:pt x="18174" y="13279"/>
                  <a:pt x="18182" y="13295"/>
                </a:cubicBezTo>
              </a:path>
              <a:path w="17439" h="5781">
                <a:moveTo>
                  <a:pt x="18182" y="13295"/>
                </a:moveTo>
                <a:lnTo>
                  <a:pt x="18182" y="13295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4280" y="1731960"/>
            <a:ext cx="517680" cy="206280"/>
          </a:xfrm>
          <a:custGeom>
            <a:avLst/>
            <a:gdLst/>
            <a:ahLst/>
            <a:rect l="l" t="t" r="r" b="b"/>
            <a:pathLst>
              <a:path w="1440" h="572">
                <a:moveTo>
                  <a:pt x="3646" y="4812"/>
                </a:moveTo>
                <a:cubicBezTo>
                  <a:pt x="3526" y="4836"/>
                  <a:pt x="3500" y="4958"/>
                  <a:pt x="3448" y="5060"/>
                </a:cubicBezTo>
                <a:cubicBezTo>
                  <a:pt x="3389" y="5174"/>
                  <a:pt x="3379" y="5214"/>
                  <a:pt x="3398" y="5333"/>
                </a:cubicBezTo>
                <a:cubicBezTo>
                  <a:pt x="3534" y="5333"/>
                  <a:pt x="3623" y="5342"/>
                  <a:pt x="3721" y="5234"/>
                </a:cubicBezTo>
                <a:cubicBezTo>
                  <a:pt x="3786" y="5162"/>
                  <a:pt x="3788" y="5016"/>
                  <a:pt x="3746" y="4936"/>
                </a:cubicBezTo>
                <a:cubicBezTo>
                  <a:pt x="3716" y="4878"/>
                  <a:pt x="3700" y="4877"/>
                  <a:pt x="3646" y="4862"/>
                </a:cubicBezTo>
              </a:path>
              <a:path w="1440" h="572">
                <a:moveTo>
                  <a:pt x="3870" y="5383"/>
                </a:moveTo>
                <a:cubicBezTo>
                  <a:pt x="3818" y="5383"/>
                  <a:pt x="3809" y="5355"/>
                  <a:pt x="3795" y="5383"/>
                </a:cubicBezTo>
              </a:path>
              <a:path w="1440" h="572">
                <a:moveTo>
                  <a:pt x="4093" y="4986"/>
                </a:moveTo>
                <a:cubicBezTo>
                  <a:pt x="4080" y="4982"/>
                  <a:pt x="4039" y="4936"/>
                  <a:pt x="4068" y="4911"/>
                </a:cubicBezTo>
                <a:cubicBezTo>
                  <a:pt x="4113" y="4872"/>
                  <a:pt x="4210" y="4848"/>
                  <a:pt x="4266" y="4837"/>
                </a:cubicBezTo>
                <a:cubicBezTo>
                  <a:pt x="4266" y="4931"/>
                  <a:pt x="4222" y="5022"/>
                  <a:pt x="4192" y="5110"/>
                </a:cubicBezTo>
                <a:cubicBezTo>
                  <a:pt x="4165" y="5192"/>
                  <a:pt x="4132" y="5273"/>
                  <a:pt x="4118" y="5358"/>
                </a:cubicBezTo>
              </a:path>
              <a:path w="1440" h="572">
                <a:moveTo>
                  <a:pt x="4688" y="4812"/>
                </a:moveTo>
                <a:cubicBezTo>
                  <a:pt x="4636" y="4847"/>
                  <a:pt x="4529" y="4801"/>
                  <a:pt x="4514" y="4862"/>
                </a:cubicBezTo>
                <a:cubicBezTo>
                  <a:pt x="4514" y="4961"/>
                  <a:pt x="4514" y="4994"/>
                  <a:pt x="4514" y="5060"/>
                </a:cubicBezTo>
                <a:cubicBezTo>
                  <a:pt x="4514" y="5068"/>
                  <a:pt x="4514" y="5077"/>
                  <a:pt x="4514" y="5085"/>
                </a:cubicBezTo>
                <a:cubicBezTo>
                  <a:pt x="4547" y="5019"/>
                  <a:pt x="4657" y="4997"/>
                  <a:pt x="4738" y="5011"/>
                </a:cubicBezTo>
                <a:cubicBezTo>
                  <a:pt x="4861" y="5032"/>
                  <a:pt x="4803" y="5209"/>
                  <a:pt x="4738" y="5259"/>
                </a:cubicBezTo>
                <a:cubicBezTo>
                  <a:pt x="4669" y="5312"/>
                  <a:pt x="4549" y="5269"/>
                  <a:pt x="4514" y="5283"/>
                </a:cubicBezTo>
                <a:cubicBezTo>
                  <a:pt x="4514" y="5291"/>
                  <a:pt x="4514" y="5300"/>
                  <a:pt x="4514" y="530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26120" y="2438280"/>
            <a:ext cx="1446120" cy="204840"/>
          </a:xfrm>
          <a:custGeom>
            <a:avLst/>
            <a:gdLst/>
            <a:ahLst/>
            <a:rect l="l" t="t" r="r" b="b"/>
            <a:pathLst>
              <a:path w="4019" h="571">
                <a:moveTo>
                  <a:pt x="17016" y="6871"/>
                </a:moveTo>
                <a:cubicBezTo>
                  <a:pt x="17104" y="6839"/>
                  <a:pt x="17181" y="6813"/>
                  <a:pt x="17264" y="6772"/>
                </a:cubicBezTo>
              </a:path>
              <a:path w="4019" h="571">
                <a:moveTo>
                  <a:pt x="17264" y="6772"/>
                </a:moveTo>
                <a:lnTo>
                  <a:pt x="17264" y="6772"/>
                </a:lnTo>
              </a:path>
              <a:path w="4019" h="571">
                <a:moveTo>
                  <a:pt x="19248" y="7045"/>
                </a:moveTo>
                <a:cubicBezTo>
                  <a:pt x="19336" y="7209"/>
                  <a:pt x="19418" y="7297"/>
                  <a:pt x="19224" y="7342"/>
                </a:cubicBezTo>
              </a:path>
              <a:path w="4019" h="571">
                <a:moveTo>
                  <a:pt x="20985" y="6821"/>
                </a:moveTo>
                <a:cubicBezTo>
                  <a:pt x="21047" y="7009"/>
                  <a:pt x="21060" y="7083"/>
                  <a:pt x="20910" y="72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7920" y="2081160"/>
            <a:ext cx="3340080" cy="936720"/>
          </a:xfrm>
          <a:custGeom>
            <a:avLst/>
            <a:gdLst/>
            <a:ahLst/>
            <a:rect l="l" t="t" r="r" b="b"/>
            <a:pathLst>
              <a:path w="9278" h="2606">
                <a:moveTo>
                  <a:pt x="19323" y="8111"/>
                </a:moveTo>
                <a:cubicBezTo>
                  <a:pt x="19354" y="8111"/>
                  <a:pt x="19307" y="8135"/>
                  <a:pt x="19298" y="8210"/>
                </a:cubicBezTo>
                <a:cubicBezTo>
                  <a:pt x="19290" y="8278"/>
                  <a:pt x="19296" y="8330"/>
                  <a:pt x="19323" y="8384"/>
                </a:cubicBezTo>
                <a:cubicBezTo>
                  <a:pt x="19410" y="8377"/>
                  <a:pt x="19595" y="8325"/>
                  <a:pt x="19546" y="8186"/>
                </a:cubicBezTo>
                <a:cubicBezTo>
                  <a:pt x="19503" y="8063"/>
                  <a:pt x="19360" y="8082"/>
                  <a:pt x="19273" y="8111"/>
                </a:cubicBezTo>
              </a:path>
              <a:path w="9278" h="2606">
                <a:moveTo>
                  <a:pt x="13022" y="6003"/>
                </a:moveTo>
                <a:cubicBezTo>
                  <a:pt x="13137" y="5995"/>
                  <a:pt x="13255" y="5990"/>
                  <a:pt x="13370" y="5978"/>
                </a:cubicBezTo>
                <a:cubicBezTo>
                  <a:pt x="13594" y="5955"/>
                  <a:pt x="13815" y="5970"/>
                  <a:pt x="14039" y="5953"/>
                </a:cubicBezTo>
                <a:cubicBezTo>
                  <a:pt x="14281" y="5935"/>
                  <a:pt x="14515" y="5953"/>
                  <a:pt x="14759" y="5953"/>
                </a:cubicBezTo>
                <a:cubicBezTo>
                  <a:pt x="14969" y="5953"/>
                  <a:pt x="15171" y="5941"/>
                  <a:pt x="15379" y="5928"/>
                </a:cubicBezTo>
                <a:cubicBezTo>
                  <a:pt x="15560" y="5917"/>
                  <a:pt x="15744" y="5928"/>
                  <a:pt x="15925" y="5928"/>
                </a:cubicBezTo>
              </a:path>
              <a:path w="9278" h="2606">
                <a:moveTo>
                  <a:pt x="16718" y="6821"/>
                </a:moveTo>
                <a:cubicBezTo>
                  <a:pt x="16800" y="6821"/>
                  <a:pt x="16863" y="6814"/>
                  <a:pt x="16942" y="6796"/>
                </a:cubicBezTo>
                <a:cubicBezTo>
                  <a:pt x="16942" y="6902"/>
                  <a:pt x="16889" y="7046"/>
                  <a:pt x="16917" y="7144"/>
                </a:cubicBezTo>
                <a:cubicBezTo>
                  <a:pt x="16925" y="7144"/>
                  <a:pt x="16934" y="7144"/>
                  <a:pt x="16942" y="7144"/>
                </a:cubicBezTo>
              </a:path>
              <a:path w="9278" h="2606">
                <a:moveTo>
                  <a:pt x="17090" y="6821"/>
                </a:moveTo>
                <a:cubicBezTo>
                  <a:pt x="17074" y="6986"/>
                  <a:pt x="17119" y="6892"/>
                  <a:pt x="17214" y="7020"/>
                </a:cubicBezTo>
                <a:cubicBezTo>
                  <a:pt x="17313" y="7154"/>
                  <a:pt x="17142" y="7164"/>
                  <a:pt x="17066" y="7169"/>
                </a:cubicBezTo>
                <a:cubicBezTo>
                  <a:pt x="17066" y="7128"/>
                  <a:pt x="17066" y="7086"/>
                  <a:pt x="17066" y="7045"/>
                </a:cubicBezTo>
              </a:path>
              <a:path w="9278" h="2606">
                <a:moveTo>
                  <a:pt x="17413" y="6722"/>
                </a:moveTo>
                <a:cubicBezTo>
                  <a:pt x="17413" y="6863"/>
                  <a:pt x="17413" y="7003"/>
                  <a:pt x="17413" y="7144"/>
                </a:cubicBezTo>
              </a:path>
              <a:path w="9278" h="2606">
                <a:moveTo>
                  <a:pt x="17859" y="7218"/>
                </a:moveTo>
                <a:cubicBezTo>
                  <a:pt x="17881" y="7370"/>
                  <a:pt x="17907" y="7383"/>
                  <a:pt x="17810" y="7491"/>
                </a:cubicBezTo>
              </a:path>
              <a:path w="9278" h="2606">
                <a:moveTo>
                  <a:pt x="18529" y="6276"/>
                </a:moveTo>
                <a:cubicBezTo>
                  <a:pt x="18549" y="6243"/>
                  <a:pt x="18673" y="6131"/>
                  <a:pt x="18728" y="6201"/>
                </a:cubicBezTo>
                <a:cubicBezTo>
                  <a:pt x="18786" y="6275"/>
                  <a:pt x="18704" y="6349"/>
                  <a:pt x="18653" y="6375"/>
                </a:cubicBezTo>
                <a:cubicBezTo>
                  <a:pt x="18727" y="6390"/>
                  <a:pt x="18849" y="6423"/>
                  <a:pt x="18777" y="6524"/>
                </a:cubicBezTo>
                <a:cubicBezTo>
                  <a:pt x="18734" y="6584"/>
                  <a:pt x="18642" y="6589"/>
                  <a:pt x="18579" y="6598"/>
                </a:cubicBezTo>
              </a:path>
              <a:path w="9278" h="2606">
                <a:moveTo>
                  <a:pt x="18405" y="6772"/>
                </a:moveTo>
                <a:cubicBezTo>
                  <a:pt x="18576" y="6731"/>
                  <a:pt x="18750" y="6703"/>
                  <a:pt x="18926" y="6697"/>
                </a:cubicBezTo>
                <a:cubicBezTo>
                  <a:pt x="18967" y="6697"/>
                  <a:pt x="18975" y="6697"/>
                  <a:pt x="19000" y="6697"/>
                </a:cubicBezTo>
              </a:path>
              <a:path w="9278" h="2606">
                <a:moveTo>
                  <a:pt x="18579" y="6970"/>
                </a:moveTo>
                <a:cubicBezTo>
                  <a:pt x="18579" y="7026"/>
                  <a:pt x="18569" y="7077"/>
                  <a:pt x="18628" y="7094"/>
                </a:cubicBezTo>
                <a:cubicBezTo>
                  <a:pt x="18720" y="7117"/>
                  <a:pt x="18745" y="7128"/>
                  <a:pt x="18802" y="7094"/>
                </a:cubicBezTo>
              </a:path>
              <a:path w="9278" h="2606">
                <a:moveTo>
                  <a:pt x="18777" y="6921"/>
                </a:moveTo>
                <a:cubicBezTo>
                  <a:pt x="18777" y="7056"/>
                  <a:pt x="18781" y="7198"/>
                  <a:pt x="18802" y="7317"/>
                </a:cubicBezTo>
                <a:cubicBezTo>
                  <a:pt x="18802" y="7359"/>
                  <a:pt x="18802" y="7384"/>
                  <a:pt x="18802" y="7342"/>
                </a:cubicBezTo>
              </a:path>
              <a:path w="9278" h="2606">
                <a:moveTo>
                  <a:pt x="20017" y="6524"/>
                </a:moveTo>
                <a:cubicBezTo>
                  <a:pt x="19901" y="6582"/>
                  <a:pt x="19832" y="6718"/>
                  <a:pt x="19794" y="6846"/>
                </a:cubicBezTo>
                <a:cubicBezTo>
                  <a:pt x="19794" y="6863"/>
                  <a:pt x="19794" y="6879"/>
                  <a:pt x="19794" y="6896"/>
                </a:cubicBezTo>
                <a:cubicBezTo>
                  <a:pt x="19944" y="6908"/>
                  <a:pt x="20081" y="6858"/>
                  <a:pt x="20092" y="6672"/>
                </a:cubicBezTo>
                <a:cubicBezTo>
                  <a:pt x="20096" y="6608"/>
                  <a:pt x="19965" y="6612"/>
                  <a:pt x="19968" y="6548"/>
                </a:cubicBezTo>
                <a:cubicBezTo>
                  <a:pt x="19976" y="6548"/>
                  <a:pt x="19985" y="6548"/>
                  <a:pt x="19993" y="6548"/>
                </a:cubicBezTo>
              </a:path>
              <a:path w="9278" h="2606">
                <a:moveTo>
                  <a:pt x="20315" y="6722"/>
                </a:moveTo>
                <a:cubicBezTo>
                  <a:pt x="20315" y="6738"/>
                  <a:pt x="20315" y="6842"/>
                  <a:pt x="20315" y="6772"/>
                </a:cubicBezTo>
              </a:path>
              <a:path w="9278" h="2606">
                <a:moveTo>
                  <a:pt x="20489" y="6524"/>
                </a:moveTo>
                <a:cubicBezTo>
                  <a:pt x="20505" y="6456"/>
                  <a:pt x="20572" y="6443"/>
                  <a:pt x="20638" y="6424"/>
                </a:cubicBezTo>
                <a:cubicBezTo>
                  <a:pt x="20707" y="6404"/>
                  <a:pt x="20745" y="6400"/>
                  <a:pt x="20811" y="6400"/>
                </a:cubicBezTo>
                <a:cubicBezTo>
                  <a:pt x="20799" y="6542"/>
                  <a:pt x="20753" y="6641"/>
                  <a:pt x="20712" y="6772"/>
                </a:cubicBezTo>
                <a:cubicBezTo>
                  <a:pt x="20712" y="6780"/>
                  <a:pt x="20712" y="6788"/>
                  <a:pt x="20712" y="6796"/>
                </a:cubicBezTo>
              </a:path>
              <a:path w="9278" h="2606">
                <a:moveTo>
                  <a:pt x="21828" y="5953"/>
                </a:moveTo>
                <a:cubicBezTo>
                  <a:pt x="21883" y="5935"/>
                  <a:pt x="21818" y="5832"/>
                  <a:pt x="21779" y="5804"/>
                </a:cubicBezTo>
                <a:cubicBezTo>
                  <a:pt x="21648" y="5708"/>
                  <a:pt x="21567" y="5869"/>
                  <a:pt x="21580" y="5978"/>
                </a:cubicBezTo>
                <a:cubicBezTo>
                  <a:pt x="21594" y="6095"/>
                  <a:pt x="21722" y="5995"/>
                  <a:pt x="21754" y="5953"/>
                </a:cubicBezTo>
                <a:cubicBezTo>
                  <a:pt x="21762" y="5937"/>
                  <a:pt x="21771" y="5920"/>
                  <a:pt x="21779" y="5904"/>
                </a:cubicBezTo>
                <a:cubicBezTo>
                  <a:pt x="21779" y="5995"/>
                  <a:pt x="21786" y="6114"/>
                  <a:pt x="21803" y="6201"/>
                </a:cubicBezTo>
                <a:cubicBezTo>
                  <a:pt x="21823" y="6242"/>
                  <a:pt x="21832" y="6248"/>
                  <a:pt x="21828" y="6276"/>
                </a:cubicBezTo>
              </a:path>
              <a:path w="9278" h="2606">
                <a:moveTo>
                  <a:pt x="21456" y="6573"/>
                </a:moveTo>
                <a:cubicBezTo>
                  <a:pt x="21651" y="6513"/>
                  <a:pt x="21849" y="6443"/>
                  <a:pt x="22051" y="6424"/>
                </a:cubicBezTo>
                <a:cubicBezTo>
                  <a:pt x="22108" y="6419"/>
                  <a:pt x="22092" y="6423"/>
                  <a:pt x="22126" y="6474"/>
                </a:cubicBezTo>
              </a:path>
              <a:path w="9278" h="2606">
                <a:moveTo>
                  <a:pt x="21630" y="6672"/>
                </a:moveTo>
                <a:cubicBezTo>
                  <a:pt x="21721" y="6679"/>
                  <a:pt x="21924" y="6685"/>
                  <a:pt x="21853" y="6846"/>
                </a:cubicBezTo>
                <a:cubicBezTo>
                  <a:pt x="21802" y="6962"/>
                  <a:pt x="21609" y="6957"/>
                  <a:pt x="21506" y="6970"/>
                </a:cubicBezTo>
                <a:cubicBezTo>
                  <a:pt x="21581" y="6886"/>
                  <a:pt x="21619" y="6841"/>
                  <a:pt x="21729" y="6896"/>
                </a:cubicBezTo>
                <a:cubicBezTo>
                  <a:pt x="21769" y="6916"/>
                  <a:pt x="21776" y="6925"/>
                  <a:pt x="21803" y="6921"/>
                </a:cubicBezTo>
              </a:path>
              <a:path w="9278" h="2606">
                <a:moveTo>
                  <a:pt x="22225" y="6548"/>
                </a:moveTo>
                <a:cubicBezTo>
                  <a:pt x="22123" y="6589"/>
                  <a:pt x="22109" y="6607"/>
                  <a:pt x="22101" y="6722"/>
                </a:cubicBezTo>
                <a:cubicBezTo>
                  <a:pt x="22101" y="6730"/>
                  <a:pt x="22101" y="6739"/>
                  <a:pt x="22101" y="6747"/>
                </a:cubicBezTo>
                <a:cubicBezTo>
                  <a:pt x="22167" y="6747"/>
                  <a:pt x="22233" y="6747"/>
                  <a:pt x="22299" y="6747"/>
                </a:cubicBezTo>
                <a:cubicBezTo>
                  <a:pt x="22272" y="6855"/>
                  <a:pt x="22212" y="6874"/>
                  <a:pt x="22101" y="68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41920" y="1527120"/>
            <a:ext cx="2054160" cy="1197000"/>
          </a:xfrm>
          <a:custGeom>
            <a:avLst/>
            <a:gdLst/>
            <a:ahLst/>
            <a:rect l="l" t="t" r="r" b="b"/>
            <a:pathLst>
              <a:path w="5706" h="3324">
                <a:moveTo>
                  <a:pt x="14114" y="5655"/>
                </a:moveTo>
                <a:cubicBezTo>
                  <a:pt x="14114" y="5710"/>
                  <a:pt x="14140" y="5601"/>
                  <a:pt x="14163" y="5581"/>
                </a:cubicBezTo>
                <a:cubicBezTo>
                  <a:pt x="14224" y="5528"/>
                  <a:pt x="14312" y="5531"/>
                  <a:pt x="14387" y="5531"/>
                </a:cubicBezTo>
                <a:cubicBezTo>
                  <a:pt x="14387" y="5675"/>
                  <a:pt x="14389" y="5810"/>
                  <a:pt x="14362" y="5953"/>
                </a:cubicBezTo>
                <a:cubicBezTo>
                  <a:pt x="14354" y="5995"/>
                  <a:pt x="14337" y="6070"/>
                  <a:pt x="14337" y="6028"/>
                </a:cubicBezTo>
                <a:cubicBezTo>
                  <a:pt x="14337" y="5958"/>
                  <a:pt x="14365" y="5915"/>
                  <a:pt x="14436" y="5879"/>
                </a:cubicBezTo>
              </a:path>
              <a:path w="5706" h="3324">
                <a:moveTo>
                  <a:pt x="14858" y="5531"/>
                </a:moveTo>
                <a:cubicBezTo>
                  <a:pt x="14713" y="5531"/>
                  <a:pt x="14699" y="5531"/>
                  <a:pt x="14660" y="5680"/>
                </a:cubicBezTo>
                <a:cubicBezTo>
                  <a:pt x="14660" y="5688"/>
                  <a:pt x="14660" y="5697"/>
                  <a:pt x="14660" y="5705"/>
                </a:cubicBezTo>
                <a:cubicBezTo>
                  <a:pt x="14719" y="5695"/>
                  <a:pt x="14861" y="5633"/>
                  <a:pt x="14908" y="5705"/>
                </a:cubicBezTo>
                <a:cubicBezTo>
                  <a:pt x="15025" y="5886"/>
                  <a:pt x="14847" y="5993"/>
                  <a:pt x="14709" y="6028"/>
                </a:cubicBezTo>
                <a:cubicBezTo>
                  <a:pt x="14668" y="6036"/>
                  <a:pt x="14626" y="6044"/>
                  <a:pt x="14585" y="6052"/>
                </a:cubicBezTo>
              </a:path>
              <a:path w="5706" h="3324">
                <a:moveTo>
                  <a:pt x="13519" y="6449"/>
                </a:moveTo>
                <a:cubicBezTo>
                  <a:pt x="13384" y="6415"/>
                  <a:pt x="13321" y="6562"/>
                  <a:pt x="13246" y="6672"/>
                </a:cubicBezTo>
                <a:cubicBezTo>
                  <a:pt x="13190" y="6765"/>
                  <a:pt x="13139" y="6780"/>
                  <a:pt x="13196" y="6821"/>
                </a:cubicBezTo>
                <a:cubicBezTo>
                  <a:pt x="13362" y="6821"/>
                  <a:pt x="13599" y="6769"/>
                  <a:pt x="13494" y="6524"/>
                </a:cubicBezTo>
                <a:cubicBezTo>
                  <a:pt x="13408" y="6325"/>
                  <a:pt x="13381" y="6479"/>
                  <a:pt x="13395" y="6573"/>
                </a:cubicBezTo>
              </a:path>
              <a:path w="5706" h="3324">
                <a:moveTo>
                  <a:pt x="13767" y="6697"/>
                </a:moveTo>
                <a:cubicBezTo>
                  <a:pt x="13799" y="6774"/>
                  <a:pt x="13769" y="6771"/>
                  <a:pt x="13841" y="6747"/>
                </a:cubicBezTo>
              </a:path>
              <a:path w="5706" h="3324">
                <a:moveTo>
                  <a:pt x="14163" y="6375"/>
                </a:moveTo>
                <a:cubicBezTo>
                  <a:pt x="14248" y="6364"/>
                  <a:pt x="14326" y="6350"/>
                  <a:pt x="14412" y="6350"/>
                </a:cubicBezTo>
                <a:cubicBezTo>
                  <a:pt x="14412" y="6472"/>
                  <a:pt x="14404" y="6606"/>
                  <a:pt x="14362" y="6722"/>
                </a:cubicBezTo>
                <a:cubicBezTo>
                  <a:pt x="14354" y="6730"/>
                  <a:pt x="14345" y="6739"/>
                  <a:pt x="14337" y="6747"/>
                </a:cubicBezTo>
              </a:path>
              <a:path w="5706" h="3324">
                <a:moveTo>
                  <a:pt x="14833" y="6300"/>
                </a:moveTo>
                <a:cubicBezTo>
                  <a:pt x="14799" y="6306"/>
                  <a:pt x="14675" y="6311"/>
                  <a:pt x="14660" y="6350"/>
                </a:cubicBezTo>
                <a:cubicBezTo>
                  <a:pt x="14641" y="6401"/>
                  <a:pt x="14648" y="6427"/>
                  <a:pt x="14610" y="6474"/>
                </a:cubicBezTo>
                <a:cubicBezTo>
                  <a:pt x="14694" y="6474"/>
                  <a:pt x="14779" y="6421"/>
                  <a:pt x="14858" y="6474"/>
                </a:cubicBezTo>
                <a:cubicBezTo>
                  <a:pt x="14947" y="6534"/>
                  <a:pt x="14962" y="6696"/>
                  <a:pt x="14833" y="6722"/>
                </a:cubicBezTo>
                <a:cubicBezTo>
                  <a:pt x="14697" y="6722"/>
                  <a:pt x="14658" y="6728"/>
                  <a:pt x="14585" y="6672"/>
                </a:cubicBezTo>
              </a:path>
              <a:path w="5706" h="3324">
                <a:moveTo>
                  <a:pt x="15379" y="6276"/>
                </a:moveTo>
                <a:cubicBezTo>
                  <a:pt x="15395" y="6385"/>
                  <a:pt x="15404" y="6485"/>
                  <a:pt x="15404" y="6598"/>
                </a:cubicBezTo>
                <a:cubicBezTo>
                  <a:pt x="15404" y="6606"/>
                  <a:pt x="15404" y="6615"/>
                  <a:pt x="15404" y="6623"/>
                </a:cubicBezTo>
              </a:path>
              <a:path w="5706" h="3324">
                <a:moveTo>
                  <a:pt x="13593" y="7144"/>
                </a:moveTo>
                <a:cubicBezTo>
                  <a:pt x="13528" y="7144"/>
                  <a:pt x="13478" y="7130"/>
                  <a:pt x="13444" y="7218"/>
                </a:cubicBezTo>
                <a:cubicBezTo>
                  <a:pt x="13392" y="7353"/>
                  <a:pt x="13375" y="7623"/>
                  <a:pt x="13593" y="7541"/>
                </a:cubicBezTo>
                <a:cubicBezTo>
                  <a:pt x="13751" y="7482"/>
                  <a:pt x="13839" y="7309"/>
                  <a:pt x="13717" y="7169"/>
                </a:cubicBezTo>
                <a:cubicBezTo>
                  <a:pt x="13668" y="7113"/>
                  <a:pt x="13648" y="7119"/>
                  <a:pt x="13593" y="7119"/>
                </a:cubicBezTo>
              </a:path>
              <a:path w="5706" h="3324">
                <a:moveTo>
                  <a:pt x="15131" y="4539"/>
                </a:moveTo>
                <a:cubicBezTo>
                  <a:pt x="15150" y="4530"/>
                  <a:pt x="15213" y="4504"/>
                  <a:pt x="15255" y="4490"/>
                </a:cubicBezTo>
                <a:cubicBezTo>
                  <a:pt x="15347" y="4458"/>
                  <a:pt x="15432" y="4465"/>
                  <a:pt x="15528" y="4465"/>
                </a:cubicBezTo>
                <a:cubicBezTo>
                  <a:pt x="15648" y="4465"/>
                  <a:pt x="15763" y="4453"/>
                  <a:pt x="15875" y="4440"/>
                </a:cubicBezTo>
                <a:cubicBezTo>
                  <a:pt x="15997" y="4426"/>
                  <a:pt x="16127" y="4426"/>
                  <a:pt x="16247" y="4415"/>
                </a:cubicBezTo>
                <a:cubicBezTo>
                  <a:pt x="16372" y="4403"/>
                  <a:pt x="16496" y="4414"/>
                  <a:pt x="16619" y="4390"/>
                </a:cubicBezTo>
                <a:cubicBezTo>
                  <a:pt x="16732" y="4368"/>
                  <a:pt x="16851" y="4329"/>
                  <a:pt x="16966" y="4316"/>
                </a:cubicBezTo>
                <a:cubicBezTo>
                  <a:pt x="17097" y="4301"/>
                  <a:pt x="17233" y="4309"/>
                  <a:pt x="17363" y="4291"/>
                </a:cubicBezTo>
                <a:cubicBezTo>
                  <a:pt x="17467" y="4276"/>
                  <a:pt x="17583" y="4284"/>
                  <a:pt x="17686" y="4266"/>
                </a:cubicBezTo>
                <a:cubicBezTo>
                  <a:pt x="17828" y="4241"/>
                  <a:pt x="17944" y="4273"/>
                  <a:pt x="18083" y="4266"/>
                </a:cubicBezTo>
                <a:cubicBezTo>
                  <a:pt x="18222" y="4259"/>
                  <a:pt x="18361" y="4242"/>
                  <a:pt x="18504" y="4242"/>
                </a:cubicBezTo>
                <a:cubicBezTo>
                  <a:pt x="18628" y="4242"/>
                  <a:pt x="18752" y="4242"/>
                  <a:pt x="18876" y="4242"/>
                </a:cubicBezTo>
              </a:path>
              <a:path w="5706" h="3324">
                <a:moveTo>
                  <a:pt x="15329" y="4440"/>
                </a:moveTo>
                <a:cubicBezTo>
                  <a:pt x="15489" y="4440"/>
                  <a:pt x="15642" y="4462"/>
                  <a:pt x="15801" y="4465"/>
                </a:cubicBezTo>
                <a:cubicBezTo>
                  <a:pt x="16014" y="4469"/>
                  <a:pt x="16235" y="4464"/>
                  <a:pt x="16446" y="4440"/>
                </a:cubicBezTo>
                <a:cubicBezTo>
                  <a:pt x="16598" y="4423"/>
                  <a:pt x="16749" y="4447"/>
                  <a:pt x="16892" y="4440"/>
                </a:cubicBezTo>
                <a:cubicBezTo>
                  <a:pt x="17033" y="4433"/>
                  <a:pt x="17170" y="4415"/>
                  <a:pt x="17314" y="4415"/>
                </a:cubicBezTo>
                <a:cubicBezTo>
                  <a:pt x="17450" y="4415"/>
                  <a:pt x="17575" y="4440"/>
                  <a:pt x="17711" y="4440"/>
                </a:cubicBezTo>
                <a:cubicBezTo>
                  <a:pt x="17853" y="4440"/>
                  <a:pt x="17988" y="4465"/>
                  <a:pt x="18132" y="4465"/>
                </a:cubicBezTo>
                <a:cubicBezTo>
                  <a:pt x="18284" y="4465"/>
                  <a:pt x="18428" y="4444"/>
                  <a:pt x="18579" y="4440"/>
                </a:cubicBezTo>
                <a:cubicBezTo>
                  <a:pt x="18678" y="4437"/>
                  <a:pt x="18777" y="4440"/>
                  <a:pt x="18876" y="444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34120" y="2714760"/>
            <a:ext cx="1332000" cy="401400"/>
          </a:xfrm>
          <a:custGeom>
            <a:avLst/>
            <a:gdLst/>
            <a:ahLst/>
            <a:rect l="l" t="t" r="r" b="b"/>
            <a:pathLst>
              <a:path w="3697" h="1117">
                <a:moveTo>
                  <a:pt x="22076" y="7714"/>
                </a:moveTo>
                <a:cubicBezTo>
                  <a:pt x="21999" y="7714"/>
                  <a:pt x="21951" y="7745"/>
                  <a:pt x="21903" y="7813"/>
                </a:cubicBezTo>
                <a:cubicBezTo>
                  <a:pt x="21830" y="7918"/>
                  <a:pt x="21837" y="7998"/>
                  <a:pt x="21853" y="8111"/>
                </a:cubicBezTo>
                <a:cubicBezTo>
                  <a:pt x="21978" y="8129"/>
                  <a:pt x="22064" y="8158"/>
                  <a:pt x="22151" y="8037"/>
                </a:cubicBezTo>
                <a:cubicBezTo>
                  <a:pt x="22209" y="7956"/>
                  <a:pt x="22168" y="7867"/>
                  <a:pt x="22101" y="7813"/>
                </a:cubicBezTo>
                <a:cubicBezTo>
                  <a:pt x="22048" y="7770"/>
                  <a:pt x="22017" y="7734"/>
                  <a:pt x="22002" y="7764"/>
                </a:cubicBezTo>
              </a:path>
              <a:path w="3697" h="1117">
                <a:moveTo>
                  <a:pt x="22275" y="8012"/>
                </a:moveTo>
                <a:cubicBezTo>
                  <a:pt x="22295" y="8047"/>
                  <a:pt x="22354" y="8159"/>
                  <a:pt x="22299" y="8186"/>
                </a:cubicBezTo>
                <a:cubicBezTo>
                  <a:pt x="22299" y="8178"/>
                  <a:pt x="22299" y="8169"/>
                  <a:pt x="22299" y="8161"/>
                </a:cubicBezTo>
              </a:path>
              <a:path w="3697" h="1117">
                <a:moveTo>
                  <a:pt x="22423" y="7615"/>
                </a:moveTo>
                <a:cubicBezTo>
                  <a:pt x="22501" y="7619"/>
                  <a:pt x="22736" y="7599"/>
                  <a:pt x="22597" y="7739"/>
                </a:cubicBezTo>
                <a:cubicBezTo>
                  <a:pt x="22572" y="7756"/>
                  <a:pt x="22548" y="7772"/>
                  <a:pt x="22523" y="7789"/>
                </a:cubicBezTo>
                <a:cubicBezTo>
                  <a:pt x="22523" y="7797"/>
                  <a:pt x="22523" y="7805"/>
                  <a:pt x="22523" y="7813"/>
                </a:cubicBezTo>
                <a:cubicBezTo>
                  <a:pt x="22579" y="7795"/>
                  <a:pt x="22750" y="7819"/>
                  <a:pt x="22696" y="7938"/>
                </a:cubicBezTo>
                <a:cubicBezTo>
                  <a:pt x="22643" y="8053"/>
                  <a:pt x="22459" y="8071"/>
                  <a:pt x="22523" y="7913"/>
                </a:cubicBezTo>
              </a:path>
              <a:path w="3697" h="1117">
                <a:moveTo>
                  <a:pt x="22870" y="7565"/>
                </a:moveTo>
                <a:cubicBezTo>
                  <a:pt x="22850" y="7665"/>
                  <a:pt x="22823" y="7727"/>
                  <a:pt x="22820" y="7838"/>
                </a:cubicBezTo>
                <a:cubicBezTo>
                  <a:pt x="22820" y="7896"/>
                  <a:pt x="22820" y="7905"/>
                  <a:pt x="22820" y="7938"/>
                </a:cubicBezTo>
                <a:cubicBezTo>
                  <a:pt x="22967" y="7977"/>
                  <a:pt x="23026" y="7957"/>
                  <a:pt x="23143" y="7863"/>
                </a:cubicBezTo>
                <a:cubicBezTo>
                  <a:pt x="23058" y="7840"/>
                  <a:pt x="22944" y="7825"/>
                  <a:pt x="22944" y="7962"/>
                </a:cubicBezTo>
                <a:cubicBezTo>
                  <a:pt x="22952" y="7962"/>
                  <a:pt x="22961" y="7962"/>
                  <a:pt x="22969" y="7962"/>
                </a:cubicBezTo>
              </a:path>
              <a:path w="3697" h="1117">
                <a:moveTo>
                  <a:pt x="23341" y="7541"/>
                </a:moveTo>
                <a:cubicBezTo>
                  <a:pt x="23290" y="7564"/>
                  <a:pt x="23079" y="7744"/>
                  <a:pt x="23168" y="7838"/>
                </a:cubicBezTo>
                <a:cubicBezTo>
                  <a:pt x="23279" y="7955"/>
                  <a:pt x="23408" y="7771"/>
                  <a:pt x="23465" y="7714"/>
                </a:cubicBezTo>
                <a:cubicBezTo>
                  <a:pt x="23319" y="7602"/>
                  <a:pt x="23301" y="7660"/>
                  <a:pt x="23118" y="7714"/>
                </a:cubicBezTo>
              </a:path>
              <a:path w="3697" h="1117">
                <a:moveTo>
                  <a:pt x="22299" y="8037"/>
                </a:moveTo>
                <a:cubicBezTo>
                  <a:pt x="22299" y="8029"/>
                  <a:pt x="22299" y="8020"/>
                  <a:pt x="22299" y="8012"/>
                </a:cubicBezTo>
                <a:cubicBezTo>
                  <a:pt x="22293" y="8032"/>
                  <a:pt x="22204" y="8224"/>
                  <a:pt x="22349" y="8136"/>
                </a:cubicBezTo>
                <a:cubicBezTo>
                  <a:pt x="22424" y="8091"/>
                  <a:pt x="22399" y="7981"/>
                  <a:pt x="22299" y="8012"/>
                </a:cubicBezTo>
                <a:cubicBezTo>
                  <a:pt x="22291" y="8020"/>
                  <a:pt x="22283" y="8029"/>
                  <a:pt x="22275" y="8037"/>
                </a:cubicBezTo>
                <a:cubicBezTo>
                  <a:pt x="22314" y="8153"/>
                  <a:pt x="22383" y="8027"/>
                  <a:pt x="22349" y="8012"/>
                </a:cubicBezTo>
                <a:cubicBezTo>
                  <a:pt x="22260" y="7972"/>
                  <a:pt x="22223" y="8131"/>
                  <a:pt x="22275" y="8111"/>
                </a:cubicBezTo>
                <a:cubicBezTo>
                  <a:pt x="22322" y="8093"/>
                  <a:pt x="22337" y="7994"/>
                  <a:pt x="22275" y="8037"/>
                </a:cubicBezTo>
                <a:cubicBezTo>
                  <a:pt x="22258" y="8053"/>
                  <a:pt x="22242" y="8070"/>
                  <a:pt x="22225" y="8086"/>
                </a:cubicBezTo>
              </a:path>
              <a:path w="3697" h="1117">
                <a:moveTo>
                  <a:pt x="23267" y="7590"/>
                </a:moveTo>
                <a:cubicBezTo>
                  <a:pt x="23359" y="7590"/>
                  <a:pt x="23397" y="7577"/>
                  <a:pt x="23465" y="7640"/>
                </a:cubicBezTo>
                <a:cubicBezTo>
                  <a:pt x="23520" y="7692"/>
                  <a:pt x="23515" y="7680"/>
                  <a:pt x="23515" y="7739"/>
                </a:cubicBezTo>
              </a:path>
              <a:path w="3697" h="1117">
                <a:moveTo>
                  <a:pt x="19819" y="8483"/>
                </a:moveTo>
                <a:cubicBezTo>
                  <a:pt x="19822" y="8502"/>
                  <a:pt x="19881" y="8657"/>
                  <a:pt x="19819" y="8657"/>
                </a:cubicBezTo>
                <a:cubicBezTo>
                  <a:pt x="19819" y="8649"/>
                  <a:pt x="19819" y="8640"/>
                  <a:pt x="19819" y="8632"/>
                </a:cubicBezTo>
              </a:path>
              <a:path w="3697" h="1117">
                <a:moveTo>
                  <a:pt x="19968" y="8037"/>
                </a:moveTo>
                <a:cubicBezTo>
                  <a:pt x="19968" y="8123"/>
                  <a:pt x="19929" y="8197"/>
                  <a:pt x="19943" y="8285"/>
                </a:cubicBezTo>
                <a:cubicBezTo>
                  <a:pt x="19951" y="8301"/>
                  <a:pt x="19960" y="8318"/>
                  <a:pt x="19968" y="8334"/>
                </a:cubicBezTo>
                <a:cubicBezTo>
                  <a:pt x="20116" y="8311"/>
                  <a:pt x="20194" y="8278"/>
                  <a:pt x="20117" y="8111"/>
                </a:cubicBezTo>
                <a:cubicBezTo>
                  <a:pt x="20077" y="8052"/>
                  <a:pt x="20073" y="8040"/>
                  <a:pt x="20042" y="8012"/>
                </a:cubicBezTo>
              </a:path>
              <a:path w="3697" h="1117">
                <a:moveTo>
                  <a:pt x="20340" y="8285"/>
                </a:moveTo>
                <a:cubicBezTo>
                  <a:pt x="20381" y="8339"/>
                  <a:pt x="20353" y="8360"/>
                  <a:pt x="20389" y="8260"/>
                </a:cubicBezTo>
              </a:path>
              <a:path w="3697" h="1117">
                <a:moveTo>
                  <a:pt x="20464" y="7962"/>
                </a:moveTo>
                <a:cubicBezTo>
                  <a:pt x="20539" y="7952"/>
                  <a:pt x="20613" y="7920"/>
                  <a:pt x="20687" y="7913"/>
                </a:cubicBezTo>
                <a:cubicBezTo>
                  <a:pt x="20695" y="7913"/>
                  <a:pt x="20704" y="7913"/>
                  <a:pt x="20712" y="7913"/>
                </a:cubicBezTo>
                <a:cubicBezTo>
                  <a:pt x="20712" y="8023"/>
                  <a:pt x="20694" y="8126"/>
                  <a:pt x="20687" y="8235"/>
                </a:cubicBezTo>
                <a:cubicBezTo>
                  <a:pt x="20687" y="8263"/>
                  <a:pt x="20689" y="8269"/>
                  <a:pt x="20712" y="8235"/>
                </a:cubicBezTo>
              </a:path>
              <a:path w="3697" h="1117">
                <a:moveTo>
                  <a:pt x="20960" y="7938"/>
                </a:moveTo>
                <a:cubicBezTo>
                  <a:pt x="20928" y="7963"/>
                  <a:pt x="20798" y="8126"/>
                  <a:pt x="20886" y="8186"/>
                </a:cubicBezTo>
                <a:cubicBezTo>
                  <a:pt x="20974" y="8207"/>
                  <a:pt x="21000" y="8223"/>
                  <a:pt x="21034" y="8161"/>
                </a:cubicBezTo>
                <a:cubicBezTo>
                  <a:pt x="21047" y="8003"/>
                  <a:pt x="21008" y="7975"/>
                  <a:pt x="20861" y="7913"/>
                </a:cubicBezTo>
              </a:path>
              <a:path w="3697" h="1117">
                <a:moveTo>
                  <a:pt x="21134" y="7863"/>
                </a:moveTo>
                <a:cubicBezTo>
                  <a:pt x="21088" y="7976"/>
                  <a:pt x="21072" y="8006"/>
                  <a:pt x="21084" y="8086"/>
                </a:cubicBezTo>
                <a:cubicBezTo>
                  <a:pt x="21189" y="8127"/>
                  <a:pt x="21402" y="8136"/>
                  <a:pt x="21382" y="7938"/>
                </a:cubicBezTo>
                <a:cubicBezTo>
                  <a:pt x="21370" y="7820"/>
                  <a:pt x="21199" y="7802"/>
                  <a:pt x="21134" y="7813"/>
                </a:cubicBezTo>
                <a:cubicBezTo>
                  <a:pt x="21126" y="7813"/>
                  <a:pt x="21117" y="7813"/>
                  <a:pt x="21109" y="7813"/>
                </a:cubicBezTo>
              </a:path>
              <a:path w="3697" h="1117">
                <a:moveTo>
                  <a:pt x="21654" y="8161"/>
                </a:moveTo>
                <a:cubicBezTo>
                  <a:pt x="21669" y="8236"/>
                  <a:pt x="21761" y="8387"/>
                  <a:pt x="21679" y="8458"/>
                </a:cubicBezTo>
                <a:cubicBezTo>
                  <a:pt x="21646" y="8458"/>
                  <a:pt x="21613" y="8458"/>
                  <a:pt x="21580" y="84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16720" y="4286160"/>
            <a:ext cx="2036520" cy="608040"/>
          </a:xfrm>
          <a:custGeom>
            <a:avLst/>
            <a:gdLst/>
            <a:ahLst/>
            <a:rect l="l" t="t" r="r" b="b"/>
            <a:pathLst>
              <a:path w="5657" h="1688">
                <a:moveTo>
                  <a:pt x="15602" y="11906"/>
                </a:moveTo>
                <a:cubicBezTo>
                  <a:pt x="15602" y="11914"/>
                  <a:pt x="15602" y="11923"/>
                  <a:pt x="15602" y="11931"/>
                </a:cubicBezTo>
              </a:path>
              <a:path w="5657" h="1688">
                <a:moveTo>
                  <a:pt x="21258" y="13444"/>
                </a:moveTo>
                <a:cubicBezTo>
                  <a:pt x="21258" y="13545"/>
                  <a:pt x="21278" y="13576"/>
                  <a:pt x="21208" y="135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32240" y="1724040"/>
            <a:ext cx="241560" cy="150840"/>
          </a:xfrm>
          <a:custGeom>
            <a:avLst/>
            <a:gdLst/>
            <a:ahLst/>
            <a:rect l="l" t="t" r="r" b="b"/>
            <a:pathLst>
              <a:path w="670" h="423">
                <a:moveTo>
                  <a:pt x="14610" y="4887"/>
                </a:moveTo>
                <a:cubicBezTo>
                  <a:pt x="14577" y="4821"/>
                  <a:pt x="14539" y="5013"/>
                  <a:pt x="14536" y="5060"/>
                </a:cubicBezTo>
                <a:cubicBezTo>
                  <a:pt x="14528" y="5169"/>
                  <a:pt x="14606" y="5215"/>
                  <a:pt x="14709" y="5159"/>
                </a:cubicBezTo>
                <a:cubicBezTo>
                  <a:pt x="14809" y="5105"/>
                  <a:pt x="14793" y="5024"/>
                  <a:pt x="14734" y="4961"/>
                </a:cubicBezTo>
                <a:cubicBezTo>
                  <a:pt x="14663" y="4886"/>
                  <a:pt x="14663" y="4916"/>
                  <a:pt x="14585" y="4961"/>
                </a:cubicBezTo>
              </a:path>
              <a:path w="670" h="423">
                <a:moveTo>
                  <a:pt x="15056" y="4787"/>
                </a:moveTo>
                <a:cubicBezTo>
                  <a:pt x="15040" y="4870"/>
                  <a:pt x="14992" y="4948"/>
                  <a:pt x="14982" y="5035"/>
                </a:cubicBezTo>
                <a:cubicBezTo>
                  <a:pt x="14974" y="5103"/>
                  <a:pt x="14984" y="5244"/>
                  <a:pt x="15106" y="5209"/>
                </a:cubicBezTo>
                <a:cubicBezTo>
                  <a:pt x="15218" y="5177"/>
                  <a:pt x="15213" y="5014"/>
                  <a:pt x="15180" y="4936"/>
                </a:cubicBezTo>
                <a:cubicBezTo>
                  <a:pt x="15152" y="4870"/>
                  <a:pt x="15086" y="4868"/>
                  <a:pt x="15056" y="491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8880" y="2054160"/>
            <a:ext cx="79200" cy="12564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15230" y="5755"/>
                </a:moveTo>
                <a:cubicBezTo>
                  <a:pt x="15175" y="5714"/>
                  <a:pt x="15161" y="5748"/>
                  <a:pt x="15131" y="5829"/>
                </a:cubicBezTo>
                <a:cubicBezTo>
                  <a:pt x="15097" y="5921"/>
                  <a:pt x="15086" y="6037"/>
                  <a:pt x="15180" y="6052"/>
                </a:cubicBezTo>
                <a:cubicBezTo>
                  <a:pt x="15305" y="6030"/>
                  <a:pt x="15349" y="5974"/>
                  <a:pt x="15329" y="5829"/>
                </a:cubicBezTo>
                <a:cubicBezTo>
                  <a:pt x="15323" y="5784"/>
                  <a:pt x="15220" y="5652"/>
                  <a:pt x="15156" y="5705"/>
                </a:cubicBezTo>
                <a:cubicBezTo>
                  <a:pt x="15148" y="5722"/>
                  <a:pt x="15139" y="5738"/>
                  <a:pt x="15131" y="57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0040" y="2509920"/>
            <a:ext cx="446040" cy="169920"/>
          </a:xfrm>
          <a:custGeom>
            <a:avLst/>
            <a:gdLst/>
            <a:ahLst/>
            <a:rect l="l" t="t" r="r" b="b"/>
            <a:pathLst>
              <a:path w="1241" h="472">
                <a:moveTo>
                  <a:pt x="14436" y="7069"/>
                </a:moveTo>
                <a:cubicBezTo>
                  <a:pt x="14460" y="7061"/>
                  <a:pt x="14673" y="6998"/>
                  <a:pt x="14585" y="7119"/>
                </a:cubicBezTo>
                <a:cubicBezTo>
                  <a:pt x="14560" y="7136"/>
                  <a:pt x="14536" y="7152"/>
                  <a:pt x="14511" y="7169"/>
                </a:cubicBezTo>
                <a:cubicBezTo>
                  <a:pt x="14503" y="7177"/>
                  <a:pt x="14494" y="7185"/>
                  <a:pt x="14486" y="7193"/>
                </a:cubicBezTo>
                <a:cubicBezTo>
                  <a:pt x="14570" y="7193"/>
                  <a:pt x="14683" y="7197"/>
                  <a:pt x="14610" y="7317"/>
                </a:cubicBezTo>
                <a:cubicBezTo>
                  <a:pt x="14561" y="7398"/>
                  <a:pt x="14430" y="7433"/>
                  <a:pt x="14387" y="7367"/>
                </a:cubicBezTo>
              </a:path>
              <a:path w="1241" h="472">
                <a:moveTo>
                  <a:pt x="14759" y="6970"/>
                </a:moveTo>
                <a:cubicBezTo>
                  <a:pt x="14801" y="7040"/>
                  <a:pt x="14764" y="7108"/>
                  <a:pt x="14759" y="7193"/>
                </a:cubicBezTo>
                <a:cubicBezTo>
                  <a:pt x="14756" y="7242"/>
                  <a:pt x="14822" y="7366"/>
                  <a:pt x="14858" y="7392"/>
                </a:cubicBezTo>
                <a:cubicBezTo>
                  <a:pt x="14911" y="7431"/>
                  <a:pt x="15065" y="7412"/>
                  <a:pt x="15106" y="7367"/>
                </a:cubicBezTo>
                <a:cubicBezTo>
                  <a:pt x="15132" y="7338"/>
                  <a:pt x="15152" y="7266"/>
                  <a:pt x="15106" y="7243"/>
                </a:cubicBezTo>
                <a:cubicBezTo>
                  <a:pt x="15046" y="7213"/>
                  <a:pt x="15011" y="7261"/>
                  <a:pt x="14982" y="7293"/>
                </a:cubicBezTo>
                <a:cubicBezTo>
                  <a:pt x="14927" y="7353"/>
                  <a:pt x="14950" y="7356"/>
                  <a:pt x="14957" y="7417"/>
                </a:cubicBezTo>
                <a:cubicBezTo>
                  <a:pt x="14957" y="7441"/>
                  <a:pt x="14957" y="7449"/>
                  <a:pt x="14957" y="7417"/>
                </a:cubicBezTo>
              </a:path>
              <a:path w="1241" h="472">
                <a:moveTo>
                  <a:pt x="15429" y="7069"/>
                </a:moveTo>
                <a:cubicBezTo>
                  <a:pt x="15429" y="7000"/>
                  <a:pt x="15380" y="7236"/>
                  <a:pt x="15379" y="7243"/>
                </a:cubicBezTo>
                <a:cubicBezTo>
                  <a:pt x="15368" y="7321"/>
                  <a:pt x="15383" y="7321"/>
                  <a:pt x="15429" y="7367"/>
                </a:cubicBezTo>
                <a:cubicBezTo>
                  <a:pt x="15539" y="7328"/>
                  <a:pt x="15643" y="7289"/>
                  <a:pt x="15627" y="7144"/>
                </a:cubicBezTo>
                <a:cubicBezTo>
                  <a:pt x="15616" y="7046"/>
                  <a:pt x="15533" y="7055"/>
                  <a:pt x="15453" y="70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3160" y="3483000"/>
            <a:ext cx="723960" cy="169920"/>
          </a:xfrm>
          <a:custGeom>
            <a:avLst/>
            <a:gdLst/>
            <a:ahLst/>
            <a:rect l="l" t="t" r="r" b="b"/>
            <a:pathLst>
              <a:path w="2010" h="472">
                <a:moveTo>
                  <a:pt x="15230" y="10145"/>
                </a:moveTo>
                <a:cubicBezTo>
                  <a:pt x="15534" y="10070"/>
                  <a:pt x="15843" y="9997"/>
                  <a:pt x="16148" y="9922"/>
                </a:cubicBezTo>
                <a:cubicBezTo>
                  <a:pt x="16497" y="9837"/>
                  <a:pt x="16860" y="9710"/>
                  <a:pt x="17214" y="9674"/>
                </a:cubicBezTo>
                <a:cubicBezTo>
                  <a:pt x="17222" y="9674"/>
                  <a:pt x="17231" y="9674"/>
                  <a:pt x="17239" y="967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2800" y="4143240"/>
            <a:ext cx="117360" cy="22392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15081" y="11534"/>
                </a:moveTo>
                <a:cubicBezTo>
                  <a:pt x="15170" y="11475"/>
                  <a:pt x="15061" y="11679"/>
                  <a:pt x="15032" y="11782"/>
                </a:cubicBezTo>
                <a:cubicBezTo>
                  <a:pt x="14989" y="11955"/>
                  <a:pt x="14972" y="11994"/>
                  <a:pt x="14982" y="12105"/>
                </a:cubicBezTo>
                <a:cubicBezTo>
                  <a:pt x="15168" y="12104"/>
                  <a:pt x="15322" y="12018"/>
                  <a:pt x="15304" y="11782"/>
                </a:cubicBezTo>
                <a:cubicBezTo>
                  <a:pt x="15293" y="11641"/>
                  <a:pt x="15166" y="11538"/>
                  <a:pt x="15106" y="116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3760" y="2152800"/>
            <a:ext cx="2009520" cy="1054080"/>
          </a:xfrm>
          <a:custGeom>
            <a:avLst/>
            <a:gdLst/>
            <a:ahLst/>
            <a:rect l="l" t="t" r="r" b="b"/>
            <a:pathLst>
              <a:path w="5582" h="2928">
                <a:moveTo>
                  <a:pt x="13816" y="5978"/>
                </a:moveTo>
                <a:cubicBezTo>
                  <a:pt x="13816" y="5995"/>
                  <a:pt x="13816" y="6011"/>
                  <a:pt x="13816" y="6028"/>
                </a:cubicBezTo>
              </a:path>
              <a:path w="5582" h="2928">
                <a:moveTo>
                  <a:pt x="14163" y="7392"/>
                </a:moveTo>
                <a:cubicBezTo>
                  <a:pt x="14171" y="7408"/>
                  <a:pt x="14180" y="7425"/>
                  <a:pt x="14188" y="7441"/>
                </a:cubicBezTo>
              </a:path>
              <a:path w="5582" h="2928">
                <a:moveTo>
                  <a:pt x="17165" y="8111"/>
                </a:moveTo>
                <a:cubicBezTo>
                  <a:pt x="17238" y="8095"/>
                  <a:pt x="17315" y="8074"/>
                  <a:pt x="17388" y="8062"/>
                </a:cubicBezTo>
              </a:path>
              <a:path w="5582" h="2928">
                <a:moveTo>
                  <a:pt x="17859" y="8533"/>
                </a:moveTo>
                <a:cubicBezTo>
                  <a:pt x="17896" y="8740"/>
                  <a:pt x="17895" y="8806"/>
                  <a:pt x="17711" y="8905"/>
                </a:cubicBezTo>
              </a:path>
              <a:path w="5582" h="2928">
                <a:moveTo>
                  <a:pt x="18976" y="8086"/>
                </a:moveTo>
                <a:cubicBezTo>
                  <a:pt x="19048" y="8072"/>
                  <a:pt x="19106" y="8046"/>
                  <a:pt x="19174" y="8012"/>
                </a:cubicBezTo>
              </a:path>
              <a:path w="5582" h="2928">
                <a:moveTo>
                  <a:pt x="19397" y="8037"/>
                </a:moveTo>
                <a:lnTo>
                  <a:pt x="19397" y="8037"/>
                </a:lnTo>
                <a:lnTo>
                  <a:pt x="19397" y="8037"/>
                </a:lnTo>
              </a:path>
              <a:path w="5582" h="2928">
                <a:moveTo>
                  <a:pt x="16669" y="7169"/>
                </a:moveTo>
                <a:cubicBezTo>
                  <a:pt x="16669" y="7210"/>
                  <a:pt x="16661" y="7226"/>
                  <a:pt x="16694" y="721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589040"/>
            <a:ext cx="2259000" cy="1482840"/>
          </a:xfrm>
          <a:custGeom>
            <a:avLst/>
            <a:gdLst/>
            <a:ahLst/>
            <a:rect l="l" t="t" r="r" b="b"/>
            <a:pathLst>
              <a:path w="6277" h="4119">
                <a:moveTo>
                  <a:pt x="13370" y="4837"/>
                </a:moveTo>
                <a:cubicBezTo>
                  <a:pt x="13257" y="4894"/>
                  <a:pt x="13206" y="5088"/>
                  <a:pt x="13171" y="5209"/>
                </a:cubicBezTo>
                <a:cubicBezTo>
                  <a:pt x="13163" y="5250"/>
                  <a:pt x="13154" y="5292"/>
                  <a:pt x="13146" y="5333"/>
                </a:cubicBezTo>
                <a:cubicBezTo>
                  <a:pt x="13325" y="5393"/>
                  <a:pt x="13485" y="5362"/>
                  <a:pt x="13543" y="5135"/>
                </a:cubicBezTo>
                <a:cubicBezTo>
                  <a:pt x="13574" y="5014"/>
                  <a:pt x="13513" y="4837"/>
                  <a:pt x="13370" y="4837"/>
                </a:cubicBezTo>
                <a:cubicBezTo>
                  <a:pt x="13345" y="4845"/>
                  <a:pt x="13320" y="4854"/>
                  <a:pt x="13295" y="4862"/>
                </a:cubicBezTo>
              </a:path>
              <a:path w="6277" h="4119">
                <a:moveTo>
                  <a:pt x="13717" y="5234"/>
                </a:moveTo>
                <a:cubicBezTo>
                  <a:pt x="13675" y="5234"/>
                  <a:pt x="13692" y="5269"/>
                  <a:pt x="13692" y="5308"/>
                </a:cubicBezTo>
              </a:path>
              <a:path w="6277" h="4119">
                <a:moveTo>
                  <a:pt x="13841" y="4887"/>
                </a:moveTo>
                <a:cubicBezTo>
                  <a:pt x="13890" y="4871"/>
                  <a:pt x="13961" y="4830"/>
                  <a:pt x="14039" y="4812"/>
                </a:cubicBezTo>
                <a:cubicBezTo>
                  <a:pt x="14128" y="4792"/>
                  <a:pt x="14222" y="4773"/>
                  <a:pt x="14312" y="4762"/>
                </a:cubicBezTo>
                <a:cubicBezTo>
                  <a:pt x="14304" y="4914"/>
                  <a:pt x="14274" y="5040"/>
                  <a:pt x="14238" y="5184"/>
                </a:cubicBezTo>
              </a:path>
              <a:path w="6277" h="4119">
                <a:moveTo>
                  <a:pt x="13395" y="5730"/>
                </a:moveTo>
                <a:cubicBezTo>
                  <a:pt x="13234" y="5783"/>
                  <a:pt x="13215" y="5920"/>
                  <a:pt x="13196" y="6077"/>
                </a:cubicBezTo>
                <a:cubicBezTo>
                  <a:pt x="13196" y="6183"/>
                  <a:pt x="13183" y="6212"/>
                  <a:pt x="13246" y="6251"/>
                </a:cubicBezTo>
                <a:cubicBezTo>
                  <a:pt x="13455" y="6164"/>
                  <a:pt x="13553" y="6074"/>
                  <a:pt x="13543" y="5829"/>
                </a:cubicBezTo>
                <a:cubicBezTo>
                  <a:pt x="13539" y="5738"/>
                  <a:pt x="13327" y="5575"/>
                  <a:pt x="13370" y="5655"/>
                </a:cubicBezTo>
                <a:cubicBezTo>
                  <a:pt x="13386" y="5672"/>
                  <a:pt x="13403" y="5688"/>
                  <a:pt x="13419" y="5705"/>
                </a:cubicBezTo>
              </a:path>
              <a:path w="6277" h="4119">
                <a:moveTo>
                  <a:pt x="13370" y="4415"/>
                </a:moveTo>
                <a:cubicBezTo>
                  <a:pt x="13366" y="4428"/>
                  <a:pt x="13347" y="4446"/>
                  <a:pt x="13345" y="4490"/>
                </a:cubicBezTo>
                <a:cubicBezTo>
                  <a:pt x="13339" y="4630"/>
                  <a:pt x="13357" y="4811"/>
                  <a:pt x="13370" y="4911"/>
                </a:cubicBezTo>
                <a:cubicBezTo>
                  <a:pt x="13377" y="4966"/>
                  <a:pt x="13390" y="5042"/>
                  <a:pt x="13395" y="5085"/>
                </a:cubicBezTo>
                <a:cubicBezTo>
                  <a:pt x="13401" y="5139"/>
                  <a:pt x="13404" y="5183"/>
                  <a:pt x="13419" y="5234"/>
                </a:cubicBezTo>
                <a:cubicBezTo>
                  <a:pt x="13432" y="5277"/>
                  <a:pt x="13439" y="5313"/>
                  <a:pt x="13444" y="5358"/>
                </a:cubicBezTo>
                <a:cubicBezTo>
                  <a:pt x="13450" y="5416"/>
                  <a:pt x="13474" y="5475"/>
                  <a:pt x="13469" y="5531"/>
                </a:cubicBezTo>
                <a:cubicBezTo>
                  <a:pt x="13465" y="5580"/>
                  <a:pt x="13446" y="5625"/>
                  <a:pt x="13444" y="5680"/>
                </a:cubicBezTo>
                <a:cubicBezTo>
                  <a:pt x="13437" y="5905"/>
                  <a:pt x="13447" y="6134"/>
                  <a:pt x="13469" y="6350"/>
                </a:cubicBezTo>
                <a:cubicBezTo>
                  <a:pt x="13494" y="6591"/>
                  <a:pt x="13468" y="6889"/>
                  <a:pt x="13494" y="7094"/>
                </a:cubicBezTo>
                <a:cubicBezTo>
                  <a:pt x="13501" y="7151"/>
                  <a:pt x="13511" y="7217"/>
                  <a:pt x="13519" y="7243"/>
                </a:cubicBezTo>
                <a:cubicBezTo>
                  <a:pt x="13533" y="7287"/>
                  <a:pt x="13530" y="7323"/>
                  <a:pt x="13543" y="7367"/>
                </a:cubicBezTo>
                <a:cubicBezTo>
                  <a:pt x="13554" y="7406"/>
                  <a:pt x="13554" y="7452"/>
                  <a:pt x="13568" y="7491"/>
                </a:cubicBezTo>
                <a:cubicBezTo>
                  <a:pt x="13592" y="7557"/>
                  <a:pt x="13572" y="7550"/>
                  <a:pt x="13568" y="7615"/>
                </a:cubicBezTo>
                <a:cubicBezTo>
                  <a:pt x="13564" y="7683"/>
                  <a:pt x="13579" y="7727"/>
                  <a:pt x="13593" y="7789"/>
                </a:cubicBezTo>
                <a:cubicBezTo>
                  <a:pt x="13593" y="7797"/>
                  <a:pt x="13593" y="7805"/>
                  <a:pt x="13593" y="7813"/>
                </a:cubicBezTo>
              </a:path>
              <a:path w="6277" h="4119">
                <a:moveTo>
                  <a:pt x="13246" y="7342"/>
                </a:moveTo>
                <a:cubicBezTo>
                  <a:pt x="13238" y="7342"/>
                  <a:pt x="13229" y="7342"/>
                  <a:pt x="13221" y="7342"/>
                </a:cubicBezTo>
                <a:cubicBezTo>
                  <a:pt x="13251" y="7327"/>
                  <a:pt x="13258" y="7328"/>
                  <a:pt x="13320" y="7317"/>
                </a:cubicBezTo>
                <a:cubicBezTo>
                  <a:pt x="13446" y="7295"/>
                  <a:pt x="13564" y="7293"/>
                  <a:pt x="13692" y="7293"/>
                </a:cubicBezTo>
                <a:cubicBezTo>
                  <a:pt x="13809" y="7293"/>
                  <a:pt x="13900" y="7282"/>
                  <a:pt x="14015" y="7293"/>
                </a:cubicBezTo>
                <a:cubicBezTo>
                  <a:pt x="14347" y="7324"/>
                  <a:pt x="14704" y="7300"/>
                  <a:pt x="15032" y="7268"/>
                </a:cubicBezTo>
                <a:cubicBezTo>
                  <a:pt x="15137" y="7258"/>
                  <a:pt x="15249" y="7258"/>
                  <a:pt x="15354" y="7243"/>
                </a:cubicBezTo>
                <a:cubicBezTo>
                  <a:pt x="15484" y="7224"/>
                  <a:pt x="15623" y="7217"/>
                  <a:pt x="15751" y="7193"/>
                </a:cubicBezTo>
                <a:cubicBezTo>
                  <a:pt x="15810" y="7182"/>
                  <a:pt x="15843" y="7174"/>
                  <a:pt x="15900" y="7169"/>
                </a:cubicBezTo>
              </a:path>
              <a:path w="6277" h="4119">
                <a:moveTo>
                  <a:pt x="14163" y="4638"/>
                </a:moveTo>
                <a:cubicBezTo>
                  <a:pt x="14163" y="4614"/>
                  <a:pt x="14163" y="4606"/>
                  <a:pt x="14139" y="4614"/>
                </a:cubicBezTo>
                <a:cubicBezTo>
                  <a:pt x="14144" y="4681"/>
                  <a:pt x="14142" y="4750"/>
                  <a:pt x="14163" y="4812"/>
                </a:cubicBezTo>
                <a:cubicBezTo>
                  <a:pt x="14184" y="4875"/>
                  <a:pt x="14210" y="4922"/>
                  <a:pt x="14213" y="4986"/>
                </a:cubicBezTo>
                <a:cubicBezTo>
                  <a:pt x="14217" y="5054"/>
                  <a:pt x="14252" y="5114"/>
                  <a:pt x="14263" y="5184"/>
                </a:cubicBezTo>
                <a:cubicBezTo>
                  <a:pt x="14272" y="5240"/>
                  <a:pt x="14273" y="5301"/>
                  <a:pt x="14288" y="5358"/>
                </a:cubicBezTo>
                <a:cubicBezTo>
                  <a:pt x="14309" y="5437"/>
                  <a:pt x="14334" y="5497"/>
                  <a:pt x="14337" y="5581"/>
                </a:cubicBezTo>
                <a:cubicBezTo>
                  <a:pt x="14341" y="5674"/>
                  <a:pt x="14345" y="5787"/>
                  <a:pt x="14362" y="5879"/>
                </a:cubicBezTo>
                <a:cubicBezTo>
                  <a:pt x="14381" y="5983"/>
                  <a:pt x="14387" y="6068"/>
                  <a:pt x="14387" y="6176"/>
                </a:cubicBezTo>
                <a:cubicBezTo>
                  <a:pt x="14387" y="6378"/>
                  <a:pt x="14390" y="6576"/>
                  <a:pt x="14412" y="6772"/>
                </a:cubicBezTo>
                <a:cubicBezTo>
                  <a:pt x="14423" y="6868"/>
                  <a:pt x="14412" y="6972"/>
                  <a:pt x="14412" y="7069"/>
                </a:cubicBezTo>
              </a:path>
              <a:path w="6277" h="4119">
                <a:moveTo>
                  <a:pt x="14709" y="5680"/>
                </a:moveTo>
                <a:cubicBezTo>
                  <a:pt x="14709" y="5587"/>
                  <a:pt x="14676" y="5812"/>
                  <a:pt x="14660" y="5904"/>
                </a:cubicBezTo>
                <a:cubicBezTo>
                  <a:pt x="14624" y="6119"/>
                  <a:pt x="14568" y="6334"/>
                  <a:pt x="14536" y="6548"/>
                </a:cubicBezTo>
                <a:cubicBezTo>
                  <a:pt x="14531" y="6578"/>
                  <a:pt x="14536" y="6617"/>
                  <a:pt x="14536" y="6648"/>
                </a:cubicBezTo>
              </a:path>
              <a:path w="6277" h="4119">
                <a:moveTo>
                  <a:pt x="16446" y="8111"/>
                </a:moveTo>
                <a:cubicBezTo>
                  <a:pt x="16441" y="8096"/>
                  <a:pt x="16405" y="8046"/>
                  <a:pt x="16371" y="8062"/>
                </a:cubicBezTo>
                <a:cubicBezTo>
                  <a:pt x="16212" y="8137"/>
                  <a:pt x="16151" y="8282"/>
                  <a:pt x="16098" y="8434"/>
                </a:cubicBezTo>
                <a:cubicBezTo>
                  <a:pt x="16287" y="8484"/>
                  <a:pt x="16391" y="8409"/>
                  <a:pt x="16446" y="8210"/>
                </a:cubicBezTo>
                <a:cubicBezTo>
                  <a:pt x="16484" y="8073"/>
                  <a:pt x="16397" y="8062"/>
                  <a:pt x="16297" y="8062"/>
                </a:cubicBezTo>
              </a:path>
              <a:path w="6277" h="4119">
                <a:moveTo>
                  <a:pt x="16669" y="8359"/>
                </a:moveTo>
                <a:cubicBezTo>
                  <a:pt x="16669" y="8400"/>
                  <a:pt x="16669" y="8475"/>
                  <a:pt x="16669" y="8434"/>
                </a:cubicBezTo>
              </a:path>
              <a:path w="6277" h="4119">
                <a:moveTo>
                  <a:pt x="16743" y="8086"/>
                </a:moveTo>
                <a:cubicBezTo>
                  <a:pt x="16845" y="8061"/>
                  <a:pt x="16910" y="8037"/>
                  <a:pt x="17016" y="8037"/>
                </a:cubicBezTo>
                <a:cubicBezTo>
                  <a:pt x="17047" y="8144"/>
                  <a:pt x="16972" y="8243"/>
                  <a:pt x="16942" y="8359"/>
                </a:cubicBezTo>
                <a:cubicBezTo>
                  <a:pt x="16942" y="8384"/>
                  <a:pt x="16942" y="8392"/>
                  <a:pt x="16966" y="8384"/>
                </a:cubicBezTo>
              </a:path>
              <a:path w="6277" h="4119">
                <a:moveTo>
                  <a:pt x="17165" y="8086"/>
                </a:moveTo>
                <a:cubicBezTo>
                  <a:pt x="17124" y="8229"/>
                  <a:pt x="17309" y="8174"/>
                  <a:pt x="17363" y="8285"/>
                </a:cubicBezTo>
                <a:cubicBezTo>
                  <a:pt x="17450" y="8465"/>
                  <a:pt x="17225" y="8447"/>
                  <a:pt x="17165" y="8409"/>
                </a:cubicBezTo>
              </a:path>
              <a:path w="6277" h="4119">
                <a:moveTo>
                  <a:pt x="17562" y="8037"/>
                </a:moveTo>
                <a:cubicBezTo>
                  <a:pt x="17562" y="8189"/>
                  <a:pt x="17570" y="8334"/>
                  <a:pt x="17587" y="8483"/>
                </a:cubicBezTo>
                <a:cubicBezTo>
                  <a:pt x="17587" y="8500"/>
                  <a:pt x="17587" y="8516"/>
                  <a:pt x="17587" y="8533"/>
                </a:cubicBezTo>
              </a:path>
              <a:path w="6277" h="4119">
                <a:moveTo>
                  <a:pt x="12898" y="6672"/>
                </a:moveTo>
                <a:cubicBezTo>
                  <a:pt x="13169" y="6624"/>
                  <a:pt x="13441" y="6561"/>
                  <a:pt x="13717" y="6548"/>
                </a:cubicBezTo>
                <a:cubicBezTo>
                  <a:pt x="14059" y="6531"/>
                  <a:pt x="14373" y="6517"/>
                  <a:pt x="14709" y="6449"/>
                </a:cubicBezTo>
                <a:cubicBezTo>
                  <a:pt x="14980" y="6394"/>
                  <a:pt x="15252" y="6324"/>
                  <a:pt x="15528" y="6300"/>
                </a:cubicBezTo>
                <a:cubicBezTo>
                  <a:pt x="15650" y="6289"/>
                  <a:pt x="15778" y="6300"/>
                  <a:pt x="15900" y="6300"/>
                </a:cubicBezTo>
              </a:path>
              <a:path w="6277" h="4119">
                <a:moveTo>
                  <a:pt x="18256" y="8161"/>
                </a:moveTo>
                <a:cubicBezTo>
                  <a:pt x="18234" y="8154"/>
                  <a:pt x="18219" y="8117"/>
                  <a:pt x="18182" y="8136"/>
                </a:cubicBezTo>
                <a:cubicBezTo>
                  <a:pt x="18094" y="8183"/>
                  <a:pt x="18015" y="8304"/>
                  <a:pt x="18058" y="8409"/>
                </a:cubicBezTo>
                <a:cubicBezTo>
                  <a:pt x="18127" y="8576"/>
                  <a:pt x="18298" y="8458"/>
                  <a:pt x="18331" y="8334"/>
                </a:cubicBezTo>
                <a:cubicBezTo>
                  <a:pt x="18359" y="8229"/>
                  <a:pt x="18301" y="8155"/>
                  <a:pt x="18207" y="8136"/>
                </a:cubicBezTo>
              </a:path>
              <a:path w="6277" h="4119">
                <a:moveTo>
                  <a:pt x="18529" y="8359"/>
                </a:moveTo>
                <a:cubicBezTo>
                  <a:pt x="18570" y="8413"/>
                  <a:pt x="18541" y="8436"/>
                  <a:pt x="18579" y="8334"/>
                </a:cubicBezTo>
              </a:path>
              <a:path w="6277" h="4119">
                <a:moveTo>
                  <a:pt x="18628" y="8037"/>
                </a:moveTo>
                <a:cubicBezTo>
                  <a:pt x="18772" y="8037"/>
                  <a:pt x="18781" y="8000"/>
                  <a:pt x="18827" y="8136"/>
                </a:cubicBezTo>
                <a:cubicBezTo>
                  <a:pt x="18854" y="8217"/>
                  <a:pt x="18800" y="8325"/>
                  <a:pt x="18852" y="8359"/>
                </a:cubicBezTo>
              </a:path>
              <a:path w="6277" h="4119">
                <a:moveTo>
                  <a:pt x="19000" y="8086"/>
                </a:moveTo>
                <a:cubicBezTo>
                  <a:pt x="18940" y="8107"/>
                  <a:pt x="19086" y="8184"/>
                  <a:pt x="19124" y="8210"/>
                </a:cubicBezTo>
                <a:cubicBezTo>
                  <a:pt x="19205" y="8265"/>
                  <a:pt x="19168" y="8412"/>
                  <a:pt x="19050" y="8384"/>
                </a:cubicBezTo>
                <a:cubicBezTo>
                  <a:pt x="19033" y="8367"/>
                  <a:pt x="19017" y="8351"/>
                  <a:pt x="19000" y="8334"/>
                </a:cubicBezTo>
              </a:path>
              <a:path w="6277" h="4119">
                <a:moveTo>
                  <a:pt x="16421" y="7020"/>
                </a:moveTo>
                <a:cubicBezTo>
                  <a:pt x="16382" y="6903"/>
                  <a:pt x="16277" y="7182"/>
                  <a:pt x="16272" y="7193"/>
                </a:cubicBezTo>
                <a:cubicBezTo>
                  <a:pt x="16264" y="7218"/>
                  <a:pt x="16255" y="7243"/>
                  <a:pt x="16247" y="7268"/>
                </a:cubicBezTo>
                <a:cubicBezTo>
                  <a:pt x="16368" y="7316"/>
                  <a:pt x="16494" y="7331"/>
                  <a:pt x="16545" y="7169"/>
                </a:cubicBezTo>
                <a:cubicBezTo>
                  <a:pt x="16588" y="7030"/>
                  <a:pt x="16441" y="7005"/>
                  <a:pt x="16346" y="69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200" y="3670200"/>
            <a:ext cx="447840" cy="536760"/>
          </a:xfrm>
          <a:custGeom>
            <a:avLst/>
            <a:gdLst/>
            <a:ahLst/>
            <a:rect l="l" t="t" r="r" b="b"/>
            <a:pathLst>
              <a:path w="1241" h="1489">
                <a:moveTo>
                  <a:pt x="620" y="10765"/>
                </a:moveTo>
                <a:cubicBezTo>
                  <a:pt x="595" y="10765"/>
                  <a:pt x="587" y="10765"/>
                  <a:pt x="595" y="10740"/>
                </a:cubicBezTo>
                <a:cubicBezTo>
                  <a:pt x="595" y="10878"/>
                  <a:pt x="593" y="11004"/>
                  <a:pt x="620" y="11137"/>
                </a:cubicBezTo>
                <a:cubicBezTo>
                  <a:pt x="749" y="11096"/>
                  <a:pt x="785" y="11095"/>
                  <a:pt x="868" y="10988"/>
                </a:cubicBezTo>
              </a:path>
              <a:path w="1241" h="1489">
                <a:moveTo>
                  <a:pt x="670" y="10988"/>
                </a:moveTo>
                <a:cubicBezTo>
                  <a:pt x="715" y="10915"/>
                  <a:pt x="755" y="10842"/>
                  <a:pt x="794" y="10765"/>
                </a:cubicBezTo>
              </a:path>
              <a:path w="1241" h="1489">
                <a:moveTo>
                  <a:pt x="521" y="10840"/>
                </a:moveTo>
                <a:cubicBezTo>
                  <a:pt x="571" y="10774"/>
                  <a:pt x="631" y="10673"/>
                  <a:pt x="695" y="10641"/>
                </a:cubicBezTo>
              </a:path>
              <a:path w="1241" h="1489">
                <a:moveTo>
                  <a:pt x="819" y="10666"/>
                </a:moveTo>
                <a:cubicBezTo>
                  <a:pt x="936" y="10675"/>
                  <a:pt x="1020" y="10726"/>
                  <a:pt x="1091" y="10666"/>
                </a:cubicBezTo>
              </a:path>
              <a:path w="1241" h="1489">
                <a:moveTo>
                  <a:pt x="1017" y="10492"/>
                </a:moveTo>
                <a:cubicBezTo>
                  <a:pt x="1017" y="10548"/>
                  <a:pt x="1002" y="10931"/>
                  <a:pt x="1042" y="10815"/>
                </a:cubicBezTo>
              </a:path>
              <a:path w="1241" h="1489">
                <a:moveTo>
                  <a:pt x="1141" y="10319"/>
                </a:moveTo>
                <a:cubicBezTo>
                  <a:pt x="1163" y="10275"/>
                  <a:pt x="1200" y="10235"/>
                  <a:pt x="1240" y="10195"/>
                </a:cubicBezTo>
                <a:cubicBezTo>
                  <a:pt x="1272" y="10343"/>
                  <a:pt x="1257" y="10446"/>
                  <a:pt x="1215" y="10592"/>
                </a:cubicBezTo>
                <a:cubicBezTo>
                  <a:pt x="1315" y="10578"/>
                  <a:pt x="1399" y="10500"/>
                  <a:pt x="1488" y="10443"/>
                </a:cubicBezTo>
              </a:path>
              <a:path w="1241" h="1489">
                <a:moveTo>
                  <a:pt x="744" y="11683"/>
                </a:moveTo>
                <a:cubicBezTo>
                  <a:pt x="979" y="11433"/>
                  <a:pt x="1246" y="11150"/>
                  <a:pt x="1488" y="10889"/>
                </a:cubicBezTo>
                <a:cubicBezTo>
                  <a:pt x="1559" y="10813"/>
                  <a:pt x="1689" y="10656"/>
                  <a:pt x="1761" y="1056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68280" y="3697200"/>
            <a:ext cx="455760" cy="214560"/>
          </a:xfrm>
          <a:custGeom>
            <a:avLst/>
            <a:gdLst/>
            <a:ahLst/>
            <a:rect l="l" t="t" r="r" b="b"/>
            <a:pathLst>
              <a:path w="1266" h="596">
                <a:moveTo>
                  <a:pt x="3621" y="10368"/>
                </a:moveTo>
                <a:cubicBezTo>
                  <a:pt x="3511" y="10458"/>
                  <a:pt x="3525" y="10621"/>
                  <a:pt x="3522" y="10765"/>
                </a:cubicBezTo>
                <a:cubicBezTo>
                  <a:pt x="3522" y="10798"/>
                  <a:pt x="3522" y="10831"/>
                  <a:pt x="3522" y="10864"/>
                </a:cubicBezTo>
                <a:cubicBezTo>
                  <a:pt x="3701" y="10833"/>
                  <a:pt x="3881" y="10760"/>
                  <a:pt x="3894" y="10542"/>
                </a:cubicBezTo>
                <a:cubicBezTo>
                  <a:pt x="3908" y="10311"/>
                  <a:pt x="3733" y="10284"/>
                  <a:pt x="3572" y="10368"/>
                </a:cubicBezTo>
                <a:cubicBezTo>
                  <a:pt x="3549" y="10391"/>
                  <a:pt x="3538" y="10399"/>
                  <a:pt x="3572" y="10393"/>
                </a:cubicBezTo>
              </a:path>
              <a:path w="1266" h="596">
                <a:moveTo>
                  <a:pt x="4118" y="10616"/>
                </a:moveTo>
                <a:cubicBezTo>
                  <a:pt x="4086" y="10712"/>
                  <a:pt x="4139" y="10652"/>
                  <a:pt x="4118" y="10641"/>
                </a:cubicBezTo>
              </a:path>
              <a:path w="1266" h="596">
                <a:moveTo>
                  <a:pt x="4366" y="10319"/>
                </a:moveTo>
                <a:cubicBezTo>
                  <a:pt x="4311" y="10402"/>
                  <a:pt x="4492" y="10270"/>
                  <a:pt x="4514" y="10269"/>
                </a:cubicBezTo>
                <a:cubicBezTo>
                  <a:pt x="4785" y="10255"/>
                  <a:pt x="4704" y="10582"/>
                  <a:pt x="4564" y="10691"/>
                </a:cubicBezTo>
                <a:cubicBezTo>
                  <a:pt x="4424" y="10751"/>
                  <a:pt x="4401" y="10763"/>
                  <a:pt x="4316" y="10790"/>
                </a:cubicBezTo>
                <a:cubicBezTo>
                  <a:pt x="4330" y="10612"/>
                  <a:pt x="4363" y="10522"/>
                  <a:pt x="4564" y="10567"/>
                </a:cubicBezTo>
                <a:cubicBezTo>
                  <a:pt x="4683" y="10594"/>
                  <a:pt x="4692" y="10691"/>
                  <a:pt x="4787" y="106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3080" y="1911240"/>
            <a:ext cx="2500200" cy="866880"/>
          </a:xfrm>
          <a:custGeom>
            <a:avLst/>
            <a:gdLst/>
            <a:ahLst/>
            <a:rect l="l" t="t" r="r" b="b"/>
            <a:pathLst>
              <a:path w="6947" h="2407">
                <a:moveTo>
                  <a:pt x="15701" y="6499"/>
                </a:moveTo>
                <a:cubicBezTo>
                  <a:pt x="15752" y="6651"/>
                  <a:pt x="15801" y="6792"/>
                  <a:pt x="15825" y="6970"/>
                </a:cubicBezTo>
                <a:cubicBezTo>
                  <a:pt x="15850" y="7161"/>
                  <a:pt x="15851" y="7352"/>
                  <a:pt x="15875" y="7541"/>
                </a:cubicBezTo>
                <a:cubicBezTo>
                  <a:pt x="15881" y="7584"/>
                  <a:pt x="15893" y="7642"/>
                  <a:pt x="15900" y="7689"/>
                </a:cubicBezTo>
                <a:cubicBezTo>
                  <a:pt x="15986" y="7686"/>
                  <a:pt x="16141" y="7678"/>
                  <a:pt x="16247" y="7665"/>
                </a:cubicBezTo>
                <a:cubicBezTo>
                  <a:pt x="16545" y="7628"/>
                  <a:pt x="16843" y="7625"/>
                  <a:pt x="17140" y="7590"/>
                </a:cubicBezTo>
                <a:cubicBezTo>
                  <a:pt x="17330" y="7568"/>
                  <a:pt x="17523" y="7568"/>
                  <a:pt x="17711" y="7541"/>
                </a:cubicBezTo>
                <a:cubicBezTo>
                  <a:pt x="18184" y="7474"/>
                  <a:pt x="18652" y="7374"/>
                  <a:pt x="19124" y="7317"/>
                </a:cubicBezTo>
                <a:cubicBezTo>
                  <a:pt x="19273" y="7299"/>
                  <a:pt x="19422" y="7288"/>
                  <a:pt x="19571" y="7268"/>
                </a:cubicBezTo>
                <a:cubicBezTo>
                  <a:pt x="19837" y="7232"/>
                  <a:pt x="20099" y="7195"/>
                  <a:pt x="20365" y="7169"/>
                </a:cubicBezTo>
                <a:cubicBezTo>
                  <a:pt x="20649" y="7141"/>
                  <a:pt x="20926" y="7062"/>
                  <a:pt x="21208" y="7045"/>
                </a:cubicBezTo>
                <a:cubicBezTo>
                  <a:pt x="21358" y="7036"/>
                  <a:pt x="21504" y="7027"/>
                  <a:pt x="21654" y="7020"/>
                </a:cubicBezTo>
                <a:cubicBezTo>
                  <a:pt x="21851" y="7011"/>
                  <a:pt x="22029" y="6996"/>
                  <a:pt x="22225" y="6970"/>
                </a:cubicBezTo>
                <a:cubicBezTo>
                  <a:pt x="22331" y="6956"/>
                  <a:pt x="22442" y="6962"/>
                  <a:pt x="22547" y="6945"/>
                </a:cubicBezTo>
                <a:cubicBezTo>
                  <a:pt x="22580" y="6940"/>
                  <a:pt x="22589" y="6925"/>
                  <a:pt x="22622" y="6921"/>
                </a:cubicBezTo>
                <a:cubicBezTo>
                  <a:pt x="22630" y="6921"/>
                  <a:pt x="22639" y="6921"/>
                  <a:pt x="22647" y="6921"/>
                </a:cubicBezTo>
                <a:cubicBezTo>
                  <a:pt x="22640" y="6672"/>
                  <a:pt x="22620" y="6419"/>
                  <a:pt x="22572" y="6176"/>
                </a:cubicBezTo>
                <a:cubicBezTo>
                  <a:pt x="22530" y="5964"/>
                  <a:pt x="22474" y="5737"/>
                  <a:pt x="22423" y="5531"/>
                </a:cubicBezTo>
                <a:cubicBezTo>
                  <a:pt x="22404" y="5452"/>
                  <a:pt x="22387" y="5387"/>
                  <a:pt x="22374" y="5308"/>
                </a:cubicBezTo>
                <a:cubicBezTo>
                  <a:pt x="22251" y="5320"/>
                  <a:pt x="22125" y="5321"/>
                  <a:pt x="22002" y="5333"/>
                </a:cubicBezTo>
                <a:cubicBezTo>
                  <a:pt x="21796" y="5353"/>
                  <a:pt x="21589" y="5365"/>
                  <a:pt x="21382" y="5383"/>
                </a:cubicBezTo>
                <a:cubicBezTo>
                  <a:pt x="21209" y="5398"/>
                  <a:pt x="21034" y="5414"/>
                  <a:pt x="20861" y="5432"/>
                </a:cubicBezTo>
                <a:cubicBezTo>
                  <a:pt x="20690" y="5450"/>
                  <a:pt x="20507" y="5472"/>
                  <a:pt x="20340" y="5507"/>
                </a:cubicBezTo>
                <a:cubicBezTo>
                  <a:pt x="20010" y="5576"/>
                  <a:pt x="19664" y="5718"/>
                  <a:pt x="19348" y="5829"/>
                </a:cubicBezTo>
                <a:cubicBezTo>
                  <a:pt x="19168" y="5892"/>
                  <a:pt x="19002" y="5987"/>
                  <a:pt x="18827" y="6052"/>
                </a:cubicBezTo>
                <a:cubicBezTo>
                  <a:pt x="18664" y="6113"/>
                  <a:pt x="18497" y="6171"/>
                  <a:pt x="18331" y="6226"/>
                </a:cubicBezTo>
                <a:cubicBezTo>
                  <a:pt x="18223" y="6262"/>
                  <a:pt x="18116" y="6273"/>
                  <a:pt x="18008" y="6300"/>
                </a:cubicBezTo>
                <a:cubicBezTo>
                  <a:pt x="17899" y="6327"/>
                  <a:pt x="17794" y="6350"/>
                  <a:pt x="17686" y="6375"/>
                </a:cubicBezTo>
                <a:cubicBezTo>
                  <a:pt x="17514" y="6414"/>
                  <a:pt x="17335" y="6451"/>
                  <a:pt x="17165" y="6499"/>
                </a:cubicBezTo>
                <a:cubicBezTo>
                  <a:pt x="17010" y="6543"/>
                  <a:pt x="16876" y="6569"/>
                  <a:pt x="16718" y="6598"/>
                </a:cubicBezTo>
                <a:cubicBezTo>
                  <a:pt x="16560" y="6628"/>
                  <a:pt x="16405" y="6650"/>
                  <a:pt x="16247" y="6672"/>
                </a:cubicBezTo>
                <a:cubicBezTo>
                  <a:pt x="16131" y="6688"/>
                  <a:pt x="16014" y="6706"/>
                  <a:pt x="15900" y="6722"/>
                </a:cubicBezTo>
                <a:cubicBezTo>
                  <a:pt x="15821" y="6733"/>
                  <a:pt x="15799" y="6727"/>
                  <a:pt x="15726" y="6747"/>
                </a:cubicBezTo>
                <a:cubicBezTo>
                  <a:pt x="15718" y="6755"/>
                  <a:pt x="15709" y="6764"/>
                  <a:pt x="15701" y="677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2960" y="4357800"/>
            <a:ext cx="3259080" cy="946080"/>
          </a:xfrm>
          <a:custGeom>
            <a:avLst/>
            <a:gdLst/>
            <a:ahLst/>
            <a:rect l="l" t="t" r="r" b="b"/>
            <a:pathLst>
              <a:path w="9054" h="2630">
                <a:moveTo>
                  <a:pt x="15007" y="12675"/>
                </a:moveTo>
                <a:cubicBezTo>
                  <a:pt x="15020" y="12728"/>
                  <a:pt x="15153" y="13327"/>
                  <a:pt x="15156" y="13444"/>
                </a:cubicBezTo>
                <a:cubicBezTo>
                  <a:pt x="15167" y="13840"/>
                  <a:pt x="15065" y="14188"/>
                  <a:pt x="14957" y="14560"/>
                </a:cubicBezTo>
                <a:cubicBezTo>
                  <a:pt x="14937" y="14601"/>
                  <a:pt x="14928" y="14607"/>
                  <a:pt x="14932" y="14635"/>
                </a:cubicBezTo>
                <a:cubicBezTo>
                  <a:pt x="14996" y="14643"/>
                  <a:pt x="15107" y="14651"/>
                  <a:pt x="15180" y="14660"/>
                </a:cubicBezTo>
                <a:cubicBezTo>
                  <a:pt x="15616" y="14715"/>
                  <a:pt x="16027" y="14734"/>
                  <a:pt x="16470" y="14734"/>
                </a:cubicBezTo>
                <a:cubicBezTo>
                  <a:pt x="17446" y="14734"/>
                  <a:pt x="18420" y="14684"/>
                  <a:pt x="19397" y="14684"/>
                </a:cubicBezTo>
                <a:cubicBezTo>
                  <a:pt x="20382" y="14684"/>
                  <a:pt x="21307" y="14536"/>
                  <a:pt x="22275" y="14387"/>
                </a:cubicBezTo>
                <a:cubicBezTo>
                  <a:pt x="22683" y="14324"/>
                  <a:pt x="23126" y="14263"/>
                  <a:pt x="23540" y="14288"/>
                </a:cubicBezTo>
                <a:cubicBezTo>
                  <a:pt x="23581" y="14296"/>
                  <a:pt x="23623" y="14304"/>
                  <a:pt x="23664" y="14312"/>
                </a:cubicBezTo>
                <a:cubicBezTo>
                  <a:pt x="23694" y="14166"/>
                  <a:pt x="23738" y="14013"/>
                  <a:pt x="23763" y="13866"/>
                </a:cubicBezTo>
                <a:cubicBezTo>
                  <a:pt x="23827" y="13486"/>
                  <a:pt x="23820" y="13107"/>
                  <a:pt x="23812" y="12725"/>
                </a:cubicBezTo>
                <a:cubicBezTo>
                  <a:pt x="23808" y="12540"/>
                  <a:pt x="23825" y="12362"/>
                  <a:pt x="23837" y="12179"/>
                </a:cubicBezTo>
                <a:cubicBezTo>
                  <a:pt x="23473" y="12171"/>
                  <a:pt x="23109" y="12158"/>
                  <a:pt x="22746" y="12129"/>
                </a:cubicBezTo>
                <a:cubicBezTo>
                  <a:pt x="22504" y="12110"/>
                  <a:pt x="22268" y="12100"/>
                  <a:pt x="22027" y="12129"/>
                </a:cubicBezTo>
                <a:cubicBezTo>
                  <a:pt x="21827" y="12153"/>
                  <a:pt x="21630" y="12177"/>
                  <a:pt x="21431" y="12204"/>
                </a:cubicBezTo>
                <a:cubicBezTo>
                  <a:pt x="21248" y="12228"/>
                  <a:pt x="21069" y="12269"/>
                  <a:pt x="20886" y="12278"/>
                </a:cubicBezTo>
                <a:cubicBezTo>
                  <a:pt x="20538" y="12295"/>
                  <a:pt x="20191" y="12296"/>
                  <a:pt x="19844" y="12328"/>
                </a:cubicBezTo>
                <a:cubicBezTo>
                  <a:pt x="19530" y="12357"/>
                  <a:pt x="19215" y="12359"/>
                  <a:pt x="18901" y="12378"/>
                </a:cubicBezTo>
                <a:cubicBezTo>
                  <a:pt x="18495" y="12403"/>
                  <a:pt x="18094" y="12452"/>
                  <a:pt x="17686" y="12452"/>
                </a:cubicBezTo>
                <a:cubicBezTo>
                  <a:pt x="17152" y="12452"/>
                  <a:pt x="16628" y="12452"/>
                  <a:pt x="16098" y="12402"/>
                </a:cubicBezTo>
                <a:cubicBezTo>
                  <a:pt x="15916" y="12385"/>
                  <a:pt x="15734" y="12373"/>
                  <a:pt x="15553" y="12353"/>
                </a:cubicBezTo>
                <a:cubicBezTo>
                  <a:pt x="15422" y="12338"/>
                  <a:pt x="15290" y="12321"/>
                  <a:pt x="15156" y="12328"/>
                </a:cubicBezTo>
                <a:cubicBezTo>
                  <a:pt x="15065" y="12333"/>
                  <a:pt x="14972" y="12338"/>
                  <a:pt x="14883" y="12353"/>
                </a:cubicBezTo>
                <a:cubicBezTo>
                  <a:pt x="14838" y="12360"/>
                  <a:pt x="14824" y="12372"/>
                  <a:pt x="14784" y="12378"/>
                </a:cubicBezTo>
                <a:cubicBezTo>
                  <a:pt x="14862" y="12510"/>
                  <a:pt x="14927" y="12633"/>
                  <a:pt x="14982" y="12774"/>
                </a:cubicBezTo>
                <a:cubicBezTo>
                  <a:pt x="14982" y="12782"/>
                  <a:pt x="14982" y="12791"/>
                  <a:pt x="14982" y="127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ing Decimals &amp; Fractions-WS #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10000" y="2813040"/>
            <a:ext cx="3392280" cy="1312920"/>
          </a:xfrm>
          <a:custGeom>
            <a:avLst/>
            <a:gdLst/>
            <a:ahLst/>
            <a:rect l="l" t="t" r="r" b="b"/>
            <a:pathLst>
              <a:path w="9427" h="3648">
                <a:moveTo>
                  <a:pt x="11112" y="10393"/>
                </a:moveTo>
                <a:cubicBezTo>
                  <a:pt x="11042" y="10597"/>
                  <a:pt x="11021" y="10700"/>
                  <a:pt x="11038" y="10914"/>
                </a:cubicBezTo>
                <a:cubicBezTo>
                  <a:pt x="11238" y="10869"/>
                  <a:pt x="11585" y="10685"/>
                  <a:pt x="11336" y="10418"/>
                </a:cubicBezTo>
                <a:cubicBezTo>
                  <a:pt x="11278" y="10393"/>
                  <a:pt x="11220" y="10369"/>
                  <a:pt x="11162" y="10344"/>
                </a:cubicBezTo>
              </a:path>
              <a:path w="9427" h="3648">
                <a:moveTo>
                  <a:pt x="9748" y="11460"/>
                </a:moveTo>
                <a:cubicBezTo>
                  <a:pt x="9798" y="11452"/>
                  <a:pt x="9847" y="11443"/>
                  <a:pt x="9897" y="11435"/>
                </a:cubicBezTo>
              </a:path>
              <a:path w="9427" h="3648">
                <a:moveTo>
                  <a:pt x="19174" y="7813"/>
                </a:moveTo>
                <a:cubicBezTo>
                  <a:pt x="19174" y="7821"/>
                  <a:pt x="19174" y="7830"/>
                  <a:pt x="19174" y="7838"/>
                </a:cubicBezTo>
              </a:path>
              <a:path w="9427" h="3648">
                <a:moveTo>
                  <a:pt x="19174" y="7838"/>
                </a:moveTo>
                <a:lnTo>
                  <a:pt x="19174" y="7838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8960" y="4027320"/>
            <a:ext cx="135000" cy="295560"/>
          </a:xfrm>
          <a:custGeom>
            <a:avLst/>
            <a:gdLst/>
            <a:ahLst/>
            <a:rect l="l" t="t" r="r" b="b"/>
            <a:pathLst>
              <a:path w="373" h="819">
                <a:moveTo>
                  <a:pt x="5159" y="11311"/>
                </a:moveTo>
                <a:cubicBezTo>
                  <a:pt x="5203" y="11289"/>
                  <a:pt x="5068" y="11168"/>
                  <a:pt x="5011" y="11187"/>
                </a:cubicBezTo>
                <a:cubicBezTo>
                  <a:pt x="4848" y="11241"/>
                  <a:pt x="4906" y="11468"/>
                  <a:pt x="4911" y="11584"/>
                </a:cubicBezTo>
                <a:cubicBezTo>
                  <a:pt x="5094" y="11596"/>
                  <a:pt x="5136" y="11497"/>
                  <a:pt x="5184" y="11286"/>
                </a:cubicBezTo>
                <a:cubicBezTo>
                  <a:pt x="5208" y="11475"/>
                  <a:pt x="5245" y="11666"/>
                  <a:pt x="5259" y="11857"/>
                </a:cubicBezTo>
                <a:cubicBezTo>
                  <a:pt x="5259" y="11948"/>
                  <a:pt x="5259" y="11956"/>
                  <a:pt x="5259" y="1200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71760" y="3473280"/>
            <a:ext cx="401400" cy="474840"/>
          </a:xfrm>
          <a:custGeom>
            <a:avLst/>
            <a:gdLst/>
            <a:ahLst/>
            <a:rect l="l" t="t" r="r" b="b"/>
            <a:pathLst>
              <a:path w="1117" h="1316">
                <a:moveTo>
                  <a:pt x="5085" y="9649"/>
                </a:moveTo>
                <a:cubicBezTo>
                  <a:pt x="4979" y="9664"/>
                  <a:pt x="4839" y="9715"/>
                  <a:pt x="4787" y="9823"/>
                </a:cubicBezTo>
                <a:cubicBezTo>
                  <a:pt x="4730" y="9941"/>
                  <a:pt x="5048" y="10122"/>
                  <a:pt x="5060" y="10269"/>
                </a:cubicBezTo>
                <a:cubicBezTo>
                  <a:pt x="5073" y="10434"/>
                  <a:pt x="4916" y="10428"/>
                  <a:pt x="4812" y="10443"/>
                </a:cubicBezTo>
                <a:cubicBezTo>
                  <a:pt x="4849" y="10233"/>
                  <a:pt x="4990" y="10134"/>
                  <a:pt x="5085" y="9947"/>
                </a:cubicBezTo>
                <a:cubicBezTo>
                  <a:pt x="5127" y="9865"/>
                  <a:pt x="5115" y="9813"/>
                  <a:pt x="5060" y="9773"/>
                </a:cubicBezTo>
              </a:path>
              <a:path w="1117" h="1316">
                <a:moveTo>
                  <a:pt x="4366" y="10964"/>
                </a:moveTo>
                <a:cubicBezTo>
                  <a:pt x="4659" y="10870"/>
                  <a:pt x="4959" y="10784"/>
                  <a:pt x="5259" y="10716"/>
                </a:cubicBezTo>
                <a:cubicBezTo>
                  <a:pt x="5424" y="10679"/>
                  <a:pt x="5444" y="10664"/>
                  <a:pt x="5482" y="1079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11760" y="3170160"/>
            <a:ext cx="204480" cy="393840"/>
          </a:xfrm>
          <a:custGeom>
            <a:avLst/>
            <a:gdLst/>
            <a:ahLst/>
            <a:rect l="l" t="t" r="r" b="b"/>
            <a:pathLst>
              <a:path w="572" h="1092">
                <a:moveTo>
                  <a:pt x="11162" y="9128"/>
                </a:moveTo>
                <a:cubicBezTo>
                  <a:pt x="11209" y="9128"/>
                  <a:pt x="11049" y="9178"/>
                  <a:pt x="11013" y="9203"/>
                </a:cubicBezTo>
                <a:cubicBezTo>
                  <a:pt x="10984" y="9231"/>
                  <a:pt x="10976" y="9244"/>
                  <a:pt x="10988" y="9277"/>
                </a:cubicBezTo>
                <a:cubicBezTo>
                  <a:pt x="11103" y="9363"/>
                  <a:pt x="11382" y="9451"/>
                  <a:pt x="11435" y="9599"/>
                </a:cubicBezTo>
                <a:cubicBezTo>
                  <a:pt x="11485" y="9739"/>
                  <a:pt x="11261" y="9808"/>
                  <a:pt x="11187" y="9847"/>
                </a:cubicBezTo>
                <a:cubicBezTo>
                  <a:pt x="11155" y="9672"/>
                  <a:pt x="11255" y="9527"/>
                  <a:pt x="11286" y="9351"/>
                </a:cubicBezTo>
                <a:cubicBezTo>
                  <a:pt x="11307" y="9233"/>
                  <a:pt x="11262" y="9206"/>
                  <a:pt x="11187" y="9153"/>
                </a:cubicBezTo>
                <a:cubicBezTo>
                  <a:pt x="11164" y="9130"/>
                  <a:pt x="11156" y="9119"/>
                  <a:pt x="11162" y="9153"/>
                </a:cubicBezTo>
              </a:path>
              <a:path w="572" h="1092">
                <a:moveTo>
                  <a:pt x="11212" y="9227"/>
                </a:moveTo>
                <a:cubicBezTo>
                  <a:pt x="11169" y="9196"/>
                  <a:pt x="11144" y="9183"/>
                  <a:pt x="11088" y="9178"/>
                </a:cubicBezTo>
                <a:cubicBezTo>
                  <a:pt x="11053" y="9178"/>
                  <a:pt x="11035" y="9183"/>
                  <a:pt x="11013" y="9203"/>
                </a:cubicBezTo>
                <a:cubicBezTo>
                  <a:pt x="11013" y="9363"/>
                  <a:pt x="11086" y="9346"/>
                  <a:pt x="11212" y="9426"/>
                </a:cubicBezTo>
                <a:cubicBezTo>
                  <a:pt x="11336" y="9504"/>
                  <a:pt x="11485" y="9629"/>
                  <a:pt x="11435" y="9798"/>
                </a:cubicBezTo>
                <a:cubicBezTo>
                  <a:pt x="11401" y="9913"/>
                  <a:pt x="11318" y="9888"/>
                  <a:pt x="11237" y="9872"/>
                </a:cubicBezTo>
                <a:cubicBezTo>
                  <a:pt x="11218" y="9680"/>
                  <a:pt x="11287" y="9585"/>
                  <a:pt x="11311" y="9401"/>
                </a:cubicBezTo>
                <a:cubicBezTo>
                  <a:pt x="11321" y="9320"/>
                  <a:pt x="11312" y="9266"/>
                  <a:pt x="11261" y="9227"/>
                </a:cubicBezTo>
              </a:path>
              <a:path w="572" h="1092">
                <a:moveTo>
                  <a:pt x="10914" y="8880"/>
                </a:moveTo>
                <a:cubicBezTo>
                  <a:pt x="11045" y="8880"/>
                  <a:pt x="11184" y="8862"/>
                  <a:pt x="11311" y="8830"/>
                </a:cubicBezTo>
                <a:cubicBezTo>
                  <a:pt x="11352" y="8810"/>
                  <a:pt x="11379" y="8802"/>
                  <a:pt x="11336" y="8806"/>
                </a:cubicBezTo>
                <a:cubicBezTo>
                  <a:pt x="11185" y="8874"/>
                  <a:pt x="10708" y="8986"/>
                  <a:pt x="10864" y="8930"/>
                </a:cubicBezTo>
                <a:cubicBezTo>
                  <a:pt x="10967" y="8893"/>
                  <a:pt x="11081" y="8883"/>
                  <a:pt x="11187" y="885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8880" y="3295800"/>
            <a:ext cx="1285920" cy="1339560"/>
          </a:xfrm>
          <a:custGeom>
            <a:avLst/>
            <a:gdLst/>
            <a:ahLst/>
            <a:rect l="l" t="t" r="r" b="b"/>
            <a:pathLst>
              <a:path w="3573" h="3722">
                <a:moveTo>
                  <a:pt x="10517" y="10170"/>
                </a:moveTo>
                <a:cubicBezTo>
                  <a:pt x="10561" y="10170"/>
                  <a:pt x="10211" y="10323"/>
                  <a:pt x="10170" y="10344"/>
                </a:cubicBezTo>
                <a:cubicBezTo>
                  <a:pt x="10153" y="10352"/>
                  <a:pt x="10137" y="10360"/>
                  <a:pt x="10120" y="10368"/>
                </a:cubicBezTo>
                <a:cubicBezTo>
                  <a:pt x="10323" y="10458"/>
                  <a:pt x="10821" y="10620"/>
                  <a:pt x="10443" y="10864"/>
                </a:cubicBezTo>
                <a:cubicBezTo>
                  <a:pt x="10377" y="10881"/>
                  <a:pt x="10310" y="10897"/>
                  <a:pt x="10244" y="10914"/>
                </a:cubicBezTo>
                <a:cubicBezTo>
                  <a:pt x="10195" y="10606"/>
                  <a:pt x="10357" y="10556"/>
                  <a:pt x="10492" y="10269"/>
                </a:cubicBezTo>
                <a:cubicBezTo>
                  <a:pt x="10510" y="10232"/>
                  <a:pt x="10431" y="10280"/>
                  <a:pt x="10418" y="10319"/>
                </a:cubicBezTo>
              </a:path>
              <a:path w="3573" h="3722">
                <a:moveTo>
                  <a:pt x="9624" y="11286"/>
                </a:moveTo>
                <a:cubicBezTo>
                  <a:pt x="9564" y="11014"/>
                  <a:pt x="9545" y="10742"/>
                  <a:pt x="9500" y="10468"/>
                </a:cubicBezTo>
                <a:cubicBezTo>
                  <a:pt x="9488" y="10396"/>
                  <a:pt x="9440" y="10260"/>
                  <a:pt x="9426" y="10220"/>
                </a:cubicBezTo>
                <a:cubicBezTo>
                  <a:pt x="9582" y="10141"/>
                  <a:pt x="9704" y="10126"/>
                  <a:pt x="9897" y="10120"/>
                </a:cubicBezTo>
                <a:cubicBezTo>
                  <a:pt x="10541" y="10100"/>
                  <a:pt x="11188" y="10111"/>
                  <a:pt x="11832" y="10096"/>
                </a:cubicBezTo>
                <a:cubicBezTo>
                  <a:pt x="11894" y="10095"/>
                  <a:pt x="12130" y="10114"/>
                  <a:pt x="12179" y="10120"/>
                </a:cubicBezTo>
              </a:path>
              <a:path w="3573" h="3722">
                <a:moveTo>
                  <a:pt x="8855" y="10567"/>
                </a:moveTo>
                <a:cubicBezTo>
                  <a:pt x="8981" y="10525"/>
                  <a:pt x="8880" y="10388"/>
                  <a:pt x="8830" y="10294"/>
                </a:cubicBezTo>
                <a:cubicBezTo>
                  <a:pt x="8629" y="10419"/>
                  <a:pt x="8622" y="10536"/>
                  <a:pt x="8632" y="10765"/>
                </a:cubicBezTo>
                <a:cubicBezTo>
                  <a:pt x="8794" y="10702"/>
                  <a:pt x="8810" y="10293"/>
                  <a:pt x="8930" y="10418"/>
                </a:cubicBezTo>
                <a:cubicBezTo>
                  <a:pt x="8930" y="10435"/>
                  <a:pt x="8930" y="10451"/>
                  <a:pt x="8930" y="10468"/>
                </a:cubicBezTo>
                <a:cubicBezTo>
                  <a:pt x="8957" y="10757"/>
                  <a:pt x="8954" y="11045"/>
                  <a:pt x="8954" y="11336"/>
                </a:cubicBezTo>
                <a:cubicBezTo>
                  <a:pt x="8954" y="11361"/>
                  <a:pt x="8954" y="11369"/>
                  <a:pt x="8954" y="11385"/>
                </a:cubicBezTo>
              </a:path>
              <a:path w="3573" h="3722">
                <a:moveTo>
                  <a:pt x="10740" y="10790"/>
                </a:moveTo>
                <a:cubicBezTo>
                  <a:pt x="10764" y="10798"/>
                  <a:pt x="10781" y="10854"/>
                  <a:pt x="10765" y="10815"/>
                </a:cubicBezTo>
                <a:cubicBezTo>
                  <a:pt x="10757" y="10798"/>
                  <a:pt x="10748" y="10782"/>
                  <a:pt x="10740" y="10765"/>
                </a:cubicBezTo>
              </a:path>
              <a:path w="3573" h="3722">
                <a:moveTo>
                  <a:pt x="10864" y="9947"/>
                </a:moveTo>
                <a:cubicBezTo>
                  <a:pt x="10849" y="9902"/>
                  <a:pt x="10844" y="9924"/>
                  <a:pt x="10790" y="9947"/>
                </a:cubicBezTo>
                <a:cubicBezTo>
                  <a:pt x="10834" y="9932"/>
                  <a:pt x="10815" y="9916"/>
                  <a:pt x="10815" y="9847"/>
                </a:cubicBezTo>
                <a:cubicBezTo>
                  <a:pt x="10776" y="9878"/>
                  <a:pt x="10745" y="9938"/>
                  <a:pt x="10716" y="9996"/>
                </a:cubicBezTo>
              </a:path>
              <a:path w="3573" h="3722">
                <a:moveTo>
                  <a:pt x="10120" y="9227"/>
                </a:moveTo>
                <a:cubicBezTo>
                  <a:pt x="9943" y="9295"/>
                  <a:pt x="10033" y="9578"/>
                  <a:pt x="10071" y="9773"/>
                </a:cubicBezTo>
                <a:cubicBezTo>
                  <a:pt x="10276" y="9765"/>
                  <a:pt x="10647" y="9602"/>
                  <a:pt x="10418" y="9302"/>
                </a:cubicBezTo>
                <a:cubicBezTo>
                  <a:pt x="10225" y="9049"/>
                  <a:pt x="10158" y="9436"/>
                  <a:pt x="10145" y="9500"/>
                </a:cubicBezTo>
              </a:path>
              <a:path w="3573" h="3722">
                <a:moveTo>
                  <a:pt x="11112" y="9178"/>
                </a:moveTo>
                <a:cubicBezTo>
                  <a:pt x="11112" y="9143"/>
                  <a:pt x="11183" y="9690"/>
                  <a:pt x="11187" y="9723"/>
                </a:cubicBezTo>
                <a:cubicBezTo>
                  <a:pt x="11198" y="9814"/>
                  <a:pt x="11212" y="9989"/>
                  <a:pt x="11212" y="9897"/>
                </a:cubicBezTo>
              </a:path>
              <a:path w="3573" h="3722">
                <a:moveTo>
                  <a:pt x="10344" y="11112"/>
                </a:moveTo>
                <a:cubicBezTo>
                  <a:pt x="10443" y="11079"/>
                  <a:pt x="10542" y="11046"/>
                  <a:pt x="10641" y="11013"/>
                </a:cubicBezTo>
                <a:cubicBezTo>
                  <a:pt x="10656" y="11144"/>
                  <a:pt x="10544" y="11506"/>
                  <a:pt x="10616" y="11609"/>
                </a:cubicBezTo>
                <a:cubicBezTo>
                  <a:pt x="10633" y="11592"/>
                  <a:pt x="10649" y="11576"/>
                  <a:pt x="10666" y="11559"/>
                </a:cubicBezTo>
              </a:path>
              <a:path w="3573" h="3722">
                <a:moveTo>
                  <a:pt x="11038" y="11162"/>
                </a:moveTo>
                <a:cubicBezTo>
                  <a:pt x="11170" y="11118"/>
                  <a:pt x="11201" y="11097"/>
                  <a:pt x="11286" y="11137"/>
                </a:cubicBezTo>
                <a:cubicBezTo>
                  <a:pt x="11237" y="11362"/>
                  <a:pt x="11123" y="11512"/>
                  <a:pt x="10988" y="11708"/>
                </a:cubicBezTo>
                <a:cubicBezTo>
                  <a:pt x="11141" y="11681"/>
                  <a:pt x="11447" y="11519"/>
                  <a:pt x="11385" y="11633"/>
                </a:cubicBezTo>
              </a:path>
              <a:path w="3573" h="3722">
                <a:moveTo>
                  <a:pt x="11559" y="12204"/>
                </a:moveTo>
                <a:cubicBezTo>
                  <a:pt x="11441" y="12234"/>
                  <a:pt x="11369" y="12332"/>
                  <a:pt x="11286" y="12427"/>
                </a:cubicBezTo>
                <a:cubicBezTo>
                  <a:pt x="11390" y="12577"/>
                  <a:pt x="11545" y="12657"/>
                  <a:pt x="11633" y="12824"/>
                </a:cubicBezTo>
                <a:cubicBezTo>
                  <a:pt x="11310" y="12889"/>
                  <a:pt x="11381" y="12764"/>
                  <a:pt x="11534" y="12526"/>
                </a:cubicBezTo>
                <a:cubicBezTo>
                  <a:pt x="11620" y="12398"/>
                  <a:pt x="11670" y="12366"/>
                  <a:pt x="11559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14840" y="4286160"/>
            <a:ext cx="473040" cy="44640"/>
          </a:xfrm>
          <a:custGeom>
            <a:avLst/>
            <a:gdLst/>
            <a:ahLst/>
            <a:rect l="l" t="t" r="r" b="b"/>
            <a:pathLst>
              <a:path w="1315" h="125">
                <a:moveTo>
                  <a:pt x="10319" y="12030"/>
                </a:moveTo>
                <a:cubicBezTo>
                  <a:pt x="10628" y="11985"/>
                  <a:pt x="11532" y="11744"/>
                  <a:pt x="11559" y="1203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11960" y="2473200"/>
            <a:ext cx="1758960" cy="822600"/>
          </a:xfrm>
          <a:custGeom>
            <a:avLst/>
            <a:gdLst/>
            <a:ahLst/>
            <a:rect l="l" t="t" r="r" b="b"/>
            <a:pathLst>
              <a:path w="4887" h="2283">
                <a:moveTo>
                  <a:pt x="19273" y="7045"/>
                </a:moveTo>
                <a:cubicBezTo>
                  <a:pt x="19507" y="7045"/>
                  <a:pt x="19739" y="7041"/>
                  <a:pt x="19968" y="7020"/>
                </a:cubicBezTo>
                <a:cubicBezTo>
                  <a:pt x="20109" y="7007"/>
                  <a:pt x="20251" y="7010"/>
                  <a:pt x="20389" y="6995"/>
                </a:cubicBezTo>
                <a:cubicBezTo>
                  <a:pt x="20507" y="6982"/>
                  <a:pt x="20616" y="6970"/>
                  <a:pt x="20737" y="6970"/>
                </a:cubicBezTo>
                <a:cubicBezTo>
                  <a:pt x="20841" y="6970"/>
                  <a:pt x="20929" y="6945"/>
                  <a:pt x="21034" y="6945"/>
                </a:cubicBezTo>
                <a:cubicBezTo>
                  <a:pt x="21145" y="6945"/>
                  <a:pt x="21244" y="6921"/>
                  <a:pt x="21357" y="6921"/>
                </a:cubicBezTo>
                <a:cubicBezTo>
                  <a:pt x="21466" y="6921"/>
                  <a:pt x="21567" y="6896"/>
                  <a:pt x="21679" y="6896"/>
                </a:cubicBezTo>
                <a:cubicBezTo>
                  <a:pt x="21759" y="6896"/>
                  <a:pt x="21838" y="6880"/>
                  <a:pt x="21903" y="6871"/>
                </a:cubicBezTo>
                <a:cubicBezTo>
                  <a:pt x="21950" y="6865"/>
                  <a:pt x="22003" y="6871"/>
                  <a:pt x="22051" y="6871"/>
                </a:cubicBezTo>
              </a:path>
              <a:path w="4887" h="2283">
                <a:moveTo>
                  <a:pt x="18653" y="8111"/>
                </a:moveTo>
                <a:cubicBezTo>
                  <a:pt x="18675" y="8263"/>
                  <a:pt x="18766" y="8386"/>
                  <a:pt x="18802" y="8533"/>
                </a:cubicBezTo>
                <a:cubicBezTo>
                  <a:pt x="18802" y="8558"/>
                  <a:pt x="18802" y="8582"/>
                  <a:pt x="18802" y="8607"/>
                </a:cubicBezTo>
              </a:path>
              <a:path w="4887" h="2283">
                <a:moveTo>
                  <a:pt x="18430" y="7987"/>
                </a:moveTo>
                <a:cubicBezTo>
                  <a:pt x="18715" y="7957"/>
                  <a:pt x="18942" y="7897"/>
                  <a:pt x="19050" y="8186"/>
                </a:cubicBezTo>
                <a:cubicBezTo>
                  <a:pt x="18904" y="8291"/>
                  <a:pt x="18866" y="8281"/>
                  <a:pt x="18678" y="8260"/>
                </a:cubicBezTo>
              </a:path>
              <a:path w="4887" h="2283">
                <a:moveTo>
                  <a:pt x="19248" y="8037"/>
                </a:moveTo>
                <a:cubicBezTo>
                  <a:pt x="19266" y="8100"/>
                  <a:pt x="19293" y="8227"/>
                  <a:pt x="19323" y="8285"/>
                </a:cubicBezTo>
                <a:cubicBezTo>
                  <a:pt x="19323" y="8277"/>
                  <a:pt x="19323" y="8268"/>
                  <a:pt x="19323" y="8260"/>
                </a:cubicBezTo>
              </a:path>
              <a:path w="4887" h="2283">
                <a:moveTo>
                  <a:pt x="19794" y="7938"/>
                </a:moveTo>
                <a:cubicBezTo>
                  <a:pt x="19794" y="7903"/>
                  <a:pt x="19785" y="7890"/>
                  <a:pt x="19745" y="7888"/>
                </a:cubicBezTo>
                <a:cubicBezTo>
                  <a:pt x="19660" y="7944"/>
                  <a:pt x="19566" y="8131"/>
                  <a:pt x="19670" y="8235"/>
                </a:cubicBezTo>
                <a:cubicBezTo>
                  <a:pt x="19769" y="8334"/>
                  <a:pt x="19899" y="8210"/>
                  <a:pt x="19968" y="8161"/>
                </a:cubicBezTo>
              </a:path>
              <a:path w="4887" h="2283">
                <a:moveTo>
                  <a:pt x="19943" y="7590"/>
                </a:moveTo>
                <a:cubicBezTo>
                  <a:pt x="19976" y="7778"/>
                  <a:pt x="20056" y="7965"/>
                  <a:pt x="20141" y="8136"/>
                </a:cubicBezTo>
                <a:cubicBezTo>
                  <a:pt x="20149" y="8144"/>
                  <a:pt x="20158" y="8153"/>
                  <a:pt x="20166" y="8161"/>
                </a:cubicBezTo>
              </a:path>
              <a:path w="4887" h="2283">
                <a:moveTo>
                  <a:pt x="20290" y="7665"/>
                </a:moveTo>
                <a:cubicBezTo>
                  <a:pt x="20225" y="7758"/>
                  <a:pt x="20163" y="7851"/>
                  <a:pt x="20092" y="7938"/>
                </a:cubicBezTo>
                <a:cubicBezTo>
                  <a:pt x="20215" y="7876"/>
                  <a:pt x="20315" y="7950"/>
                  <a:pt x="20389" y="8062"/>
                </a:cubicBezTo>
                <a:cubicBezTo>
                  <a:pt x="20397" y="8087"/>
                  <a:pt x="20406" y="8111"/>
                  <a:pt x="20414" y="8136"/>
                </a:cubicBezTo>
              </a:path>
              <a:path w="4887" h="2283">
                <a:moveTo>
                  <a:pt x="21530" y="7516"/>
                </a:moveTo>
                <a:cubicBezTo>
                  <a:pt x="21466" y="7483"/>
                  <a:pt x="21328" y="7569"/>
                  <a:pt x="21233" y="7590"/>
                </a:cubicBezTo>
                <a:cubicBezTo>
                  <a:pt x="21180" y="7601"/>
                  <a:pt x="21208" y="7738"/>
                  <a:pt x="21208" y="7789"/>
                </a:cubicBezTo>
                <a:cubicBezTo>
                  <a:pt x="21208" y="7797"/>
                  <a:pt x="21208" y="7805"/>
                  <a:pt x="21208" y="7813"/>
                </a:cubicBezTo>
                <a:cubicBezTo>
                  <a:pt x="21312" y="7796"/>
                  <a:pt x="21448" y="7727"/>
                  <a:pt x="21555" y="7764"/>
                </a:cubicBezTo>
                <a:cubicBezTo>
                  <a:pt x="21818" y="7855"/>
                  <a:pt x="21601" y="8060"/>
                  <a:pt x="21456" y="8111"/>
                </a:cubicBezTo>
                <a:cubicBezTo>
                  <a:pt x="21406" y="8119"/>
                  <a:pt x="21357" y="8128"/>
                  <a:pt x="21307" y="8136"/>
                </a:cubicBezTo>
              </a:path>
              <a:path w="4887" h="2283">
                <a:moveTo>
                  <a:pt x="18331" y="9029"/>
                </a:moveTo>
                <a:cubicBezTo>
                  <a:pt x="18638" y="9022"/>
                  <a:pt x="18941" y="8996"/>
                  <a:pt x="19248" y="8979"/>
                </a:cubicBezTo>
                <a:cubicBezTo>
                  <a:pt x="19890" y="8943"/>
                  <a:pt x="20523" y="8974"/>
                  <a:pt x="21158" y="8855"/>
                </a:cubicBezTo>
                <a:cubicBezTo>
                  <a:pt x="21554" y="8781"/>
                  <a:pt x="21951" y="8664"/>
                  <a:pt x="22299" y="8458"/>
                </a:cubicBezTo>
                <a:cubicBezTo>
                  <a:pt x="22473" y="8355"/>
                  <a:pt x="22597" y="8292"/>
                  <a:pt x="22671" y="8111"/>
                </a:cubicBezTo>
                <a:cubicBezTo>
                  <a:pt x="22734" y="7957"/>
                  <a:pt x="22657" y="7896"/>
                  <a:pt x="22547" y="7789"/>
                </a:cubicBezTo>
                <a:cubicBezTo>
                  <a:pt x="22372" y="7618"/>
                  <a:pt x="22140" y="7484"/>
                  <a:pt x="21927" y="7367"/>
                </a:cubicBezTo>
                <a:cubicBezTo>
                  <a:pt x="21660" y="7221"/>
                  <a:pt x="21333" y="7145"/>
                  <a:pt x="21034" y="7094"/>
                </a:cubicBezTo>
                <a:cubicBezTo>
                  <a:pt x="20734" y="7043"/>
                  <a:pt x="20420" y="7069"/>
                  <a:pt x="20117" y="7069"/>
                </a:cubicBezTo>
                <a:cubicBezTo>
                  <a:pt x="19831" y="7069"/>
                  <a:pt x="19529" y="7092"/>
                  <a:pt x="19248" y="7144"/>
                </a:cubicBezTo>
                <a:cubicBezTo>
                  <a:pt x="18834" y="7220"/>
                  <a:pt x="18449" y="7387"/>
                  <a:pt x="18132" y="7665"/>
                </a:cubicBezTo>
                <a:cubicBezTo>
                  <a:pt x="18010" y="7772"/>
                  <a:pt x="17945" y="7895"/>
                  <a:pt x="17884" y="8037"/>
                </a:cubicBezTo>
                <a:cubicBezTo>
                  <a:pt x="17775" y="8293"/>
                  <a:pt x="17776" y="8535"/>
                  <a:pt x="17934" y="8756"/>
                </a:cubicBezTo>
                <a:cubicBezTo>
                  <a:pt x="18088" y="8971"/>
                  <a:pt x="18305" y="9046"/>
                  <a:pt x="18554" y="9103"/>
                </a:cubicBezTo>
                <a:cubicBezTo>
                  <a:pt x="18634" y="9121"/>
                  <a:pt x="18722" y="9136"/>
                  <a:pt x="18802" y="91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1:12Z</dcterms:created>
  <dc:creator>deanne e mcgrath</dc:creator>
  <dc:description/>
  <dc:language>en-US</dc:language>
  <cp:lastModifiedBy>deanne e mcgrath</cp:lastModifiedBy>
  <dcterms:modified xsi:type="dcterms:W3CDTF">2011-10-12T19:14:59Z</dcterms:modified>
  <cp:revision>3</cp:revision>
  <dc:subject/>
  <dc:title>Warm-up:</dc:title>
</cp:coreProperties>
</file>